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0E3F-49FE-475F-99D0-0DECE94D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50C-885B-46A0-9BD2-1B6AB390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C79A-D3B9-4B6A-B376-8BDB85D74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E5EB-405F-4CD1-A1EF-4FD94BD25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81C4-4E66-4169-940E-9A73C20E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F327-330F-4E9F-86C3-CABD4F54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5EE8-4C1F-46E4-8E21-951D3D78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8E70-492F-4906-94B4-9E4174EF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178C-9A70-4BE6-96BB-E7BE561A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0D26-201E-465C-A3DC-19B05BDE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C568-BAB8-40AB-BCDE-C7E2F506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96B6-B7B6-48FE-93D6-FA3A1427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A51C-59C9-4A78-A53A-814B318F4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servationtech.com/x-MILLTOWNS/RL-Photographs-4x5/England-YORKS-4x5s.htm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1/11/1919_Battle_of_George_Square_-_David_Kirkwood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7631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ffects of the industrial revolu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ol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ustrial Revolution CAUSES major pollution in the United King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ere investigating a crime scene, how are some ways you would gather eviden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ctives, using the photos you must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ather the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 will be details that may reveal something about the sc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nterpret the Ev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ideas or inferences based on existing evidence. The who, what, when, where, and how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ake a hypothesis from the Evi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vidence and your own critical thinking to determine the “motive” behind the scene being investig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 information on suspect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 Rev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he suspect made its first appearance:  Great Bri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abundance of this natural resource made it all possible…what is it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010640" cy="4619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590920" y="2286000"/>
            <a:ext cx="40384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Impact"/>
              </a:rPr>
              <a:t>COAL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hibit A – Life before the Industrial Rev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6201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Industria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s of Industrialized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48320" y="30492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is to answer question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ibit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419360" y="274320"/>
            <a:ext cx="4267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hibit C– Living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hibit C—Working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477120" y="3809880"/>
            <a:ext cx="685800" cy="1447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2971800"/>
            <a:ext cx="457200" cy="144792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id 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6629400" y="3962520"/>
            <a:ext cx="171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"/>
          <p:cNvSpPr/>
          <p:nvPr/>
        </p:nvSpPr>
        <p:spPr>
          <a:xfrm>
            <a:off x="5257800" y="2971800"/>
            <a:ext cx="12952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495680" y="121932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981080" y="2819520"/>
            <a:ext cx="2383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19320" y="5638680"/>
            <a:ext cx="533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629400" y="548640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4114800"/>
            <a:ext cx="129564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152280"/>
            <a:ext cx="2286000" cy="177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 the question below in your notebook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How does acid rain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hibit C—Working/Living Cond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Industria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s on the Physical Environm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ibit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Yorkshire-5.jpg (58284 bytes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01840"/>
            <a:ext cx="9144000" cy="5456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hibit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1665" t="1159" r="1665" b="61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steps have been taken by Europe to solve this pollution issu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in Boo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76312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ffects of the industrial revolu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ustrial Revolution CAUSES major pollution in the United King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nization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uropean countries invaded other continents to take natural resources and set up new mar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380880"/>
            <a:ext cx="83818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Kingdom has coal, iron ore, rivers, and peninsula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1676520"/>
            <a:ext cx="5105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ial Rev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819520"/>
            <a:ext cx="8458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es are built, United Kingdom uses up all its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4419720"/>
            <a:ext cx="236196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One – Buy natural resources from other countr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4191120"/>
            <a:ext cx="23623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Two – Decrease factory production and fire thousands of work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4191120"/>
            <a:ext cx="213372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Three – invade other countries and steal their natural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8380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2133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133720" y="3276720"/>
            <a:ext cx="22096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276720"/>
            <a:ext cx="2971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4038480"/>
            <a:ext cx="266688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y – a country or region that is taken over and controlled by another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ntilism - An economic policy based on a state monopoly over trade and an attempt to transfer wealth from colonies to the parent cou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nti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143000"/>
            <a:ext cx="15238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ountry A takes over country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1752480"/>
            <a:ext cx="14475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ountry A steals all of country B’s natural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48320" y="2286000"/>
            <a:ext cx="16002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Country A takes Country B’s natural resources back to Country A and makes products in their factor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733920"/>
            <a:ext cx="137160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Country A takes the finished products back to Country B and forces them to buy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1828800"/>
            <a:ext cx="60984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590920"/>
            <a:ext cx="83844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3733920"/>
            <a:ext cx="9903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76312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effects of the industrial revolu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dustrial Revolution CAUSES major pollution in the United Kingdo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iza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uropean countries invaded other continents to take natural resources and set up new mark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rbanization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eople move off of farms to cities to work in the new facto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NTED!!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ropean Industrializ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1 for Detectiv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ver how Industrialization Impacted 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Image:1919 Battle of George Square - David Kirkwoo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8" descr=""/>
          <p:cNvPicPr/>
          <p:nvPr/>
        </p:nvPicPr>
        <p:blipFill>
          <a:blip r:embed="rId3"/>
          <a:srcRect l="15127" t="6527" r="12947" b="4351"/>
          <a:stretch/>
        </p:blipFill>
        <p:spPr>
          <a:xfrm>
            <a:off x="5638680" y="1447920"/>
            <a:ext cx="601920" cy="685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562720" y="5562720"/>
            <a:ext cx="32004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0:25:16Z</dcterms:created>
  <dc:creator>CFISD</dc:creator>
  <dc:description/>
  <dc:language>en-US</dc:language>
  <cp:lastModifiedBy>CFISD</cp:lastModifiedBy>
  <dcterms:modified xsi:type="dcterms:W3CDTF">2008-11-13T20:16:29Z</dcterms:modified>
  <cp:revision>9</cp:revision>
  <dc:subject/>
  <dc:title>Slide 1</dc:title>
</cp:coreProperties>
</file>