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8439-F981-4BCC-8A70-C1B763E2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5544-AE87-491D-8231-5EE4B181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8605-D8EC-4F26-AC7C-D5607C745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79A2-1F7C-4FBF-8C81-16409BBD6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CCAF-3BFF-485B-B6B0-092573E8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DC6E-CF85-4330-B56B-B03BCEA8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F8F8-DBFB-4743-A9F7-3A82029B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C017-2796-4CB3-B75A-2506A379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3064-7BDC-4393-A144-8FBA3AC3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5199-2F8C-4818-A7B8-11EA12DA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7B6B-9C0C-460C-B6C7-E7E96218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288C-184F-41FE-AF2B-A5F54BE9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3162-565D-4F55-9965-15E170B10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onservationtech.com/x-MILLTOWNS/RL-Photographs-4x5/England-YORKS-4x5s.htm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1/1919_Battle_of_George_Square_-_David_Kirkwood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876312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effects of the industrial revolu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Pollu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dustrial Revolution CAUSES major pollution in the United Kingd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ere investigating a crime scene, how are some ways you would gather eviden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ctives, using the photos you must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Gather the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 will be details that may reveal something about the sc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nterpret the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te ideas or inferences based on existing evidence. The who, what, when, where, and how’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ke a hypothesis from the Evi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vidence and your own critical thinking to determine the “motive” behind the scene being investig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 information on suspect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l Rev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he suspect made its first appearance:  Great Brit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bundance of this natural resource made it all possible…what is it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010640" cy="4619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590920" y="2286000"/>
            <a:ext cx="40384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Impact"/>
              </a:rPr>
              <a:t>COAL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hibit A – Life before the Industrial R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620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an Industrializ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s of Industrialized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648320" y="304920"/>
            <a:ext cx="2438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is to answer questions 1 an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hibit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19360" y="274320"/>
            <a:ext cx="4267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hibit C– Living Cond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hibit C—Working Cond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77120" y="3809880"/>
            <a:ext cx="685800" cy="14479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38880" y="2971800"/>
            <a:ext cx="457200" cy="14479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 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629400" y="3962520"/>
            <a:ext cx="171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2971800"/>
            <a:ext cx="12952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495680" y="1219320"/>
            <a:ext cx="228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981080" y="2819520"/>
            <a:ext cx="238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19320" y="5638680"/>
            <a:ext cx="533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629400" y="5486400"/>
            <a:ext cx="247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3809880" y="4114800"/>
            <a:ext cx="129564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152280"/>
            <a:ext cx="2286000" cy="177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wer the question below in your notebook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How does acid rain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hibit C—Working/Living Cond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an Industrializ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s on the Physical Environmen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hibit 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239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Yorkshire-5.jpg (58284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01840"/>
            <a:ext cx="9144000" cy="5456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hibit 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1665" t="1159" r="1665" b="61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steps have been taken by Europe to solve this pollution iss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in Book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876312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effects of the industrial revolu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lu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dustrial Revolution CAUSES major pollution in the United Kingd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onization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uropean countries invaded other continents to take natural resources and set up new mark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380880"/>
            <a:ext cx="8381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ed Kingdom has coal, iron ore, rivers, and peninsula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1676520"/>
            <a:ext cx="5105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ial Revol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819520"/>
            <a:ext cx="8458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ies are built, United Kingdom uses up all its resou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4419720"/>
            <a:ext cx="236196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ce One – Buy natural resources from other countri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4191120"/>
            <a:ext cx="23623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ce Two – Decrease factory production and fire thousands of work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4191120"/>
            <a:ext cx="21337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ce Three – invade other countries and steal their natural resou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8380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2133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133720" y="3276720"/>
            <a:ext cx="22096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276720"/>
            <a:ext cx="2971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77120" y="4038480"/>
            <a:ext cx="266688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ny – a country or region that is taken over and controlled by another count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antilism - An economic policy based on a state monopoly over trade and an attempt to transfer wealth from colonies to the parent cou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anti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143000"/>
            <a:ext cx="15238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Country A takes over country 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1752480"/>
            <a:ext cx="14475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Country A steals all of country B’s natural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2286000"/>
            <a:ext cx="16002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Country A takes Country B’s natural resources back to Country A and makes products in their facto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733920"/>
            <a:ext cx="137160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Country A takes the finished products back to Country B and forces them to buy th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1828800"/>
            <a:ext cx="60984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2590920"/>
            <a:ext cx="83844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48520" y="3733920"/>
            <a:ext cx="9903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876312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effects of the industrial revolu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lu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dustrial Revolution CAUSES major pollution in the United Kingd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niza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uropean countries invaded other continents to take natural resources and set up new mark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rbanization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eople move off of farms to cities to work in the new facto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TED!!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an Industrializ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1 for Detectiv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over how Industrialization Impacted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Image:1919 Battle of George Square - David Kirkwoo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"/>
          <p:cNvPicPr/>
          <p:nvPr/>
        </p:nvPicPr>
        <p:blipFill>
          <a:blip r:embed="rId3"/>
          <a:srcRect l="15127" t="6527" r="12947" b="4351"/>
          <a:stretch/>
        </p:blipFill>
        <p:spPr>
          <a:xfrm>
            <a:off x="5638680" y="1447920"/>
            <a:ext cx="601920" cy="685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562720" y="5562720"/>
            <a:ext cx="32004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ish Po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0:25:16Z</dcterms:created>
  <dc:creator>CFISD</dc:creator>
  <dc:description/>
  <dc:language>en-US</dc:language>
  <cp:lastModifiedBy>CFISD</cp:lastModifiedBy>
  <dcterms:modified xsi:type="dcterms:W3CDTF">2008-11-13T20:16:29Z</dcterms:modified>
  <cp:revision>9</cp:revision>
  <dc:subject/>
  <dc:title>Slide 1</dc:title>
</cp:coreProperties>
</file>