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A53-AD2B-46EE-A4F3-47698295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EDE-9E31-4630-85EF-B38A43D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DEC-28C1-4B9E-B5F0-8FEDE7A8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C63-AE89-4711-8994-70F851BC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D2A-77DD-4193-BD0A-C32BBB4C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F9A-F0A3-4B69-BE98-D5E53C6B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ED3-597F-4050-9F48-349DC433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D60-223B-47E4-8A2F-3BB63293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218-9566-46A1-95FB-6AB52EC9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6F4-78F6-4360-A80D-CA54F7E0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833-B4A3-45FD-B396-3AE8982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A18-B671-451E-8424-59BF132B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E6F-E460-49F4-9796-68A95542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servationtech.com/x-MILLTOWNS/RL-Photographs-4x5/England-YORKS-4x5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1919_Battle_of_George_Square_-_David_Kirkwood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investigating a crime scene, how are some ways you would gather evi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ves, using the photos you mus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ther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will be details that may reveal something about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erpret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ideas or inferences based on existing evidence. The who, what, when, where, and how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 a hypothesis from the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vidence and your own critical thinking to determine the “motive” behind the scene being investi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formation on susp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suspect made its first appearance:  Great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bundance of this natural resource made it all possible…what is i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90920" y="2286000"/>
            <a:ext cx="4038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COAL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A – Life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s of Industrializ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3049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to answer question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– 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—Work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3809880"/>
            <a:ext cx="6858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971800"/>
            <a:ext cx="4572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9718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95680" y="1219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81080" y="28195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563868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114800"/>
            <a:ext cx="1295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280"/>
            <a:ext cx="2286000" cy="177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 below in your noteboo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w does acid rain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ibit C—Working/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n the Physical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Yorkshire-5.jpg (582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65" t="1159" r="1665" b="61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eps have been taken by Europe to solve this pollution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Boo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 has coal, iron ore, rivers, and peninsul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10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8195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es are built, United Kingdom uses up all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19720"/>
            <a:ext cx="2361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One – Buy natural resources from other countr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191120"/>
            <a:ext cx="2362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wo – Decrease factory production and fire thousands of wor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191120"/>
            <a:ext cx="2133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hree – invade other countries and steal their natura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838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3720" y="3276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7672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038480"/>
            <a:ext cx="26668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y – a country or region that is taken over and controlled by anot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 - An economic policy based on a state monopoly over trade and an attempt to transfer wealth from colonies to the parent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1523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untry A takes over country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752480"/>
            <a:ext cx="1447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untry A steals all of country B’s natura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286000"/>
            <a:ext cx="16002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untry A takes Country B’s natural resources back to Country A and makes products in their fa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733920"/>
            <a:ext cx="13716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ountry A takes the finished products back to Country B and forces them to buy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6098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59092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3392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eople move off of farms to cities to work in the new fact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!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for Detecti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ver how Industrialization Impact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Image:1919 Battle of George Square - David Kirkwoo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5638680" y="1447920"/>
            <a:ext cx="6019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25:16Z</dcterms:created>
  <dc:creator>CFISD</dc:creator>
  <dc:description/>
  <dc:language>en-US</dc:language>
  <cp:lastModifiedBy>CFISD</cp:lastModifiedBy>
  <dcterms:modified xsi:type="dcterms:W3CDTF">2008-11-13T20:16:29Z</dcterms:modified>
  <cp:revision>9</cp:revision>
  <dc:subject/>
  <dc:title>Slide 1</dc:title>
</cp:coreProperties>
</file>