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2A3-05CC-4B37-863D-8050237D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2BB-9CE1-47EE-88E5-1B519E8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35A-493F-4EA1-82E1-86DBFE83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7C6-18D3-4723-A685-7501B4E3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274-2289-4596-8280-DE1574A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3AB-227E-44A3-8A1E-22E3165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D90-0D69-49CC-8795-987F7ED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07E-6D04-438D-8112-01970780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D73-1625-4270-988E-9728FCAA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943-B39F-4A10-A186-A573054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9FA-7BD3-4A1C-90C9-362C735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136-1603-475A-AAFA-8E4DAFB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64E6-A59B-4B76-B55C-6A3B66D2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servationtech.com/x-MILLTOWNS/RL-Photographs-4x5/England-YORKS-4x5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1919_Battle_of_George_Square_-_David_Kirkwood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investigating a crime scene, how are some ways you would gather evi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ves, using the photos you mus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ther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will be details that may reveal something about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pret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ideas or inferences based on existing evidence. The who, what, when, where, and how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 a hypothesis from the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vidence and your own critical thinking to determine the “motive” behind the scene being investi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n susp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suspect made its first appearance:  Great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bundance of this natural resource made it all possible…what is i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90920" y="2286000"/>
            <a:ext cx="4038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COAL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A – Life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of Industrializ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3049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to answer question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– 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—Work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3809880"/>
            <a:ext cx="6858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971800"/>
            <a:ext cx="4572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9718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95680" y="1219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28195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14800"/>
            <a:ext cx="1295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280"/>
            <a:ext cx="228600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 below in your notebo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w does acid rain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ibit C—Working/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n the Physical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Yorkshire-5.jpg (582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65" t="1159" r="1665" b="6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eps have been taken by Europe to solve this pollution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Boo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 has coal, iron ore, rivers, and peninsul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10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195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es are built, United Kingdom uses up all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19720"/>
            <a:ext cx="2361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ne – Buy natural resources from other countr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91120"/>
            <a:ext cx="2362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wo – Decrease factory production and fire thousands of wor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191120"/>
            <a:ext cx="2133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hree – invade other countries and steal their natura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838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3720" y="3276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666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y – a country or region that is taken over and controlled by anot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 - An economic policy based on a state monopoly over trade and an attempt to transfer wealth from colonies to the pa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1523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untry A takes over country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752480"/>
            <a:ext cx="144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untry A steals all of country B’s natur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286000"/>
            <a:ext cx="16002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untry A takes Country B’s natural resources back to Country A and makes products in their fa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733920"/>
            <a:ext cx="13716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ountry A takes the finished products back to Country B and forces them to buy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59092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3392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ople move off of farms to cities to work in the new fact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!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for Detecti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ver how Industrialization Impact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Image:1919 Battle of George Square - David Kirkwoo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5638680" y="1447920"/>
            <a:ext cx="6019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5:16Z</dcterms:created>
  <dc:creator>CFISD</dc:creator>
  <dc:description/>
  <dc:language>en-US</dc:language>
  <cp:lastModifiedBy>CFISD</cp:lastModifiedBy>
  <dcterms:modified xsi:type="dcterms:W3CDTF">2008-11-13T20:16:29Z</dcterms:modified>
  <cp:revision>9</cp:revision>
  <dc:subject/>
  <dc:title>Slide 1</dc:title>
</cp:coreProperties>
</file>