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F204-0B74-45DB-97B5-B8C776A46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C44F-FB1D-4A51-A20C-E5252B061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1ABE-6E68-4688-836E-30934C036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A639-D33D-4AAC-A063-0E46E2CFF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D6A8-8D46-40D1-89D9-C18557D59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A845-CCC6-4E96-A0B9-6371FE2FC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3497-30F4-42B5-86A7-950367BAF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7011-FB6E-4194-86A8-9B4583D08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4AE9-E778-49A0-B253-D0C51BC92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E7DB-7A1E-4094-AC5A-6AFA6E454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010F-038B-43BF-A67C-84406587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E4AD-279A-4891-8356-39A1B89A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5E3FA-FD5A-447B-861F-69C5DDF16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E:/videos/Crash%20Test%202002%20-%20Present%20Jaguar%20X%20Type%20IIHS.mov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lasszone.com/books/earth_science/terc/content/visualizations/es1105/es1105page01.cfm?chapter_no=visualization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usatoday.com/news/graphics/tsnumai/flash.ht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malayas, Monsoons, Tsuna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3472" t="16669" r="42361" b="29632"/>
          <a:stretch/>
        </p:blipFill>
        <p:spPr>
          <a:xfrm>
            <a:off x="0" y="0"/>
            <a:ext cx="5486400" cy="4079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85800" y="4343400"/>
            <a:ext cx="76201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Tsunami Anim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Explain how the disaster was created in geological terms (think plate tectonics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304920"/>
            <a:ext cx="2286000" cy="68580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001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sunamis Wreak Havoc, view the slide s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Describe the devastation suffered by the peop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What affect did this disaster have on infrastructu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3659" t="16262" r="42719" b="30083"/>
          <a:stretch/>
        </p:blipFill>
        <p:spPr>
          <a:xfrm>
            <a:off x="3733920" y="2798640"/>
            <a:ext cx="5410080" cy="4059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86600" y="3200400"/>
            <a:ext cx="2057400" cy="4572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848720" y="6172200"/>
            <a:ext cx="838080" cy="4572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3705" t="16835" r="42594" b="29291"/>
          <a:stretch/>
        </p:blipFill>
        <p:spPr>
          <a:xfrm>
            <a:off x="3200400" y="3201840"/>
            <a:ext cx="5943600" cy="3656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0"/>
            <a:ext cx="82296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Coping with Cha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What types of problems exist for the people in the reg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What things are required to recover the reg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What does the infrastructure require for recover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South A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28600" y="914400"/>
          <a:ext cx="8763120" cy="480852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raeli-Palestinian Confli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South Asia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p/Cover P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malayas and Tsunam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228600" y="36576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rm-up P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219320"/>
          <a:ext cx="8229600" cy="5211720"/>
        </p:xfrm>
        <a:graphic>
          <a:graphicData uri="http://schemas.openxmlformats.org/drawingml/2006/table">
            <a:tbl>
              <a:tblPr/>
              <a:tblGrid>
                <a:gridCol w="1905120"/>
                <a:gridCol w="2971800"/>
                <a:gridCol w="3352680"/>
              </a:tblGrid>
              <a:tr h="101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stion of the 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rm-u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are the effects of the Tsunami of 2004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plates collided together forming the Himalay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the Himalayas are located on border of China and India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Intro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 - cl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2209680"/>
            <a:ext cx="609624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Pay close attention to what happens to the hoo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imalayas Form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80880" y="838080"/>
            <a:ext cx="7239240" cy="58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191120" y="0"/>
            <a:ext cx="43480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85800" y="762120"/>
            <a:ext cx="25146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 the last 71 million years, the India plate has mashed into the Eurasian plate creating the Himalay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28600" y="456840"/>
            <a:ext cx="86868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malaya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untains were formed when plates COLLIDED and the land is forced up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2811600"/>
            <a:ext cx="9144000" cy="40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sunam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p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Describe how tsunamis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sunami Int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here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usatoday.com/news/graphics/tsnumai/flash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hat caused the tsunam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at countries were affected by the tsunam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12:00:25Z</dcterms:created>
  <dc:creator>CFISD</dc:creator>
  <dc:description/>
  <dc:language>en-US</dc:language>
  <cp:lastModifiedBy>CFISD</cp:lastModifiedBy>
  <dcterms:modified xsi:type="dcterms:W3CDTF">2009-03-10T12:49:30Z</dcterms:modified>
  <cp:revision>14</cp:revision>
  <dc:subject/>
  <dc:title>Plate Tectonics </dc:title>
</cp:coreProperties>
</file>