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4D4-EC46-4F95-83F1-DEC22035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2D2-EB32-4ECE-A683-8B40BC32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75F-FCA8-4D4B-9B5A-C722307B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5FC-9D37-41D6-9A4D-ACA093A9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3AA-711B-4C83-A5D4-CDB8FA2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BD6-3F0E-4B64-A714-1B6BCACD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6B0-CFCD-40CA-BB4A-471CB266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5A4-2B19-4003-9E17-CF93EC7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655-2D7A-4198-96DB-9D861AE9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34B-A145-4E93-B409-A2D4AA9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521-D935-4925-AD62-CC1A6B7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E3C-EFA8-4946-A28C-44024CA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A27F-2E9D-4840-8314-DD553F4F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:/videos/Crash%20Test%202002%20-%20Present%20Jaguar%20X%20Type%20IIHS.m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1105/es1105page01.cfm?chapter_no=visualization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s, Monsoons, 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472" t="16669" r="42361" b="29632"/>
          <a:stretch/>
        </p:blipFill>
        <p:spPr>
          <a:xfrm>
            <a:off x="0" y="0"/>
            <a:ext cx="5486400" cy="407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34340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sunami Ani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the disaster was created in geological terms (think plate tectonic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2286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sunamis Wreak Havoc, view the 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cribe the devastation suffered by the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affect did this disaster have on infra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659" t="16262" r="42719" b="30083"/>
          <a:stretch/>
        </p:blipFill>
        <p:spPr>
          <a:xfrm>
            <a:off x="3733920" y="2798640"/>
            <a:ext cx="5410080" cy="405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3200400"/>
            <a:ext cx="2057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8380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705" t="16835" r="42594" b="29291"/>
          <a:stretch/>
        </p:blipFill>
        <p:spPr>
          <a:xfrm>
            <a:off x="3200400" y="3201840"/>
            <a:ext cx="5943600" cy="365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Coping with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types of problems exist for the people in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hat things are required to recover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What does the infrastructure require for recove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219320"/>
          <a:ext cx="8229600" cy="521172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3352680"/>
              </a:tblGrid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effects of the Tsunami of 2004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lates collided together forming the Himal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Himalayas are located on border of China and Indi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r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209680"/>
            <a:ext cx="6096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y close attention to what happens to the 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imalayas F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239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8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762120"/>
            <a:ext cx="251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last 71 million years, the India plate has mashed into the Eurasian plate creating the Himalay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ains were formed when plates COLLIDED and the land is forced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1160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how tsunami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caused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untries were affected by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2:00:25Z</dcterms:created>
  <dc:creator>CFISD</dc:creator>
  <dc:description/>
  <dc:language>en-US</dc:language>
  <cp:lastModifiedBy>CFISD</cp:lastModifiedBy>
  <dcterms:modified xsi:type="dcterms:W3CDTF">2009-03-10T12:49:30Z</dcterms:modified>
  <cp:revision>14</cp:revision>
  <dc:subject/>
  <dc:title>Plate Tectonics </dc:title>
</cp:coreProperties>
</file>