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21D-ED5C-4DEA-A182-DCB497BB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7C4-903D-4A14-987A-B1BC8265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A8A3-0E39-4582-90CC-7A873F24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416-2B8A-4C7A-8401-D7EDFEF2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EF7D-AEF9-4F13-A006-61870FDF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E88F-BDDC-472C-B1E4-F0D135AC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CAA9-E25F-4E73-A3BE-26A700C5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12FF-DC43-4D64-BDA1-B1DD02E9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C8B9-5413-442E-BEFD-7A7F70B4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EB3D-943E-41B2-A285-C1CB8416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C85-7731-4683-90F4-C8C72F09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4AB8-AAA6-4C39-9E78-B95AE50A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3F47-5123-4B1B-84A5-1070D0480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E:/videos/Crash%20Test%202002%20-%20Present%20Jaguar%20X%20Type%20IIHS.mo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asszone.com/books/earth_science/terc/content/visualizations/es1105/es1105page01.cfm?chapter_no=visualization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usatoday.com/news/graphics/tsnumai/flash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malayas, Monsoons, Tsuna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472" t="16669" r="42361" b="29632"/>
          <a:stretch/>
        </p:blipFill>
        <p:spPr>
          <a:xfrm>
            <a:off x="0" y="0"/>
            <a:ext cx="5486400" cy="407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4343400"/>
            <a:ext cx="7620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sunami Ani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plain how the disaster was created in geological terms (think plate tectonic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04920"/>
            <a:ext cx="2286000" cy="6858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sunamis Wreak Havoc, view the slide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scribe the devastation suffered by the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hat affect did this disaster have on infra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3659" t="16262" r="42719" b="30083"/>
          <a:stretch/>
        </p:blipFill>
        <p:spPr>
          <a:xfrm>
            <a:off x="3733920" y="2798640"/>
            <a:ext cx="5410080" cy="4059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86600" y="3200400"/>
            <a:ext cx="2057400" cy="457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172200"/>
            <a:ext cx="83808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3705" t="16835" r="42594" b="29291"/>
          <a:stretch/>
        </p:blipFill>
        <p:spPr>
          <a:xfrm>
            <a:off x="3200400" y="3201840"/>
            <a:ext cx="5943600" cy="3656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8229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Coping with 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What types of problems exist for the people in the reg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What things are required to recover the reg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What does the infrastructure require for recove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outh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raeli-Palestinian 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outh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/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malayas and Tsunam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36576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-up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219320"/>
          <a:ext cx="8229600" cy="5211720"/>
        </p:xfrm>
        <a:graphic>
          <a:graphicData uri="http://schemas.openxmlformats.org/drawingml/2006/table">
            <a:tbl>
              <a:tblPr/>
              <a:tblGrid>
                <a:gridCol w="1905120"/>
                <a:gridCol w="2971800"/>
                <a:gridCol w="3352680"/>
              </a:tblGrid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of the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m-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e effects of the Tsunami of 2004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lates collided together forming the Himalay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the Himalayas are located on border of China and India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tro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-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209680"/>
            <a:ext cx="60962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ay close attention to what happens to the h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imalayas For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723924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348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762120"/>
            <a:ext cx="2514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he last 71 million years, the India plate has mashed into the Eurasian plate creating the Himalay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686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malaya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untains were formed when plates COLLIDED and the land is forced up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811600"/>
            <a:ext cx="91440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scribe how tsunamis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satoday.com/news/graphics/tsnumai/flas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caused the tsuna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countries were affected by the tsuna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2:00:25Z</dcterms:created>
  <dc:creator>CFISD</dc:creator>
  <dc:description/>
  <dc:language>en-US</dc:language>
  <cp:lastModifiedBy>CFISD</cp:lastModifiedBy>
  <dcterms:modified xsi:type="dcterms:W3CDTF">2009-03-10T12:49:30Z</dcterms:modified>
  <cp:revision>14</cp:revision>
  <dc:subject/>
  <dc:title>Plate Tectonics </dc:title>
</cp:coreProperties>
</file>