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0B2-247D-49FE-BB8C-88BA2D2C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313-B8D6-4BAD-A17C-7F01A5B2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DCB-A092-479A-8390-8EA20F54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9D7-A28A-467B-8E8D-9F443F9D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245-1F20-447C-B8F2-2D4274D4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6BD-EE01-4608-9468-8242DA95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FE6-C16E-4F2D-8BC3-43DA08FA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8A8-2F8E-422E-9274-F94BDC1C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C7F-3EA3-4D17-A3B2-2A458809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C7D-E923-4651-A67F-8ECBEF33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52D-A008-4124-B450-87C918BD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D8A-33B5-434B-A7D5-7584F0DB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6555-BDC1-425D-9399-B0239C0A0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:/videos/Crash%20Test%202002%20-%20Present%20Jaguar%20X%20Type%20IIHS.mo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sszone.com/books/earth_science/terc/content/visualizations/es1105/es1105page01.cfm?chapter_no=visualization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malayas, Monsoons, 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472" t="16669" r="42361" b="29632"/>
          <a:stretch/>
        </p:blipFill>
        <p:spPr>
          <a:xfrm>
            <a:off x="0" y="0"/>
            <a:ext cx="5486400" cy="407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34340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sunami Ani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the disaster was created in geological terms (think plate tectonic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04920"/>
            <a:ext cx="2286000" cy="6858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sunamis Wreak Havoc, view the sli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cribe the devastation suffered by the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hat affect did this disaster have on infra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659" t="16262" r="42719" b="30083"/>
          <a:stretch/>
        </p:blipFill>
        <p:spPr>
          <a:xfrm>
            <a:off x="3733920" y="2798640"/>
            <a:ext cx="5410080" cy="405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86600" y="3200400"/>
            <a:ext cx="20574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172200"/>
            <a:ext cx="8380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705" t="16835" r="42594" b="29291"/>
          <a:stretch/>
        </p:blipFill>
        <p:spPr>
          <a:xfrm>
            <a:off x="3200400" y="3201840"/>
            <a:ext cx="5943600" cy="365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822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Coping with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types of problems exist for the people in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hat things are required to recover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What does the infrastructure require for recove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i-Palestinia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/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219320"/>
          <a:ext cx="8229600" cy="5211720"/>
        </p:xfrm>
        <a:graphic>
          <a:graphicData uri="http://schemas.openxmlformats.org/drawingml/2006/table">
            <a:tbl>
              <a:tblPr/>
              <a:tblGrid>
                <a:gridCol w="1905120"/>
                <a:gridCol w="2971800"/>
                <a:gridCol w="3352680"/>
              </a:tblGrid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effects of the Tsunami of 2004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lates collided together forming the Himalay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 Himalayas are located on border of China and Indi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ro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209680"/>
            <a:ext cx="60962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y close attention to what happens to the 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imalayas F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723924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348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762120"/>
            <a:ext cx="2514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last 71 million years, the India plate has mashed into the Eurasian plate creating the Himalay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alay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tains were formed when plates COLLIDED and the land is forced up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11600"/>
            <a:ext cx="91440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how tsunami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caused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countries were affected by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2:00:25Z</dcterms:created>
  <dc:creator>CFISD</dc:creator>
  <dc:description/>
  <dc:language>en-US</dc:language>
  <cp:lastModifiedBy>CFISD</cp:lastModifiedBy>
  <dcterms:modified xsi:type="dcterms:W3CDTF">2009-03-10T12:49:30Z</dcterms:modified>
  <cp:revision>14</cp:revision>
  <dc:subject/>
  <dc:title>Plate Tectonics </dc:title>
</cp:coreProperties>
</file>