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0EA-06C8-4639-B630-2EEBF438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924-3887-4C16-9009-75B572B3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40F-345A-440A-A9A4-894BDD4E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AC3-CC9E-4105-8510-AF58675A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A5A-A910-4AEC-A419-B53517E9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0C4-441D-4FF8-8D27-CE0EA172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BC4-11A1-4970-AE18-5EDBAFB0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AB4A-CCA7-4C15-B26A-F0D0D9CA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984-2D98-4466-9131-6F7136B2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37D-4ED5-4583-B880-B863A48C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2B5-EE53-4BEF-90D2-1C8B5302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250-8D64-4202-84C7-E28E9A7D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D32C-60CC-4ECC-AC29-EFE2E6993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E:/videos/Crash%20Test%202002%20-%20Present%20Jaguar%20X%20Type%20IIHS.mo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asszone.com/books/earth_science/terc/content/visualizations/es1105/es1105page01.cfm?chapter_no=visualization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satoday.com/news/graphics/tsnumai/flash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malayas, Monsoons, Tsuna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472" t="16669" r="42361" b="29632"/>
          <a:stretch/>
        </p:blipFill>
        <p:spPr>
          <a:xfrm>
            <a:off x="0" y="0"/>
            <a:ext cx="5486400" cy="407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4343400"/>
            <a:ext cx="7620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sunami Ani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how the disaster was created in geological terms (think plate tectonic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04920"/>
            <a:ext cx="2286000" cy="6858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sunamis Wreak Havoc, view the slide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scribe the devastation suffered by the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hat affect did this disaster have on infra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3659" t="16262" r="42719" b="30083"/>
          <a:stretch/>
        </p:blipFill>
        <p:spPr>
          <a:xfrm>
            <a:off x="3733920" y="2798640"/>
            <a:ext cx="5410080" cy="4059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86600" y="3200400"/>
            <a:ext cx="2057400" cy="457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172200"/>
            <a:ext cx="83808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3705" t="16835" r="42594" b="29291"/>
          <a:stretch/>
        </p:blipFill>
        <p:spPr>
          <a:xfrm>
            <a:off x="3200400" y="3201840"/>
            <a:ext cx="5943600" cy="3656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8229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Coping with 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What types of problems exist for the people in the re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What things are required to recover the re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What does the infrastructure require for recove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outh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raeli-Palestinian 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outh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/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alayas and Tsunam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36576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-up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219320"/>
          <a:ext cx="8229600" cy="5211720"/>
        </p:xfrm>
        <a:graphic>
          <a:graphicData uri="http://schemas.openxmlformats.org/drawingml/2006/table">
            <a:tbl>
              <a:tblPr/>
              <a:tblGrid>
                <a:gridCol w="1905120"/>
                <a:gridCol w="2971800"/>
                <a:gridCol w="3352680"/>
              </a:tblGrid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effects of the Tsunami of 2004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lates collided together forming the Himalay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he Himalayas are located on border of China and India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ro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209680"/>
            <a:ext cx="60962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y close attention to what happens to the 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imalayas Fo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723924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348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762120"/>
            <a:ext cx="2514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last 71 million years, the India plate has mashed into the Eurasian plate creating the Himalay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malay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untains were formed when plates COLLIDED and the land is forced up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811600"/>
            <a:ext cx="91440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how tsunami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today.com/news/graphics/tsnumai/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caused the tsuna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countries were affected by the tsuna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2:00:25Z</dcterms:created>
  <dc:creator>CFISD</dc:creator>
  <dc:description/>
  <dc:language>en-US</dc:language>
  <cp:lastModifiedBy>CFISD</cp:lastModifiedBy>
  <dcterms:modified xsi:type="dcterms:W3CDTF">2009-03-10T12:49:30Z</dcterms:modified>
  <cp:revision>14</cp:revision>
  <dc:subject/>
  <dc:title>Plate Tectonics </dc:title>
</cp:coreProperties>
</file>