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3EF21E-5017-4598-9CFC-00944363B2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EA0426-0AEB-4B2E-A7AB-AF01AC12E2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93C15D-FFD8-4A5C-9814-9FF2ECE9AD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5E65A6-0EF5-4728-829A-E3BAB03BBD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08849A-2680-406D-AC76-4F6F5149A1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4F805A-B534-4D38-BCBF-B0FF94769D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109289-077B-4B19-B67A-CA85E3B959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24AD08-0A96-412D-AC3A-4FEC4B4D31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CE97B6-64F7-4575-B778-62DD8A97EF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2CD80-5F47-4D6D-9C8A-E81A579020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00622-D18E-44C9-8110-7DA290FF32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BF812D-516B-4324-92BA-C69DAC46FE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50000">
              <a:srgbClr val="ddebcf"/>
            </a:gs>
            <a:gs pos="100000">
              <a:srgbClr val="156b13"/>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6C8C2-C1CE-4CFE-A50D-F1370D48AA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en.wikipedia.org/wiki/File:Piraeus.JPG" TargetMode="External"/><Relationship Id="rId2" Type="http://schemas.openxmlformats.org/officeDocument/2006/relationships/image" Target="../media/image3.jpeg"/><Relationship Id="rId3" Type="http://schemas.openxmlformats.org/officeDocument/2006/relationships/hyperlink" Target="http://www.betterphoto.com/gallery/dynoGallDetail.asp?photoID=1196&amp;catID=250&amp;contestCatID=&amp;rowNumber=9&amp;camID=" TargetMode="External"/><Relationship Id="rId4" Type="http://schemas.openxmlformats.org/officeDocument/2006/relationships/image" Target="../media/image4.jpeg"/><Relationship Id="rId5" Type="http://schemas.openxmlformats.org/officeDocument/2006/relationships/hyperlink" Target="http://upload.wikimedia.org/wikipedia/commons/3/30/A380_singapore_airlines_takeoff_arp.jpg" TargetMode="External"/><Relationship Id="rId6" Type="http://schemas.openxmlformats.org/officeDocument/2006/relationships/image" Target="../media/image5.jpe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50000">
              <a:srgbClr val="ddebcf"/>
            </a:gs>
            <a:gs pos="100000">
              <a:srgbClr val="156b13"/>
            </a:gs>
          </a:gsLst>
          <a:lin ang="5400000"/>
        </a:gra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subTitle"/>
          </p:nvPr>
        </p:nvSpPr>
        <p:spPr>
          <a:xfrm>
            <a:off x="1219320" y="1523520"/>
            <a:ext cx="6400800" cy="175284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remy Phan</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aran Ramchandani</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y Vu</a:t>
            </a:r>
            <a:endParaRPr b="0" lang="en-US" sz="3200" spc="-1" strike="noStrike">
              <a:solidFill>
                <a:srgbClr val="000000"/>
              </a:solidFill>
              <a:latin typeface="Arial"/>
            </a:endParaRPr>
          </a:p>
        </p:txBody>
      </p:sp>
      <p:sp>
        <p:nvSpPr>
          <p:cNvPr id="43" name="WordArt 4"/>
          <p:cNvSpPr txBox="1"/>
          <p:nvPr/>
        </p:nvSpPr>
        <p:spPr>
          <a:xfrm>
            <a:off x="1809720" y="495360"/>
            <a:ext cx="52768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Government Officials</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50000">
              <a:srgbClr val="ddebcf"/>
            </a:gs>
            <a:gs pos="100000">
              <a:srgbClr val="156b13"/>
            </a:gs>
          </a:gsLst>
          <a:lin ang="5400000"/>
        </a:gradFill>
      </p:bgPr>
    </p:bg>
    <p:spTree>
      <p:nvGrpSpPr>
        <p:cNvPr id="1" name=""/>
        <p:cNvGrpSpPr/>
        <p:nvPr/>
      </p:nvGrpSpPr>
      <p:grpSpPr>
        <a:xfrm>
          <a:off x="0" y="0"/>
          <a:ext cx="0" cy="0"/>
          <a:chOff x="0" y="0"/>
          <a:chExt cx="0" cy="0"/>
        </a:xfrm>
      </p:grpSpPr>
      <p:pic>
        <p:nvPicPr>
          <p:cNvPr id="44" name="" descr="Clear-cutting in the Amazon rainforest as viewed from above by airplane"/>
          <p:cNvPicPr/>
          <p:nvPr/>
        </p:nvPicPr>
        <p:blipFill>
          <a:blip r:embed="rId1"/>
          <a:stretch/>
        </p:blipFill>
        <p:spPr>
          <a:xfrm>
            <a:off x="1828800" y="3200400"/>
            <a:ext cx="5715000" cy="342900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Argument</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encouraged the initial process of deforestation and are in favor of developing the rainfore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50000">
              <a:srgbClr val="ddebcf"/>
            </a:gs>
            <a:gs pos="100000">
              <a:srgbClr val="156b13"/>
            </a:gs>
          </a:gsLst>
          <a:lin ang="5400000"/>
        </a:gradFill>
      </p:bgPr>
    </p:bg>
    <p:spTree>
      <p:nvGrpSpPr>
        <p:cNvPr id="1" name=""/>
        <p:cNvGrpSpPr/>
        <p:nvPr/>
      </p:nvGrpSpPr>
      <p:grpSpPr>
        <a:xfrm>
          <a:off x="0" y="0"/>
          <a:ext cx="0" cy="0"/>
          <a:chOff x="0" y="0"/>
          <a:chExt cx="0" cy="0"/>
        </a:xfrm>
      </p:grpSpPr>
      <p:pic>
        <p:nvPicPr>
          <p:cNvPr id="47" name="" descr="">
            <a:hlinkClick r:id="rId1"/>
          </p:cNvPr>
          <p:cNvPicPr/>
          <p:nvPr/>
        </p:nvPicPr>
        <p:blipFill>
          <a:blip r:embed="rId2"/>
          <a:stretch/>
        </p:blipFill>
        <p:spPr>
          <a:xfrm>
            <a:off x="3381480" y="2533680"/>
            <a:ext cx="2381040" cy="1790640"/>
          </a:xfrm>
          <a:prstGeom prst="rect">
            <a:avLst/>
          </a:prstGeom>
          <a:ln w="0">
            <a:noFill/>
          </a:ln>
        </p:spPr>
      </p:pic>
      <p:pic>
        <p:nvPicPr>
          <p:cNvPr id="48" name="" descr="Sailboat and Sunrise">
            <a:hlinkClick r:id="rId3"/>
          </p:cNvPr>
          <p:cNvPicPr/>
          <p:nvPr/>
        </p:nvPicPr>
        <p:blipFill>
          <a:blip r:embed="rId4"/>
          <a:stretch/>
        </p:blipFill>
        <p:spPr>
          <a:xfrm>
            <a:off x="6869160" y="304920"/>
            <a:ext cx="1493640" cy="2209680"/>
          </a:xfrm>
          <a:prstGeom prst="rect">
            <a:avLst/>
          </a:prstGeom>
          <a:ln w="0">
            <a:noFill/>
          </a:ln>
        </p:spPr>
      </p:pic>
      <p:pic>
        <p:nvPicPr>
          <p:cNvPr id="49" name="" descr="File:A380 singapore airlines takeoff arp.jpg">
            <a:hlinkClick r:id="rId5"/>
          </p:cNvPr>
          <p:cNvPicPr/>
          <p:nvPr/>
        </p:nvPicPr>
        <p:blipFill>
          <a:blip r:embed="rId6"/>
          <a:stretch/>
        </p:blipFill>
        <p:spPr>
          <a:xfrm>
            <a:off x="152280" y="152280"/>
            <a:ext cx="2514600" cy="1816200"/>
          </a:xfrm>
          <a:prstGeom prst="rect">
            <a:avLst/>
          </a:prstGeom>
          <a:ln w="0">
            <a:noFill/>
          </a:ln>
        </p:spPr>
      </p:pic>
      <p:sp>
        <p:nvSpPr>
          <p:cNvPr id="5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Reasons</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we are the officials of the government, a few of our reasons for using the rainforest for economic development are:</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he excess of rainforest land in order to develop airports for tourism and the ability of trade with the help of infrastructure</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use the coastal areas of the rainforest in order to create ports which can be used to manage the imports and exports that relate to the region in which the port exists</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establish a sense of road-ways so the idea of break-of-bulk can be carried out to its full extent with the option of multiple routes in order for “deliveries” and jobs to be comple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50000">
              <a:srgbClr val="ddebcf"/>
            </a:gs>
            <a:gs pos="100000">
              <a:srgbClr val="156b13"/>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Position</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understand the changes that must be made, and are willing to be accepting to new “prime” sources of our econom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hough we are in charge of providing forms of infrastructure as well encouraging the action of settling in the rainforest, we cannot provide these necessities without the use of the rainforest, therefore the rainforest will either be of constant use, or our economy will suff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50000">
              <a:srgbClr val="ddebcf"/>
            </a:gs>
            <a:gs pos="100000">
              <a:srgbClr val="156b13"/>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Plan</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understand the seriousness of the situation (with the possibility of the rainforest being “used up” completely) and are prepared to take suggestions from the people of the country in order to allow different forms of economic benefi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But keep in mind, though, that the rainforest has proved to be a prime source for our economic “success and survival”, and has allowed us to “get by”, so the decision is yours, is the preservation of the rainforest going to be worth the sacrifice? The  choice is you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2T14:10:49Z</dcterms:created>
  <dc:creator>cfisd</dc:creator>
  <dc:description/>
  <dc:language>en-US</dc:language>
  <cp:lastModifiedBy>cfisd</cp:lastModifiedBy>
  <dcterms:modified xsi:type="dcterms:W3CDTF">2009-01-26T14:13:35Z</dcterms:modified>
  <cp:revision>6</cp:revision>
  <dc:subject/>
  <dc:title>Slide 1</dc:title>
</cp:coreProperties>
</file>