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DDD4E-4443-4101-AF48-2FDAD2684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61811-BB61-40A7-9A03-6BC43F85A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1E4D5-70E9-4A5D-8F84-B45042B65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4CCBC-5DD7-4F44-8EAC-2CABB0979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54F8E-05B2-4411-AEE5-56360935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023D2-AFDA-4DC0-A30A-3C4AB3CBE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84EAE-52BD-42A8-9CB7-EF7D7F68A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407D4-A697-4B6F-B285-24E750983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A2CFC-8B4F-47B4-B073-403E268C2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DB485-29B9-43C6-BA99-141FDE5B4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E4141-C095-4F53-A200-E46AEFA07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A6D48-F7AA-4728-8269-EC0C73428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CDFC-C4AA-4934-BE97-5E00DACC2A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Piraeus.JPG" TargetMode="External"/><Relationship Id="rId2" Type="http://schemas.openxmlformats.org/officeDocument/2006/relationships/image" Target="../media/image3.jpeg"/><Relationship Id="rId3" Type="http://schemas.openxmlformats.org/officeDocument/2006/relationships/hyperlink" Target="http://www.betterphoto.com/gallery/dynoGallDetail.asp?photoID=1196&amp;catID=250&amp;contestCatID=&amp;rowNumber=9&amp;camID=" TargetMode="External"/><Relationship Id="rId4" Type="http://schemas.openxmlformats.org/officeDocument/2006/relationships/image" Target="../media/image4.jpeg"/><Relationship Id="rId5" Type="http://schemas.openxmlformats.org/officeDocument/2006/relationships/hyperlink" Target="http://upload.wikimedia.org/wikipedia/commons/3/30/A380_singapore_airlines_takeoff_arp.jpg"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219320" y="1523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3"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4" name="" descr="Clear-cutting in the Amazon rainforest as viewed from above by airplane"/>
          <p:cNvPicPr/>
          <p:nvPr/>
        </p:nvPicPr>
        <p:blipFill>
          <a:blip r:embed="rId1"/>
          <a:stretch/>
        </p:blipFill>
        <p:spPr>
          <a:xfrm>
            <a:off x="1828800" y="3200400"/>
            <a:ext cx="5715000" cy="3429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7" name="" descr="">
            <a:hlinkClick r:id="rId1"/>
          </p:cNvPr>
          <p:cNvPicPr/>
          <p:nvPr/>
        </p:nvPicPr>
        <p:blipFill>
          <a:blip r:embed="rId2"/>
          <a:stretch/>
        </p:blipFill>
        <p:spPr>
          <a:xfrm>
            <a:off x="3381480" y="2533680"/>
            <a:ext cx="2381040" cy="1790640"/>
          </a:xfrm>
          <a:prstGeom prst="rect">
            <a:avLst/>
          </a:prstGeom>
          <a:ln w="0">
            <a:noFill/>
          </a:ln>
        </p:spPr>
      </p:pic>
      <p:pic>
        <p:nvPicPr>
          <p:cNvPr id="48" name="" descr="Sailboat and Sunrise">
            <a:hlinkClick r:id="rId3"/>
          </p:cNvPr>
          <p:cNvPicPr/>
          <p:nvPr/>
        </p:nvPicPr>
        <p:blipFill>
          <a:blip r:embed="rId4"/>
          <a:stretch/>
        </p:blipFill>
        <p:spPr>
          <a:xfrm>
            <a:off x="6869160" y="304920"/>
            <a:ext cx="1493640" cy="2209680"/>
          </a:xfrm>
          <a:prstGeom prst="rect">
            <a:avLst/>
          </a:prstGeom>
          <a:ln w="0">
            <a:noFill/>
          </a:ln>
        </p:spPr>
      </p:pic>
      <p:pic>
        <p:nvPicPr>
          <p:cNvPr id="49" name="" descr="File:A380 singapore airlines takeoff arp.jpg">
            <a:hlinkClick r:id="rId5"/>
          </p:cNvPr>
          <p:cNvPicPr/>
          <p:nvPr/>
        </p:nvPicPr>
        <p:blipFill>
          <a:blip r:embed="rId6"/>
          <a:stretch/>
        </p:blipFill>
        <p:spPr>
          <a:xfrm>
            <a:off x="152280" y="152280"/>
            <a:ext cx="2514600" cy="1816200"/>
          </a:xfrm>
          <a:prstGeom prst="rect">
            <a:avLst/>
          </a:prstGeom>
          <a:ln w="0">
            <a:noFill/>
          </a:ln>
        </p:spPr>
      </p:pic>
      <p:sp>
        <p:nvSpPr>
          <p:cNvPr id="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t keep in mind, though, that the rainforest has proved to be a prime source for our economic “success and survival”, and has allowed us to “get by”, so the decision is yours, is the preservation of the rainforest going to be worth the sacrifice? The  choice is y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6T14:13:35Z</dcterms:modified>
  <cp:revision>6</cp:revision>
  <dc:subject/>
  <dc:title>Slide 1</dc:title>
</cp:coreProperties>
</file>