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567-AD9B-47F5-8053-A3B628E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CE2-5738-4912-8D6B-ACE5FBF1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FC3-F00D-4B87-BB71-DF823D7E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D02-7051-496D-B6F1-5348903B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357-4E36-4CAA-8C17-E5495FE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894-4F5F-47BF-ADFD-B5E77698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332-3948-43F3-AB2C-B2DC196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767-21F7-4724-B8CB-A29D7E2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49B-43F6-4B41-AB69-9A324064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651-7E9E-4215-984E-D36EFDB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C3C-C7CA-43B4-8B9C-D0FCC200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B67-09AE-47B6-AFCA-386CDA0C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642-41FF-46E2-AE64-6C74BFF1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Coastal 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lf Coastal Plain stretches alo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lf of 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lo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ex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ssippi 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pties into the Gulf from this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economic activity map on Page 120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ome of the major economic activities going on in the waters off of the Gulf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838080"/>
            <a:ext cx="53337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lf Coastal Plain is critical to the economy of the US and Canada because the region is a center of the oil business, and offshore drilling takes place in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 flipV="1">
            <a:off x="5409720" y="5181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ater of Diamonds, America’s only diamond mine, is located in this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gion contains Texas’ oil gas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was discovered in Ouachita and Union Counties in 19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52:50Z</dcterms:created>
  <dc:creator>cfisd</dc:creator>
  <dc:description/>
  <dc:language>en-US</dc:language>
  <cp:lastModifiedBy>cfisd</cp:lastModifiedBy>
  <dcterms:modified xsi:type="dcterms:W3CDTF">2008-10-20T12:54:03Z</dcterms:modified>
  <cp:revision>10</cp:revision>
  <dc:subject/>
  <dc:title>Gulf Coastal Plain</dc:title>
</cp:coreProperties>
</file>