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5BBA-DEF5-4CA9-94AF-E70BC49E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D405-E442-463F-9D34-0CEB8EC4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30CD-59F0-4BA9-A640-77023EC7F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00FA-70F7-4EA0-BC28-0C37BFE94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E17A-443B-4A9D-8B23-20A707EC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E42E-B735-4BFA-B1F5-8AF2C14E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B252-44FE-4B96-A2E3-557631AA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9AC0-A0B9-4CF9-A367-F4528AEF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C5D8-9CD3-4838-96C2-A438D188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B4F2-C5B2-4C1F-8B6E-70153BBC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59AD-C6CD-458D-B6DE-3A062275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ED6A-0EF9-4BE2-B2B6-13F10D56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4D2E-457A-454C-829C-95FFD3BEA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lf Coastal Pl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ias Os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ulf Coastal Plain stretches along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ulf of Mexic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lori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to Tex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ississippi Ri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mpties into the Gulf from this reg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rding to the economic activity map on Page 120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trole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tural g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some of the major economic activities going on in the waters off of the Gulf Co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304920" y="838080"/>
            <a:ext cx="5333760" cy="11912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ulf Coastal Plain is critical to the economy of the US and Canada because the region is a center of the oil business, and offshore drilling takes place in the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 flipH="1" flipV="1">
            <a:off x="5409720" y="5181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rater of Diamonds, America’s only diamond mine, is located in this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region contains Texas’ oil gas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l was discovered in Ouachita and Union Counties in 192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2:52:50Z</dcterms:created>
  <dc:creator>cfisd</dc:creator>
  <dc:description/>
  <dc:language>en-US</dc:language>
  <cp:lastModifiedBy>cfisd</cp:lastModifiedBy>
  <dcterms:modified xsi:type="dcterms:W3CDTF">2008-10-20T12:54:03Z</dcterms:modified>
  <cp:revision>10</cp:revision>
  <dc:subject/>
  <dc:title>Gulf Coastal Plain</dc:title>
</cp:coreProperties>
</file>