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A1C2-3152-485B-B8D6-33999356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858F-BB04-45ED-A26A-0C07EF63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AA8D-C5E2-4742-84E3-9E5B15A51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B0A1-6E3B-4DB3-8B2D-E1EF626F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D53-BC11-4B37-9C3D-2D40B57B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7528-BD1B-4C07-A052-C7624570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AFF-25F0-46A5-AFD0-86E125C2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E6E3-BFDF-4BC7-A330-30793FF7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9BD-7690-4B83-9FF9-483776966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267A-9D01-4294-ADA1-9DED0AFA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B5B-641E-4C62-940C-14CD1747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D07-8429-465B-91BB-66602FF7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84C-6801-472B-8BD1-0719C942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Coastal 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lf Coastal Plain stretches alo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lf of 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ex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ssippi 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pties into the Gulf from this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economic activity map on Page 120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ome of the major economic activities going on in the waters off of the Gulf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838080"/>
            <a:ext cx="53337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lf Coastal Plain is critical to the economy of the US and Canada because the region is a center of the oil business, and offshore drilling takes place i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 flipV="1">
            <a:off x="5409720" y="5181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ter of Diamonds, America’s only diamond mine, is located in this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gion contains Texas’ oil gas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was discovered in Ouachita and Union Counties in 19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52:50Z</dcterms:created>
  <dc:creator>cfisd</dc:creator>
  <dc:description/>
  <dc:language>en-US</dc:language>
  <cp:lastModifiedBy>cfisd</cp:lastModifiedBy>
  <dcterms:modified xsi:type="dcterms:W3CDTF">2008-10-20T12:54:03Z</dcterms:modified>
  <cp:revision>10</cp:revision>
  <dc:subject/>
  <dc:title>Gulf Coastal Plain</dc:title>
</cp:coreProperties>
</file>