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00B7-4F97-42E3-A0F4-B5DD395A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E1E7-D99D-4CA9-ACA9-FFCE24DA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3347-D54F-404B-8C21-C6B91B67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B4C4-5D29-47D2-9CAA-9CF8B95D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B271-E11D-4A03-BC5A-55DB35F1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17EF-45D8-420B-8DCA-0790E61D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9C9A-78FB-4FEE-BB74-7341D8E1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D1A3-E113-4CB5-A7EC-8135F8DF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4A4C-4D16-480D-AC7C-5C813B35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0D4-FEF5-408E-98CB-626B1703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CAAB-8831-4594-B645-79D50746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087-E52D-479B-8AC6-0D845E80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EE98-37FF-47D3-BD0F-3D6A4D4C3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lf Coastal 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as O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ulf Coastal Plain stretches along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ulf of Mexi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lori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Tex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ssissippi Ri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mpties into the Gulf from this reg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the economic activity map on Page 120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trole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tural g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some of the major economic activities going on in the waters off of the Gulf Co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04920" y="838080"/>
            <a:ext cx="5333760" cy="1191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ulf Coastal Plain is critical to the economy of the US and Canada because the region is a center of the oil business, and offshore drilling takes place in th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 flipH="1" flipV="1">
            <a:off x="5409720" y="5181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ater of Diamonds, America’s only diamond mine, is located in this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gion contains Texas’ oil gas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l was discovered in Ouachita and Union Counties in 19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2:52:50Z</dcterms:created>
  <dc:creator>cfisd</dc:creator>
  <dc:description/>
  <dc:language>en-US</dc:language>
  <cp:lastModifiedBy>cfisd</cp:lastModifiedBy>
  <dcterms:modified xsi:type="dcterms:W3CDTF">2008-10-20T12:54:03Z</dcterms:modified>
  <cp:revision>10</cp:revision>
  <dc:subject/>
  <dc:title>Gulf Coastal Plain</dc:title>
</cp:coreProperties>
</file>