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B1EB26-4A8B-4D5E-81FB-085C237E83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ED7DB-2234-4862-A6A0-EECAB659E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895F1D-F04A-4FAA-BAC1-7B9ABBDF51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FD6B87-31C1-4F41-9CB3-E00293080C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DDDF1-F1DC-4A5B-814C-486BBDF9F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F8719-E26A-48B8-83DD-E4041D8EF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7DB8A-0468-4424-8E63-7F578192A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BCFFE-9AD2-4D64-80CA-DE4883235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3A5F7-E4EE-430F-9917-0F76F92A4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2D916-2044-4FDE-A962-998867944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366DA-A79C-49EF-8B19-592EFDA06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9F4E2-6B5D-49A8-B864-4F4EAE1CBC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50000">
              <a:srgbClr val="156b13"/>
            </a:gs>
            <a:gs pos="100000">
              <a:srgbClr val="ddebc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8DDC1-7566-4155-83B0-FDD7F604CC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50000">
              <a:srgbClr val="156b13"/>
            </a:gs>
            <a:gs pos="100000">
              <a:srgbClr val="ddebc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azilian Logger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ed b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ily 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uren 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50000">
              <a:srgbClr val="156b13"/>
            </a:gs>
            <a:gs pos="100000">
              <a:srgbClr val="ddebcf"/>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our job?</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3657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timber worldwide, especially for Brazi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fuel Brazil government project to industrialize and to pay debts by fulfilling their demand of cheap mahogany and other timbers.</a:t>
            </a:r>
            <a:endParaRPr b="0" lang="en-US" sz="2800" spc="-1" strike="noStrike">
              <a:solidFill>
                <a:srgbClr val="000000"/>
              </a:solidFill>
              <a:latin typeface="Arial"/>
            </a:endParaRPr>
          </a:p>
        </p:txBody>
      </p:sp>
      <p:sp>
        <p:nvSpPr>
          <p:cNvPr id="45"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amazon logging"/>
          <p:cNvPicPr/>
          <p:nvPr/>
        </p:nvPicPr>
        <p:blipFill>
          <a:blip r:embed="rId1"/>
          <a:stretch/>
        </p:blipFill>
        <p:spPr>
          <a:xfrm>
            <a:off x="4086360" y="1828800"/>
            <a:ext cx="5057640" cy="3267000"/>
          </a:xfrm>
          <a:prstGeom prst="rect">
            <a:avLst/>
          </a:prstGeom>
          <a:ln w="0">
            <a:noFill/>
          </a:ln>
        </p:spPr>
      </p:pic>
      <p:sp>
        <p:nvSpPr>
          <p:cNvPr id="47" name=""/>
          <p:cNvSpPr/>
          <p:nvPr/>
        </p:nvSpPr>
        <p:spPr>
          <a:xfrm>
            <a:off x="4114800" y="5105520"/>
            <a:ext cx="5029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abcnews.go.com/International/popup?id=49466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50000">
              <a:srgbClr val="156b13"/>
            </a:gs>
            <a:gs pos="100000">
              <a:srgbClr val="ddebcf"/>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ur involvement in deforestation?</a:t>
            </a:r>
            <a:endParaRPr b="0" lang="en-US" sz="4000" spc="-1" strike="noStrike">
              <a:solidFill>
                <a:srgbClr val="000000"/>
              </a:solidFill>
              <a:latin typeface="Arial"/>
            </a:endParaRPr>
          </a:p>
        </p:txBody>
      </p:sp>
      <p:sp>
        <p:nvSpPr>
          <p:cNvPr id="49"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3% of the causes of deforestation is from logg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 of that percentage is illegal but the government is attempting to monitor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ging is available in only certain areas along with a license</a:t>
            </a:r>
            <a:endParaRPr b="0" lang="en-US" sz="2400" spc="-1" strike="noStrike">
              <a:solidFill>
                <a:srgbClr val="000000"/>
              </a:solidFill>
              <a:latin typeface="Arial"/>
            </a:endParaRPr>
          </a:p>
        </p:txBody>
      </p:sp>
      <p:pic>
        <p:nvPicPr>
          <p:cNvPr id="51" name="" descr="pie chart "/>
          <p:cNvPicPr/>
          <p:nvPr/>
        </p:nvPicPr>
        <p:blipFill>
          <a:blip r:embed="rId1"/>
          <a:stretch/>
        </p:blipFill>
        <p:spPr>
          <a:xfrm>
            <a:off x="838080" y="1676520"/>
            <a:ext cx="2984760" cy="396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50000">
              <a:srgbClr val="156b13"/>
            </a:gs>
            <a:gs pos="100000">
              <a:srgbClr val="ddebcf"/>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 or Against Deforestation?</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are for the destruction of the rainforest but we need to place restrictions to avoid mindlessly chopping down all the trees and putting us out of busine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of the jobs in Brazil are involved in the rainforest. If we were unable to keep cutting down trees, then our people have less job options. Without as many jobs available, Brazils GDP would begin to drop agai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we were not able to cut down the trees in the rainforest, then there wouldn’t be enough wood for the rest of the worl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ing homes, shelters, buildings, and many more things depend on the wood of the trees from our rainforest. If people are needing the wood, then there is a good reason to cut down the trees and give it to them to help Brazil’s econom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2T14:10:46Z</dcterms:created>
  <dc:creator>cfisd</dc:creator>
  <dc:description/>
  <dc:language>en-US</dc:language>
  <cp:lastModifiedBy>cfisd</cp:lastModifiedBy>
  <dcterms:modified xsi:type="dcterms:W3CDTF">2009-01-26T13:41:27Z</dcterms:modified>
  <cp:revision>4</cp:revision>
  <dc:subject/>
  <dc:title>Brazilian Loggers</dc:title>
</cp:coreProperties>
</file>