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4DA7-F4FA-42FB-81C2-45F0FDBCF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9B4B-1B6D-4B31-9266-950DFB56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AABD-0E25-40BC-BB7C-85A72ABA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CCF1-E5E6-4CEA-B731-3D26BA505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1212-1CD3-4327-8FC5-DF3D412C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F0AA-73C4-4AE1-A3EA-FAB4BB8B0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CE59-489F-4F13-83B9-1E298A9D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2B9-AA3B-4EA2-BAC2-B77DE4C0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E02-1FD8-426C-87B3-FF803BD7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82B3-20F7-453B-AEFE-5AABF6E6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0E9-6BD1-48FC-8AAE-DFB4AC52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5937-D855-4164-9497-C8C264C4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55A1-84C3-4300-A579-A0065185D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eb.venturacountystar.com/special/storm05/nplaconchitaaeriallg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mel.noaa.gov/tao/elnino/impacts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El N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5791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ow it happ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ific Ocean water temperatur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hanges wind patter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El N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4197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s flooding to regions near the Pacific Oce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mudslides and reduces fishing indust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southern CA mud sli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143000"/>
            <a:ext cx="3581280" cy="2360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A 25ft-high boulder blocked both lanes of a road in Malibu, damaging power and communications lines"/>
          <p:cNvPicPr/>
          <p:nvPr/>
        </p:nvPicPr>
        <p:blipFill>
          <a:blip r:embed="rId3"/>
          <a:stretch/>
        </p:blipFill>
        <p:spPr>
          <a:xfrm>
            <a:off x="5105520" y="3962520"/>
            <a:ext cx="3504960" cy="26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El Nino - Fr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(p. 5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 Imp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 Impac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581280" y="3048120"/>
            <a:ext cx="205740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3581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N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no – Research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the article be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where it says global impacts and choose additional articles if necess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eate a list of the positive and negative effects of El Ni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t least five effects (it doesn’t matter the breakdown of events just have 5 total, example: 4 positive, 1 negati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3:56:33Z</dcterms:created>
  <dc:creator>CFISD</dc:creator>
  <dc:description/>
  <dc:language>en-US</dc:language>
  <cp:lastModifiedBy>CFISD</cp:lastModifiedBy>
  <dcterms:modified xsi:type="dcterms:W3CDTF">2009-01-20T13:57:06Z</dcterms:modified>
  <cp:revision>1</cp:revision>
  <dc:subject/>
  <dc:title>B. El Nino</dc:title>
</cp:coreProperties>
</file>