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A79-80DB-4889-8DF9-10CDB21A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D47-7216-426A-92A5-2602F4DC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055-C4A0-4241-901A-1FFC57DA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1E7-D56E-45BB-9E62-BC8910EB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C88-1F9C-4C31-9805-92BFA64A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D29-5B9B-4ED3-9737-31FB28F2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544C-C8B3-4773-A64E-E828314A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16CA-9033-470A-B501-96AE5E47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7B9-EC31-4694-9324-17769DC7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829D-9D97-44DD-AB8D-441BBD30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D61D-E7F4-4745-9AAB-51CABFFC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F03-1081-43DB-A5E0-AE97CA75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426B-515D-4F92-BE24-F345F9D0B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eb.venturacountystar.com/special/storm05/nplaconchitaaeriallg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mel.noaa.gov/tao/elnino/impacts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El N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5791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w it happ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ific Ocean water temperatur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nges wind patter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El N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4197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s flooding to regions near the Pacific Oce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mudslides and reduces fishing indu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southern CA mud sli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143000"/>
            <a:ext cx="3581280" cy="236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A 25ft-high boulder blocked both lanes of a road in Malibu, damaging power and communications lines"/>
          <p:cNvPicPr/>
          <p:nvPr/>
        </p:nvPicPr>
        <p:blipFill>
          <a:blip r:embed="rId3"/>
          <a:stretch/>
        </p:blipFill>
        <p:spPr>
          <a:xfrm>
            <a:off x="5105520" y="3962520"/>
            <a:ext cx="350496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El Nino - Fr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(p. 5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Imp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Impa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581280" y="3048120"/>
            <a:ext cx="205740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3581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N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no – Research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he article be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where it says global impacts and choose additional articles if necess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eate a list of the positive and negative effects of El Ni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t least five effects (it doesn’t matter the breakdown of events just have 5 total, example: 4 positive, 1 neg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3:56:33Z</dcterms:created>
  <dc:creator>CFISD</dc:creator>
  <dc:description/>
  <dc:language>en-US</dc:language>
  <cp:lastModifiedBy>CFISD</cp:lastModifiedBy>
  <dcterms:modified xsi:type="dcterms:W3CDTF">2009-01-20T13:57:06Z</dcterms:modified>
  <cp:revision>1</cp:revision>
  <dc:subject/>
  <dc:title>B. El Nino</dc:title>
</cp:coreProperties>
</file>