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626C-A43B-4751-B9C0-F306E0BCF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30BD-CFE9-4C7C-93D2-09FC7E56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F994-0153-4304-B343-22FD0D18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EAB3-2C4F-48DD-A509-68A11E61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6BA2-CE9D-4E7B-BB9A-B417A11C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2C88-0D50-4124-964C-8B1E83CF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9B74-09CF-4E01-B212-08571AEA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DB16-8DDB-496E-AA37-996F1C90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E925-195F-4A8F-9BD1-86009592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7333-4586-40BB-BC55-EE9F51F8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EA8E-04F7-444A-B1C1-B6B2B120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EC15-4981-4C57-A8E7-D8306D60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3327-FEB8-4430-898D-B4047F15F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eb.venturacountystar.com/special/storm05/nplaconchitaaeriallg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mel.noaa.gov/tao/elnino/impacts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El N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5791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w it happe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ific Ocean water temperatur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hanges wind patter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El N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4197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f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s flooding to regions near the Pacific Oce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mudslides and reduces fishing indus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southern CA mud sli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143000"/>
            <a:ext cx="3581280" cy="2360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A 25ft-high boulder blocked both lanes of a road in Malibu, damaging power and communications lines"/>
          <p:cNvPicPr/>
          <p:nvPr/>
        </p:nvPicPr>
        <p:blipFill>
          <a:blip r:embed="rId3"/>
          <a:stretch/>
        </p:blipFill>
        <p:spPr>
          <a:xfrm>
            <a:off x="5105520" y="3962520"/>
            <a:ext cx="350496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El Nino - Fr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 (p. 5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Impa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 Impa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3581280" y="3048120"/>
            <a:ext cx="2057400" cy="1523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3581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N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Nino – Research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he article bel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where it says global impacts and choose additional articles if necessa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eate a list of the positive and negative effects of El Ni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t least five effects (it doesn’t matter the breakdown of events just have 5 total, example: 4 positive, 1 neg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3:56:33Z</dcterms:created>
  <dc:creator>CFISD</dc:creator>
  <dc:description/>
  <dc:language>en-US</dc:language>
  <cp:lastModifiedBy>CFISD</cp:lastModifiedBy>
  <dcterms:modified xsi:type="dcterms:W3CDTF">2009-01-20T13:57:06Z</dcterms:modified>
  <cp:revision>1</cp:revision>
  <dc:subject/>
  <dc:title>B. El Nino</dc:title>
</cp:coreProperties>
</file>