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6D2F-D4B3-4D75-A48D-EB98D85B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26D2-A346-4213-B16E-F6812222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3018-58B8-453C-9EEB-BB1D29015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731E-791D-4702-820E-02DD3E926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BE0C-11FC-4F62-A32D-A4884B8D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E530-3052-4914-B758-944E721D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82D8-D371-41A8-8DF4-1FA64CA0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9D53-2B98-49C4-BA93-3A1A1A0A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6418-0B10-4D4E-A1D6-98AFFAC5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8ECA-C881-4527-A59A-6B96CD1A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F6AD-E717-4688-996B-B48CBDF6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8C2B-6184-468A-BF37-6D16F027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9892-40F1-40A2-8E47-65E3BEC29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eb.venturacountystar.com/special/storm05/nplaconchitaaeriallg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mel.noaa.gov/tao/elnino/impacts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El N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57913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w it happe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ific Ocean water temperature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hanges wind patter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El N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4197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ff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ngs flooding to regions near the Pacific Oce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mudslides and reduces fishing indus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southern CA mud sli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143000"/>
            <a:ext cx="3581280" cy="2360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A 25ft-high boulder blocked both lanes of a road in Malibu, damaging power and communications lines"/>
          <p:cNvPicPr/>
          <p:nvPr/>
        </p:nvPicPr>
        <p:blipFill>
          <a:blip r:embed="rId3"/>
          <a:stretch/>
        </p:blipFill>
        <p:spPr>
          <a:xfrm>
            <a:off x="5105520" y="3962520"/>
            <a:ext cx="350496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El Nino - Fr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 (p. 5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Impa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 Impa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3581280" y="3048120"/>
            <a:ext cx="2057400" cy="1523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33920" y="3581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N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Nino – Research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he article bel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where it says global impacts and choose additional articles if necessa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reate a list of the positive and negative effects of El Ni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t least five effects (it doesn’t matter the breakdown of events just have 5 total, example: 4 positive, 1 nega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3:56:33Z</dcterms:created>
  <dc:creator>CFISD</dc:creator>
  <dc:description/>
  <dc:language>en-US</dc:language>
  <cp:lastModifiedBy>CFISD</cp:lastModifiedBy>
  <dcterms:modified xsi:type="dcterms:W3CDTF">2009-01-20T13:57:06Z</dcterms:modified>
  <cp:revision>1</cp:revision>
  <dc:subject/>
  <dc:title>B. El Nino</dc:title>
</cp:coreProperties>
</file>