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E158-A4B8-4B80-94E9-73182C10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C8A3-D57D-4F2D-A2A9-9F2821A7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D2A-DAC4-4FE5-AE24-9E1BB9C2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BAC6-C81A-4ED5-93C8-76C2EE98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C8A-1695-4E34-9BF1-88F4ED583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FF4C-661B-49B7-AEAB-0F903B42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880-1B80-4877-847E-FC155D5A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6E9-0FEC-44D4-B724-336FAAAF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981-3C2C-45FE-BAE2-89EFAAF4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F01-E9DC-45DD-86BE-79C70F7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1CB0-5D07-419B-A548-101940D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5CFD-35CB-4504-B430-F5735163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DE809-3003-4E5A-9298-874D53AD6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514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62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7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always has a command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always has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2971800"/>
            <a:ext cx="434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controls everything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029200"/>
            <a:ext cx="4419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ople and their demand control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resources – natural resources that can be replenish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renewable resources – natural resources that will run out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up a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name of the natural resource and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head down, eyes cl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 to show your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 up your head when you hear the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343400" y="2057400"/>
          <a:ext cx="4495680" cy="33066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ble or Nonrenew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4197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0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6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2388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2:05:27Z</dcterms:created>
  <dc:creator>CFISD</dc:creator>
  <dc:description/>
  <dc:language>en-US</dc:language>
  <cp:lastModifiedBy>CFISD</cp:lastModifiedBy>
  <dcterms:modified xsi:type="dcterms:W3CDTF">2008-10-08T22:05:48Z</dcterms:modified>
  <cp:revision>1</cp:revision>
  <dc:subject/>
  <dc:title>Review</dc:title>
</cp:coreProperties>
</file>