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shreg.wav" ContentType="audio/x-wav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475-C788-48A6-A7B1-B0ACFE85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CB8-0FD5-41E7-BA22-023AE8AB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04D-E61A-4018-B4C0-9C65484A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E4A-0520-452A-B6B9-ED647FEA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F90-0040-4274-9226-E890321E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ADD-02BD-4DE6-B8BF-545D3354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674-2B76-4DAF-9390-029FFC54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BCF-E088-4A44-B5DB-03771141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750-E671-4913-BE93-2F9E3EA4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AA1-8B08-4F63-AE53-50EDCC2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5C6-C416-47C6-AC35-24685070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C1F-D449-434E-A1AC-9E01E741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CF19-2989-4D89-BDC0-646719FF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25146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162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40384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07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– Part O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always has a command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always has a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2971800"/>
            <a:ext cx="434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 controls everything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5029200"/>
            <a:ext cx="4419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eople and their demand control everyth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– Part 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able resources – natural resources that can be replenishe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renewable resources – natural resources that will run out even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828800"/>
            <a:ext cx="3962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up a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name of the natural resource and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your head down, eyes cl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your hand to show your answ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 up your head when you hear the s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343400" y="2057400"/>
          <a:ext cx="4495680" cy="33066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wable or Nonrenew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419720" y="32004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00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renew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62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2388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2:05:27Z</dcterms:created>
  <dc:creator>CFISD</dc:creator>
  <dc:description/>
  <dc:language>en-US</dc:language>
  <cp:lastModifiedBy>CFISD</cp:lastModifiedBy>
  <dcterms:modified xsi:type="dcterms:W3CDTF">2008-10-08T22:05:48Z</dcterms:modified>
  <cp:revision>1</cp:revision>
  <dc:subject/>
  <dc:title>Review</dc:title>
</cp:coreProperties>
</file>