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ashreg.wav" ContentType="audio/x-wav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167-8791-4F75-8DD1-8D5A6DAE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73F-C6E1-4CB9-8402-E2E604C3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B92-2A97-4DFB-8C9C-626B7285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085-A73A-46D7-9FBF-3BC8F554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C49-3CC8-4EC6-8288-CDA2255B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1D2-111B-4AC6-B0A0-59AE3D0F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114-AA26-4F43-8312-32F40292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FB7-E64C-4656-AE21-37B4CBE7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880-41A5-4805-ACE1-6CE603AC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78A-E705-4391-963C-490A1FDE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8888-B90C-4A5C-98BD-6BEBA845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E1F-CA17-4C84-988E-77E7D597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9860-7EF5-4363-8A3B-F70F466C2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251460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4162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403848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07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– Part O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 always has a command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y always has a mark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2971800"/>
            <a:ext cx="434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vernment controls everything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5029200"/>
            <a:ext cx="4419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eople and their demand control everyth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– Part 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ewable resources – natural resources that can be replenished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renewable resources – natural resources that will run out event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828800"/>
            <a:ext cx="3962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ut up a pic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name of the natural resource and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your head down, eyes cl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your hand to show your answ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 up your head when you hear the sou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343400" y="2057400"/>
          <a:ext cx="4495680" cy="3306600"/>
        </p:xfrm>
        <a:graphic>
          <a:graphicData uri="http://schemas.openxmlformats.org/drawingml/2006/table">
            <a:tbl>
              <a:tblPr/>
              <a:tblGrid>
                <a:gridCol w="1828800"/>
                <a:gridCol w="266688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ewable or Nonrenew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4419720" y="32004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a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3200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renew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7628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2388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2:05:27Z</dcterms:created>
  <dc:creator>CFISD</dc:creator>
  <dc:description/>
  <dc:language>en-US</dc:language>
  <cp:lastModifiedBy>CFISD</cp:lastModifiedBy>
  <dcterms:modified xsi:type="dcterms:W3CDTF">2008-10-08T22:05:48Z</dcterms:modified>
  <cp:revision>1</cp:revision>
  <dc:subject/>
  <dc:title>Review</dc:title>
</cp:coreProperties>
</file>