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ashreg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0EE4-C45B-4055-AFE8-095060DB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9646-DDF4-4125-97E9-15B76498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4D2-478E-42EC-98BB-2B30F417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AD02-3B90-4763-BECC-6F6ACBFF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6AE9-D777-4ED1-97DF-6D3A6A97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752-2E01-4C27-A013-BFA9635F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5F2D-101D-4213-8CDA-3DB642B6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8DA6-82C3-4B44-A87A-CE0392BB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005-C91C-4CA0-926C-52A3F7C9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4A6-F628-4E73-A894-E30C6F91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93E2-1CDB-42C5-8E7E-E43BF598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0EE-C93C-45B2-8E1D-1101B574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0BB7-7B84-4C89-940D-BA51F43424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514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0" y="1295280"/>
            <a:ext cx="4162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403848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6073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On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sm always has a command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cracy always has a mark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2971800"/>
            <a:ext cx="4343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vernment controls everything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029200"/>
            <a:ext cx="4419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eople and their demand control every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– Part 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ewable resources – natural resources that can be replenished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renewable resources – natural resources that will run out even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182880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ut up a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name of the natural resource and your ans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your head down, eyes clo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your hand to show your answ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t up your head when you hear the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343400" y="2057400"/>
          <a:ext cx="4495680" cy="3306600"/>
        </p:xfrm>
        <a:graphic>
          <a:graphicData uri="http://schemas.openxmlformats.org/drawingml/2006/table">
            <a:tbl>
              <a:tblPr/>
              <a:tblGrid>
                <a:gridCol w="1828800"/>
                <a:gridCol w="2666880"/>
              </a:tblGrid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ewable or Nonrenew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4419720" y="3200400"/>
            <a:ext cx="167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3200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an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32004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renew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1600200"/>
            <a:ext cx="47628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n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23888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bbe0e3"/>
            </a:gs>
            <a:gs pos="100000">
              <a:srgbClr val="8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newable or Nonrenew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438280" y="510552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enewabl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2:05:27Z</dcterms:created>
  <dc:creator>CFISD</dc:creator>
  <dc:description/>
  <dc:language>en-US</dc:language>
  <cp:lastModifiedBy>CFISD</cp:lastModifiedBy>
  <dcterms:modified xsi:type="dcterms:W3CDTF">2008-10-08T22:05:48Z</dcterms:modified>
  <cp:revision>1</cp:revision>
  <dc:subject/>
  <dc:title>Review</dc:title>
</cp:coreProperties>
</file>