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ashreg.wav" ContentType="audio/x-wav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E98-E300-4E30-BA3B-2CCB1F05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BF6-A29B-403A-8C26-0E9389FB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A87-4EE7-4E2C-A8EB-3A04F6B4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43C-5CC9-4519-AE6F-9D805930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F68-1D33-4467-BB8E-81BEF504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CEB-87A9-4424-A2AB-7641CF15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4F2-9A21-4CDA-B0A0-7B812A64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443-E426-43E7-BE31-40EBE05D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33F-1324-46E0-9B2C-662C0A30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ACB-2CAD-4C85-9293-4BB08619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DC5-0C3F-470A-8B17-FFDC0068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DB0-AA57-475D-B893-A2D34001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F7AF-5CA8-45E8-9D5D-67B0EE075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25146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162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40384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07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– Part O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always has a command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always has a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2971800"/>
            <a:ext cx="434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vernment controls everything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5029200"/>
            <a:ext cx="4419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eople and their demand control everyth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– Part 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able resources – natural resources that can be replenishe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renewable resources – natural resources that will run out even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828800"/>
            <a:ext cx="3962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up a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name of the natural resource and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your head down, eyes cl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your hand to show your answ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 up your head when you hear the s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343400" y="2057400"/>
          <a:ext cx="4495680" cy="33066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wable or Nonrenew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419720" y="32004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a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00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renew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62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2388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2:05:27Z</dcterms:created>
  <dc:creator>CFISD</dc:creator>
  <dc:description/>
  <dc:language>en-US</dc:language>
  <cp:lastModifiedBy>CFISD</cp:lastModifiedBy>
  <dcterms:modified xsi:type="dcterms:W3CDTF">2008-10-08T22:05:48Z</dcterms:modified>
  <cp:revision>1</cp:revision>
  <dc:subject/>
  <dc:title>Review</dc:title>
</cp:coreProperties>
</file>