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FDEB-3279-4957-A7B4-2CEBAEB4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0FC-EA42-4F97-83C1-1F1514FD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5A6-546E-49BB-9780-26D462F7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C5A-6CBC-461E-B42B-0A5C0E74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A29-01B2-42EB-B1B7-898C3CB0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101F-2CD2-4F7D-B644-AF214C9B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7F2C-9BA4-49D5-8733-09467D11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F4DC-7108-4461-A616-E2FFE430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A68-4E08-46E6-A896-ABF78FEF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0CC-37AE-40A6-B064-0C95F5EF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4BC-CD59-4DAC-BE98-0021FF07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A5FC-EA5B-41A7-AD9B-238E2FE7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C9B4-2B56-44B6-A3B1-8454FFFE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514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62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7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always has a command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always has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2971800"/>
            <a:ext cx="434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controls everything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029200"/>
            <a:ext cx="4419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ople and their demand control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resources – natural resources that can be replenish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renewable resources – natural resources that will run out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up a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name of the natural resource and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head down, eyes cl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 to show your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 up your head when you hear the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343400" y="2057400"/>
          <a:ext cx="4495680" cy="33066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ble or Nonrenew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4197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0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6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2388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2:05:27Z</dcterms:created>
  <dc:creator>CFISD</dc:creator>
  <dc:description/>
  <dc:language>en-US</dc:language>
  <cp:lastModifiedBy>CFISD</cp:lastModifiedBy>
  <dcterms:modified xsi:type="dcterms:W3CDTF">2008-10-08T22:05:48Z</dcterms:modified>
  <cp:revision>1</cp:revision>
  <dc:subject/>
  <dc:title>Review</dc:title>
</cp:coreProperties>
</file>