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342F0-8621-41FE-A5ED-98C2AD7B0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D8C11-58C5-42A0-AF17-E1478B01E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1EBEC-5BA3-4CF9-8EA5-B46B62B94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BFDD7-E1C1-4E48-9233-3AC8A92F5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B849D-0E26-484A-827E-1F32D2A0A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8A53B-598D-43EC-BCCF-0EE62A4D9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4A6A9-C520-4F78-81BD-F941354C6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46DE9-B0DB-4372-8820-B76731F4D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8A1E3-26FB-41AF-9195-856227B65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B763B-167C-40C7-A6E4-A5E7E7A57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8FE7F-9B2E-4914-AB45-27E14465B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0A0B6-11A8-408F-832A-541077944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734E-9F14-4B34-8154-C2AA30E6B2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nn.com/2009/WORLD/africa/03/04/darfur.rape/index.html?iref=newssearch#cnnSTCText"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11201400"/>
          </a:xfrm>
          <a:prstGeom prst="rect">
            <a:avLst/>
          </a:prstGeom>
          <a:ln w="0">
            <a:noFill/>
          </a:ln>
        </p:spPr>
      </p:pic>
      <p:sp>
        <p:nvSpPr>
          <p:cNvPr id="44" name=""/>
          <p:cNvSpPr/>
          <p:nvPr/>
        </p:nvSpPr>
        <p:spPr>
          <a:xfrm>
            <a:off x="0" y="152280"/>
            <a:ext cx="2895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many, traumatized women and children we've interviewed, distraught families, unable to protect themselves. The pain we put them through, to recount, to relive, their nightmares.”</a:t>
            </a:r>
            <a:endParaRPr b="0" lang="en-US" sz="2400" spc="-1" strike="noStrike">
              <a:solidFill>
                <a:srgbClr val="000000"/>
              </a:solidFill>
              <a:latin typeface="Arial"/>
            </a:endParaRPr>
          </a:p>
        </p:txBody>
      </p:sp>
      <p:sp>
        <p:nvSpPr>
          <p:cNvPr id="45" name=""/>
          <p:cNvSpPr/>
          <p:nvPr/>
        </p:nvSpPr>
        <p:spPr>
          <a:xfrm>
            <a:off x="0" y="4800600"/>
            <a:ext cx="426708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2"/>
              </a:rPr>
              <a:t>http://www.cnn.com/2009/WORLD/africa/03/04/darfur.rape/index.html?iref=newssearch#cnnSTCText</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stmarytx.edu/ppc/content/2007_08.html</a:t>
            </a:r>
            <a:endParaRPr b="0" lang="en-US" sz="900" spc="-1" strike="noStrike">
              <a:solidFill>
                <a:srgbClr val="000000"/>
              </a:solidFill>
              <a:latin typeface="Arial"/>
            </a:endParaRPr>
          </a:p>
        </p:txBody>
      </p:sp>
      <p:sp>
        <p:nvSpPr>
          <p:cNvPr id="46" name=""/>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00-320-0095/ Learn More./ Take Action/ www.savedarfur.org</a:t>
            </a:r>
            <a:endParaRPr b="0" lang="en-US" sz="2400" spc="-1" strike="noStrike">
              <a:solidFill>
                <a:srgbClr val="000000"/>
              </a:solidFill>
              <a:latin typeface="Arial"/>
            </a:endParaRPr>
          </a:p>
        </p:txBody>
      </p:sp>
      <p:sp>
        <p:nvSpPr>
          <p:cNvPr id="47" name=""/>
          <p:cNvSpPr/>
          <p:nvPr/>
        </p:nvSpPr>
        <p:spPr>
          <a:xfrm>
            <a:off x="5943600" y="0"/>
            <a:ext cx="304812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ocide is happening in Darfur. You can help end it. You have a bad day. You lose your phone. They have a bad day. They lose their life. Genocide is inhumanely killing people everyday for control over water and land. We can fix this problem, but we can’t do it alone. JOIN 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01:52:47Z</dcterms:created>
  <dc:creator>dzarosky</dc:creator>
  <dc:description/>
  <dc:language>en-US</dc:language>
  <cp:lastModifiedBy>dzarosky</cp:lastModifiedBy>
  <dcterms:modified xsi:type="dcterms:W3CDTF">2009-05-26T02:22:17Z</dcterms:modified>
  <cp:revision>2</cp:revision>
  <dc:subject/>
  <dc:title>Slide 1</dc:title>
</cp:coreProperties>
</file>