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8C76A-B9A4-4E4F-B05A-60BD23B7D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5668-9CB2-49A0-8A4C-5ADFE3C9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62A2C-521D-44E9-96F7-94D45AB2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44799-42CB-4266-9D8F-74E5B8E05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FC596-4C2E-4AF7-A1F1-C2EFD17E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28333-916A-4E19-8A1D-321FCBF43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BC52E-7BE1-44A9-86BC-1F508E815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07F4A-48B3-4298-9910-AA32D168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8CFD0-F495-4512-9C00-CED504862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ED617-52A0-48F1-A9A6-02D3DF13D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7E17-6E5F-4AE5-BA96-BD93B821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2FE4-3AC0-402C-B41D-6449F211C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9AB5-1EEC-4D99-B6F7-33B078B07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2:17Z</dcterms:modified>
  <cp:revision>2</cp:revision>
  <dc:subject/>
  <dc:title>Slide 1</dc:title>
</cp:coreProperties>
</file>