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3E5CE-48BC-4572-A519-832951690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7CE31-4517-4B6D-B7BD-3246A3B4F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3F67D4-A7C6-40FB-9C47-F954C682D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9647B-6926-49C7-B1D4-02E6392BA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F99DA-326A-45A5-9CDA-6591BA00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7F955-287F-449C-914A-0FE7B4B42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C71E8-32AD-4AB1-B91D-062C6610F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29F1C-CEBD-4A2E-A062-F07FAECA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E126D-21F4-4812-B686-41280441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C94D7-E2C5-4ABE-A037-0F20C6BBE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85306-5877-42C2-A8A1-3D30DA104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9DC68-07ED-47F8-B724-BABE174AAF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D60E-6DB5-443D-83A8-01DF3C6B1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2009/WORLD/africa/03/04/darfur.rape/index.html?iref=newssearch#cnnSTCText"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11201400"/>
          </a:xfrm>
          <a:prstGeom prst="rect">
            <a:avLst/>
          </a:prstGeom>
          <a:ln w="0">
            <a:noFill/>
          </a:ln>
        </p:spPr>
      </p:pic>
      <p:sp>
        <p:nvSpPr>
          <p:cNvPr id="44" name=""/>
          <p:cNvSpPr/>
          <p:nvPr/>
        </p:nvSpPr>
        <p:spPr>
          <a:xfrm>
            <a:off x="0" y="152280"/>
            <a:ext cx="2895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ny, traumatized women and children we've interviewed, distraught families, unable to protect themselves. The pain we put them through, to recount, to relive, their nightmares.”</a:t>
            </a:r>
            <a:endParaRPr b="0" lang="en-US" sz="2400" spc="-1" strike="noStrike">
              <a:solidFill>
                <a:srgbClr val="000000"/>
              </a:solidFill>
              <a:latin typeface="Arial"/>
            </a:endParaRPr>
          </a:p>
        </p:txBody>
      </p:sp>
      <p:sp>
        <p:nvSpPr>
          <p:cNvPr id="45" name=""/>
          <p:cNvSpPr/>
          <p:nvPr/>
        </p:nvSpPr>
        <p:spPr>
          <a:xfrm>
            <a:off x="0" y="4800600"/>
            <a:ext cx="426708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cnn.com/2009/WORLD/africa/03/04/darfur.rape/index.html?iref=newssearch#cnnSTCTex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marytx.edu/ppc/content/2007_08.html</a:t>
            </a:r>
            <a:endParaRPr b="0" lang="en-US" sz="900" spc="-1" strike="noStrike">
              <a:solidFill>
                <a:srgbClr val="000000"/>
              </a:solidFill>
              <a:latin typeface="Arial"/>
            </a:endParaRPr>
          </a:p>
        </p:txBody>
      </p:sp>
      <p:sp>
        <p:nvSpPr>
          <p:cNvPr id="46"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0-320-0095/ Learn More./ Take Action/ www.savedarfur.org</a:t>
            </a:r>
            <a:endParaRPr b="0" lang="en-US" sz="2400" spc="-1" strike="noStrike">
              <a:solidFill>
                <a:srgbClr val="000000"/>
              </a:solidFill>
              <a:latin typeface="Arial"/>
            </a:endParaRPr>
          </a:p>
        </p:txBody>
      </p:sp>
      <p:sp>
        <p:nvSpPr>
          <p:cNvPr id="47" name=""/>
          <p:cNvSpPr/>
          <p:nvPr/>
        </p:nvSpPr>
        <p:spPr>
          <a:xfrm>
            <a:off x="5943600" y="0"/>
            <a:ext cx="30481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is happening in Darfur. You can help end it. You have a bad day. You lose your phone. They have a bad day. They lose their life. Genocide is inhumanely killing people everyday for control over water and land. We can fix this problem, but we can’t do it alone. JOIN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1:52:47Z</dcterms:created>
  <dc:creator>dzarosky</dc:creator>
  <dc:description/>
  <dc:language>en-US</dc:language>
  <cp:lastModifiedBy>dzarosky</cp:lastModifiedBy>
  <dcterms:modified xsi:type="dcterms:W3CDTF">2009-05-26T02:22:17Z</dcterms:modified>
  <cp:revision>2</cp:revision>
  <dc:subject/>
  <dc:title>Slide 1</dc:title>
</cp:coreProperties>
</file>