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CEEA-5E82-450E-A732-59B64AA2B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DB51-E578-4A36-9A47-B35D4A23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57AC-27FE-40F7-A57F-CCABE108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D2F0-F10A-4F6E-8A23-49307F70C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D9C8-E708-4CCD-98F0-DEBEEC9B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E7A2-19DA-4476-A779-092EB034D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6B85-3194-43BA-9A18-F8579CC0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2055-F848-4618-A56F-825CFA6D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21EC-235D-4E7D-860E-58A320D0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0044-77C7-4257-B08A-E098DCFB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EDAC-1903-429B-8C9D-E00C49EF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CF4B-87F4-428B-A65A-252269B7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00E1-7A02-42B5-8C52-2D69E5893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and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295280"/>
          <a:ext cx="8229600" cy="510408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s of Economic 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Diffus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US and Canad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/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Line 41"/>
          <p:cNvSpPr/>
          <p:nvPr/>
        </p:nvSpPr>
        <p:spPr>
          <a:xfrm>
            <a:off x="457200" y="510552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 and Canada - Less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processes cre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mig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ush and pul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push and pul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ban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$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rastru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global and regional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and Canada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 Ques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hat has made the US and Canada so wealth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has the US developed infrastructure to help them trade regionally and globall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What caused the US to become so culturally divers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 and Canada Cover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nd the next fresh page in your note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se it to create a cove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r cover page should include the follow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on Top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b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n th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sential Questions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1066680"/>
          <a:ext cx="8839440" cy="5683320"/>
        </p:xfrm>
        <a:graphic>
          <a:graphicData uri="http://schemas.openxmlformats.org/drawingml/2006/table">
            <a:tbl>
              <a:tblPr/>
              <a:tblGrid>
                <a:gridCol w="2863800"/>
                <a:gridCol w="1936800"/>
                <a:gridCol w="2133720"/>
                <a:gridCol w="1905120"/>
              </a:tblGrid>
              <a:tr h="80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ential Ques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on (10/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 (11/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etch (11/5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What has made the US and Canada so wealthy?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Write your prediction here&gt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ow has the US developed infrastructure to help them trade regionally and globally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at caused the US to become so culturally diverse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9:23Z</dcterms:created>
  <dc:creator>CFISD</dc:creator>
  <dc:description/>
  <dc:language>en-US</dc:language>
  <cp:lastModifiedBy>CFISD</cp:lastModifiedBy>
  <dcterms:modified xsi:type="dcterms:W3CDTF">2008-10-14T17:44:36Z</dcterms:modified>
  <cp:revision>5</cp:revision>
  <dc:subject/>
  <dc:title>US and Canada</dc:title>
</cp:coreProperties>
</file>