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EFF-75D3-452E-9B27-3809A0D3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741-B862-4CCC-8C2C-3EA2E21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0E2-7FAC-483E-BCFE-70FD86419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CDD9-F6E4-4F1A-A9FE-8ED1F5FC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1F2-2A5D-42C1-BD70-DF3FBF56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7D7-08EE-4EC7-A45C-4C442DFD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58A-16AC-4718-B74B-C452EF50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7726-5284-4426-8F6C-325F52A5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9F5-0CF8-4562-9E57-34FE0CAA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B3B-8FF4-44DF-AD21-80AAB0FB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241-5DBB-41ED-8EE2-BBDAD476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10B-5570-49BF-8CFC-2FEB0317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65FF-9067-4A0E-A91F-36F1010B8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040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cesses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lobal and regiona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has made the US and Canada so wealt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US developed infrastructure to help them trade regionally and glob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caused the US to become so culturally dive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066680"/>
          <a:ext cx="8839440" cy="5683320"/>
        </p:xfrm>
        <a:graphic>
          <a:graphicData uri="http://schemas.openxmlformats.org/drawingml/2006/table">
            <a:tbl>
              <a:tblPr/>
              <a:tblGrid>
                <a:gridCol w="2863800"/>
                <a:gridCol w="1936800"/>
                <a:gridCol w="2133720"/>
                <a:gridCol w="1905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0/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11/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11/5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 has made the US and Canada so wealthy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US developed infrastructure to help them trade regionally and globall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caused the US to become so culturally diver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0-14T17:44:36Z</dcterms:modified>
  <cp:revision>5</cp:revision>
  <dc:subject/>
  <dc:title>US and Canada</dc:title>
</cp:coreProperties>
</file>