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4CE2-C04D-4134-8D40-4FD70E80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5F7B-F967-42EE-A69F-D3154188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9C28-4E02-4DAE-91D3-EED1C346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FB58-BAA9-4C0F-BB41-22947876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BBFF-563A-4A91-8804-932BF744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3745-71F4-4245-AF76-2B0C8783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674D-F291-448B-92AD-3490D0FD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14F-A41B-4861-A7CC-10A02302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C267-7890-4E59-839E-1B8F23C5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234E-2B70-43E7-B986-07C968B3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B71-EEEF-41A4-9B8F-5492CF78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4104-8604-42F9-B02A-606EA903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89CD-4F5D-4DBC-A392-2E7544B23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and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295280"/>
          <a:ext cx="8229600" cy="510408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s of Economic 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Diffus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US and Cana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Line 41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 and Canada -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processes cre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m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ush and pul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ush and pul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ban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$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rastru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global and regional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and Canada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at has made the US and Canada so wealt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has the US developed infrastructure to help them trade regionally and global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caused the US to become so culturally divers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 and Canada Cover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d the next fresh page in your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it to create a cov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cover page should include the follow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Top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b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n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1066680"/>
          <a:ext cx="8839440" cy="5683320"/>
        </p:xfrm>
        <a:graphic>
          <a:graphicData uri="http://schemas.openxmlformats.org/drawingml/2006/table">
            <a:tbl>
              <a:tblPr/>
              <a:tblGrid>
                <a:gridCol w="2863800"/>
                <a:gridCol w="1936800"/>
                <a:gridCol w="2133720"/>
                <a:gridCol w="1905120"/>
              </a:tblGrid>
              <a:tr h="8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on (10/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 (11/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tch (11/5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hat has made the US and Canada so wealthy?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Write your prediction her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ow has the US developed infrastructure to help them trade regionally and globally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at caused the US to become so culturally diverse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9:23Z</dcterms:created>
  <dc:creator>CFISD</dc:creator>
  <dc:description/>
  <dc:language>en-US</dc:language>
  <cp:lastModifiedBy>CFISD</cp:lastModifiedBy>
  <dcterms:modified xsi:type="dcterms:W3CDTF">2008-10-14T17:44:36Z</dcterms:modified>
  <cp:revision>5</cp:revision>
  <dc:subject/>
  <dc:title>US and Canada</dc:title>
</cp:coreProperties>
</file>