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2977-6EE6-48BE-8A99-795CCBA67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5264-F5B0-4A32-8A6B-52B70502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D6CE-9F50-40D2-B85A-4921F27F5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56A6-E8CA-4982-9F30-4D6C52B5C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663B-6F61-4846-964C-E54B32C1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8056-D12D-4B55-9791-296B10F4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FAD8-76BB-49DD-8C2F-5F9530A0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3E10-41EF-4C6A-9CE9-098EC1A2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A87D-E009-4A7C-9E8E-D64A7559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42A0-A37D-4F9D-9D31-FA5DADC5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3244-D6E3-428E-B08A-B1910FC3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7B38-197E-4E11-A959-C222B7C6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1FC8-B703-4B02-A59E-0D9E5CB0C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 and Ca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295280"/>
          <a:ext cx="8229600" cy="5104080"/>
        </p:xfrm>
        <a:graphic>
          <a:graphicData uri="http://schemas.openxmlformats.org/drawingml/2006/table">
            <a:tbl>
              <a:tblPr/>
              <a:tblGrid>
                <a:gridCol w="1600200"/>
                <a:gridCol w="4572000"/>
                <a:gridCol w="205740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s of Economic 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l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tial Diffusi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 Geograph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 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US and Canad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/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Line 41"/>
          <p:cNvSpPr/>
          <p:nvPr/>
        </p:nvSpPr>
        <p:spPr>
          <a:xfrm>
            <a:off x="457200" y="5105520"/>
            <a:ext cx="8229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 and Canada - Les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processes crea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ysical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mig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push and pul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push and pul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rban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$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rastruc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global and regional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 and Canada 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 Ques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at has made the US and Canada so wealth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ow has the US developed infrastructure to help them trade regionally and globall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What caused the US to become so culturally divers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 and Canada Cover 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nd the next fresh page in your note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se it to create a cover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r cover page should include the follow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on Top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b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sential Questions Ch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n th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sential Questions 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280" y="1066680"/>
          <a:ext cx="8839440" cy="5683320"/>
        </p:xfrm>
        <a:graphic>
          <a:graphicData uri="http://schemas.openxmlformats.org/drawingml/2006/table">
            <a:tbl>
              <a:tblPr/>
              <a:tblGrid>
                <a:gridCol w="2863800"/>
                <a:gridCol w="1936800"/>
                <a:gridCol w="2133720"/>
                <a:gridCol w="1905120"/>
              </a:tblGrid>
              <a:tr h="80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ential Ques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iction (10/1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 (11/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etch (11/5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What has made the US and Canada so wealthy?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Write your prediction here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How has the US developed infrastructure to help them trade regionally and globally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What caused the US to become so culturally diverse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1:39:23Z</dcterms:created>
  <dc:creator>CFISD</dc:creator>
  <dc:description/>
  <dc:language>en-US</dc:language>
  <cp:lastModifiedBy>CFISD</cp:lastModifiedBy>
  <dcterms:modified xsi:type="dcterms:W3CDTF">2008-10-14T17:44:36Z</dcterms:modified>
  <cp:revision>5</cp:revision>
  <dc:subject/>
  <dc:title>US and Canada</dc:title>
</cp:coreProperties>
</file>