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0AA4-9718-41F1-AE68-510F28A3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B6E8-5197-400D-BC3F-D13153F8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DCFA-BE5A-4ED8-BAB1-60BF598D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9547-8177-487B-A133-286C4C32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51A-E435-4F64-BEE5-34E35806A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8DD5-FC10-43FB-B0BA-929F4EA8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9A53-B86C-424E-8523-4156BD31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62C7-808D-4A05-9D52-5B32AC04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A31-34DC-422B-A389-AD1EDF69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57DB-B5A6-4026-AA54-7BBA3BA9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9468-E7EA-4DCB-912F-11D268F1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025D-89A6-42C4-969D-FFAE09F2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1092-12BD-4A0E-ABEA-A643823F2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– Turn to p. 91 and add an explanation of Command Economy to your we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46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50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3"/>
          <p:cNvGrpSpPr/>
          <p:nvPr/>
        </p:nvGrpSpPr>
        <p:grpSpPr>
          <a:xfrm>
            <a:off x="3200400" y="5562720"/>
            <a:ext cx="1905120" cy="990360"/>
            <a:chOff x="3200400" y="5562720"/>
            <a:chExt cx="1905120" cy="990360"/>
          </a:xfrm>
        </p:grpSpPr>
        <p:sp>
          <p:nvSpPr>
            <p:cNvPr id="53" name="Oval 14"/>
            <p:cNvSpPr/>
            <p:nvPr/>
          </p:nvSpPr>
          <p:spPr>
            <a:xfrm>
              <a:off x="3200400" y="55627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5"/>
            <p:cNvSpPr/>
            <p:nvPr/>
          </p:nvSpPr>
          <p:spPr>
            <a:xfrm>
              <a:off x="3276720" y="58672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3124080" y="5486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58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62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 are not going to be graded, instead every kid will receive a 65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achers are meeting after school to discuss this deci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your answer to the questions on the next slide and I will take your responses to the meet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se answers in your notebook under the Command Economy notes section, not on your Web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ject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s are not going to be graded, instead every kid will receive a 65%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these answers in your notebook under the Command Economy notes section, not on your Web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. Answer the question below that fits you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turned in a project, how do you feel about this new poli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id not turn in a project, how do you feel about this new policy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will this effect your work in the futur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How is this like a command econom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 20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ion is over and the new US President is a member of the Communist Party. Thu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US economic system switched from a Market Economy to a Command Econom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official US economics paper to complete the following activ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our paper into 6 sectio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e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 pictures that show how your life would be different if this happened in 201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erneath each picture explaining what is happe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one picture for each characteristic and effect of a command econom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sixth box, complete the following statemen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support/do not support this switch in policy becaus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9644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 from a market economy to a command economy.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ion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How would your life be different if the US switched to a command economy? (5 pictures, 5 captions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mplete the statement below in box #6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80880" y="2133720"/>
          <a:ext cx="8458200" cy="435456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206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ment: I support/do not support this change in economic policy because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ry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controls all 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chooses your jo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 is their politica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and their demand controls the econom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can pick their own jobs and work hard for profi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 is their politica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uman Geograp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geography based on man-made cre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3809880" y="1295280"/>
            <a:ext cx="2403720" cy="5257800"/>
            <a:chOff x="3809880" y="1295280"/>
            <a:chExt cx="2403720" cy="5257800"/>
          </a:xfrm>
        </p:grpSpPr>
        <p:pic>
          <p:nvPicPr>
            <p:cNvPr id="218" name="Picture 4" descr="HG Man"/>
            <p:cNvPicPr/>
            <p:nvPr/>
          </p:nvPicPr>
          <p:blipFill>
            <a:blip r:embed="rId2"/>
            <a:srcRect l="15806" t="2856" r="48829" b="2856"/>
            <a:stretch/>
          </p:blipFill>
          <p:spPr>
            <a:xfrm>
              <a:off x="3809880" y="1295280"/>
              <a:ext cx="2403720" cy="525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5" descr=""/>
            <p:cNvPicPr/>
            <p:nvPr/>
          </p:nvPicPr>
          <p:blipFill>
            <a:blip r:embed="rId3"/>
            <a:srcRect l="15127" t="6527" r="12947" b="4351"/>
            <a:stretch/>
          </p:blipFill>
          <p:spPr>
            <a:xfrm>
              <a:off x="4572000" y="1295280"/>
              <a:ext cx="86832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Group 6"/>
          <p:cNvGrpSpPr/>
          <p:nvPr/>
        </p:nvGrpSpPr>
        <p:grpSpPr>
          <a:xfrm>
            <a:off x="5333760" y="304920"/>
            <a:ext cx="3276360" cy="1618560"/>
            <a:chOff x="5333760" y="304920"/>
            <a:chExt cx="3276360" cy="1618560"/>
          </a:xfrm>
        </p:grpSpPr>
        <p:sp>
          <p:nvSpPr>
            <p:cNvPr id="221" name="Text Box 7"/>
            <p:cNvSpPr/>
            <p:nvPr/>
          </p:nvSpPr>
          <p:spPr>
            <a:xfrm>
              <a:off x="6726240" y="304920"/>
              <a:ext cx="1883880" cy="161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litica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– How a country makes laws and policies. (Governmen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8"/>
            <p:cNvSpPr/>
            <p:nvPr/>
          </p:nvSpPr>
          <p:spPr>
            <a:xfrm flipH="1">
              <a:off x="5333760" y="762120"/>
              <a:ext cx="139212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7"/>
          <p:cNvSpPr/>
          <p:nvPr/>
        </p:nvSpPr>
        <p:spPr>
          <a:xfrm>
            <a:off x="6858000" y="3200400"/>
            <a:ext cx="2133720" cy="28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ow a country produces and exchanges goods and services. (Jobs, Money, Goods, Manufacturing, Buying/Sel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8"/>
          <p:cNvSpPr/>
          <p:nvPr/>
        </p:nvSpPr>
        <p:spPr>
          <a:xfrm flipH="1">
            <a:off x="6019920" y="3886200"/>
            <a:ext cx="83808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rcRect l="31312" t="6159" r="32261" b="5590"/>
          <a:stretch/>
        </p:blipFill>
        <p:spPr>
          <a:xfrm rot="880200">
            <a:off x="5486040" y="4343040"/>
            <a:ext cx="511200" cy="6858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04920" y="29718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– Add the economics cut-away box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 rot="20713200">
            <a:off x="3429000" y="4419360"/>
            <a:ext cx="91440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Island Cou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exit ticket form answer the following questions in at least four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ich political system will your Island Country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why you made your cho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ich economic system will your Island Country hav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plain why you made your cho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on’t forget to answer the Question of the Day in your notebook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book 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the NOTES portion of your notebook right before (or after) your Web that we created on Fri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some space after the point where you left of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 today’s notes COMMAND ECONOM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198108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638680" y="1828800"/>
            <a:ext cx="2971800" cy="412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/26   Econo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Economy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/29 Command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ut today’s notes he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 – Add two bubbles to your web, one for characteristics and one for summa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74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78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3"/>
          <p:cNvGrpSpPr/>
          <p:nvPr/>
        </p:nvGrpSpPr>
        <p:grpSpPr>
          <a:xfrm>
            <a:off x="3200400" y="5562720"/>
            <a:ext cx="1905120" cy="990360"/>
            <a:chOff x="3200400" y="5562720"/>
            <a:chExt cx="1905120" cy="990360"/>
          </a:xfrm>
        </p:grpSpPr>
        <p:sp>
          <p:nvSpPr>
            <p:cNvPr id="81" name="Oval 14"/>
            <p:cNvSpPr/>
            <p:nvPr/>
          </p:nvSpPr>
          <p:spPr>
            <a:xfrm>
              <a:off x="3200400" y="55627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5"/>
            <p:cNvSpPr/>
            <p:nvPr/>
          </p:nvSpPr>
          <p:spPr>
            <a:xfrm>
              <a:off x="3276720" y="58672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7"/>
          <p:cNvSpPr/>
          <p:nvPr/>
        </p:nvSpPr>
        <p:spPr>
          <a:xfrm>
            <a:off x="3124080" y="5486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8"/>
          <p:cNvGrpSpPr/>
          <p:nvPr/>
        </p:nvGrpSpPr>
        <p:grpSpPr>
          <a:xfrm>
            <a:off x="152280" y="5715000"/>
            <a:ext cx="2438280" cy="990720"/>
            <a:chOff x="152280" y="5715000"/>
            <a:chExt cx="2438280" cy="990720"/>
          </a:xfrm>
        </p:grpSpPr>
        <p:sp>
          <p:nvSpPr>
            <p:cNvPr id="86" name="Oval 19"/>
            <p:cNvSpPr/>
            <p:nvPr/>
          </p:nvSpPr>
          <p:spPr>
            <a:xfrm>
              <a:off x="152280" y="5715000"/>
              <a:ext cx="243828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20"/>
            <p:cNvSpPr/>
            <p:nvPr/>
          </p:nvSpPr>
          <p:spPr>
            <a:xfrm>
              <a:off x="249840" y="6019920"/>
              <a:ext cx="224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89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Line 24"/>
          <p:cNvSpPr/>
          <p:nvPr/>
        </p:nvSpPr>
        <p:spPr>
          <a:xfrm flipH="1">
            <a:off x="1676160" y="5562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94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30"/>
          <p:cNvGrpSpPr/>
          <p:nvPr/>
        </p:nvGrpSpPr>
        <p:grpSpPr>
          <a:xfrm>
            <a:off x="5486400" y="5638680"/>
            <a:ext cx="1905120" cy="990720"/>
            <a:chOff x="5486400" y="5638680"/>
            <a:chExt cx="1905120" cy="990720"/>
          </a:xfrm>
        </p:grpSpPr>
        <p:sp>
          <p:nvSpPr>
            <p:cNvPr id="98" name="Oval 31"/>
            <p:cNvSpPr/>
            <p:nvPr/>
          </p:nvSpPr>
          <p:spPr>
            <a:xfrm>
              <a:off x="5486400" y="563868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32"/>
            <p:cNvSpPr/>
            <p:nvPr/>
          </p:nvSpPr>
          <p:spPr>
            <a:xfrm>
              <a:off x="5562720" y="5943600"/>
              <a:ext cx="1752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Line 33"/>
          <p:cNvSpPr/>
          <p:nvPr/>
        </p:nvSpPr>
        <p:spPr>
          <a:xfrm>
            <a:off x="5105520" y="6095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66ff3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 products, businesses, and money is controlled by the GOVERN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 to your note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ree products and businesses you supported or used today after you woke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. I used Crest toothpaste, I watched a Samsung TV, and I used gas from Exxon-Mobil to get 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owns all 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990720" y="2286000"/>
            <a:ext cx="2514600" cy="1599840"/>
            <a:chOff x="990720" y="2286000"/>
            <a:chExt cx="2514600" cy="1599840"/>
          </a:xfrm>
        </p:grpSpPr>
        <p:sp>
          <p:nvSpPr>
            <p:cNvPr id="108" name="AutoShape 4"/>
            <p:cNvSpPr/>
            <p:nvPr/>
          </p:nvSpPr>
          <p:spPr>
            <a:xfrm>
              <a:off x="990720" y="2286000"/>
              <a:ext cx="2514600" cy="1599840"/>
            </a:xfrm>
            <a:prstGeom prst="cloudCallout">
              <a:avLst>
                <a:gd name="adj1" fmla="val -32069"/>
                <a:gd name="adj2" fmla="val 5057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3"/>
            <a:srcRect l="0" t="0" r="0" b="17461"/>
            <a:stretch/>
          </p:blipFill>
          <p:spPr>
            <a:xfrm>
              <a:off x="1676520" y="2552400"/>
              <a:ext cx="1295280" cy="93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"/>
          <p:cNvGrpSpPr/>
          <p:nvPr/>
        </p:nvGrpSpPr>
        <p:grpSpPr>
          <a:xfrm>
            <a:off x="3048120" y="3429000"/>
            <a:ext cx="2361960" cy="2695680"/>
            <a:chOff x="3048120" y="3429000"/>
            <a:chExt cx="2361960" cy="2695680"/>
          </a:xfrm>
        </p:grpSpPr>
        <p:pic>
          <p:nvPicPr>
            <p:cNvPr id="111" name="" descr=""/>
            <p:cNvPicPr/>
            <p:nvPr/>
          </p:nvPicPr>
          <p:blipFill>
            <a:blip r:embed="rId4"/>
            <a:stretch/>
          </p:blipFill>
          <p:spPr>
            <a:xfrm>
              <a:off x="3048120" y="3962520"/>
              <a:ext cx="195408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495680" y="3429000"/>
              <a:ext cx="914400" cy="685800"/>
            </a:xfrm>
            <a:prstGeom prst="wedgeRoundRectCallout">
              <a:avLst>
                <a:gd name="adj1" fmla="val -42185"/>
                <a:gd name="adj2" fmla="val 78935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 way.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257800" y="990720"/>
            <a:ext cx="3886200" cy="5672160"/>
            <a:chOff x="5257800" y="990720"/>
            <a:chExt cx="3886200" cy="5672160"/>
          </a:xfrm>
        </p:grpSpPr>
        <p:pic>
          <p:nvPicPr>
            <p:cNvPr id="114" name="" descr=""/>
            <p:cNvPicPr/>
            <p:nvPr/>
          </p:nvPicPr>
          <p:blipFill>
            <a:blip r:embed="rId5"/>
            <a:stretch/>
          </p:blipFill>
          <p:spPr>
            <a:xfrm>
              <a:off x="6248520" y="5410080"/>
              <a:ext cx="1523880" cy="1252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5" name=""/>
            <p:cNvGrpSpPr/>
            <p:nvPr/>
          </p:nvGrpSpPr>
          <p:grpSpPr>
            <a:xfrm>
              <a:off x="5257800" y="990720"/>
              <a:ext cx="3886200" cy="4114800"/>
              <a:chOff x="5257800" y="990720"/>
              <a:chExt cx="3886200" cy="4114800"/>
            </a:xfrm>
          </p:grpSpPr>
          <p:pic>
            <p:nvPicPr>
              <p:cNvPr id="116" name="" descr=""/>
              <p:cNvPicPr/>
              <p:nvPr/>
            </p:nvPicPr>
            <p:blipFill>
              <a:blip r:embed="rId6"/>
              <a:srcRect l="28833" t="20113" r="0" b="13511"/>
              <a:stretch/>
            </p:blipFill>
            <p:spPr>
              <a:xfrm>
                <a:off x="5257800" y="990720"/>
                <a:ext cx="3886200" cy="4114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" name=""/>
              <p:cNvSpPr/>
              <p:nvPr/>
            </p:nvSpPr>
            <p:spPr>
              <a:xfrm>
                <a:off x="6229080" y="3445200"/>
                <a:ext cx="1942920" cy="1008720"/>
              </a:xfrm>
              <a:prstGeom prst="rect">
                <a:avLst/>
              </a:prstGeom>
              <a:solidFill>
                <a:srgbClr val="e4e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99cc"/>
                    </a:solidFill>
                    <a:latin typeface="Arial"/>
                  </a:rPr>
                  <a:t>Property of the Cuban Governmen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696080" y="4800600"/>
              <a:ext cx="1447920" cy="762120"/>
            </a:xfrm>
            <a:prstGeom prst="wedgeRoundRectCallout">
              <a:avLst>
                <a:gd name="adj1" fmla="val -47699"/>
                <a:gd name="adj2" fmla="val 7333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 must live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438280"/>
            <a:ext cx="1447920" cy="1143000"/>
            <a:chOff x="1600200" y="2438280"/>
            <a:chExt cx="1447920" cy="1143000"/>
          </a:xfrm>
        </p:grpSpPr>
        <p:sp>
          <p:nvSpPr>
            <p:cNvPr id="120" name=""/>
            <p:cNvSpPr/>
            <p:nvPr/>
          </p:nvSpPr>
          <p:spPr>
            <a:xfrm flipH="1">
              <a:off x="1676520" y="2438280"/>
              <a:ext cx="1371600" cy="114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00200" y="2514600"/>
              <a:ext cx="144792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owns all l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chooses your job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048120" y="3429000"/>
            <a:ext cx="2361960" cy="2695680"/>
            <a:chOff x="3048120" y="3429000"/>
            <a:chExt cx="2361960" cy="2695680"/>
          </a:xfrm>
        </p:grpSpPr>
        <p:pic>
          <p:nvPicPr>
            <p:cNvPr id="127" name="" descr=""/>
            <p:cNvPicPr/>
            <p:nvPr/>
          </p:nvPicPr>
          <p:blipFill>
            <a:blip r:embed="rId3"/>
            <a:stretch/>
          </p:blipFill>
          <p:spPr>
            <a:xfrm>
              <a:off x="3048120" y="3962520"/>
              <a:ext cx="195408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495680" y="3429000"/>
              <a:ext cx="914400" cy="685800"/>
            </a:xfrm>
            <a:prstGeom prst="wedgeRoundRectCallout">
              <a:avLst>
                <a:gd name="adj1" fmla="val -42185"/>
                <a:gd name="adj2" fmla="val 78935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rry pal.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600200"/>
            <a:ext cx="4724280" cy="5062680"/>
            <a:chOff x="4419720" y="1600200"/>
            <a:chExt cx="4724280" cy="5062680"/>
          </a:xfrm>
        </p:grpSpPr>
        <p:pic>
          <p:nvPicPr>
            <p:cNvPr id="130" name="" descr="Harvesting a Wheat Field - Harvest is usually the busiest time of year for arable farmers.  In the UK most crops are harvested in July, August and the early part of September.  This picture shows a wheat field being harvested near Odell Wold, Bedfordshire early August 2005.&#13;&#10;&#13;&#10;"/>
            <p:cNvPicPr/>
            <p:nvPr/>
          </p:nvPicPr>
          <p:blipFill>
            <a:blip r:embed="rId4"/>
            <a:srcRect l="0" t="23256" r="0" b="0"/>
            <a:stretch/>
          </p:blipFill>
          <p:spPr>
            <a:xfrm>
              <a:off x="4419720" y="1600200"/>
              <a:ext cx="4572000" cy="30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5"/>
            <a:stretch/>
          </p:blipFill>
          <p:spPr>
            <a:xfrm>
              <a:off x="6248520" y="5410080"/>
              <a:ext cx="1523880" cy="12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7696080" y="4800600"/>
              <a:ext cx="1447920" cy="762120"/>
            </a:xfrm>
            <a:prstGeom prst="wedgeRoundRectCallout">
              <a:avLst>
                <a:gd name="adj1" fmla="val -47699"/>
                <a:gd name="adj2" fmla="val 7333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 must work her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990720" y="2133720"/>
            <a:ext cx="2514600" cy="1752480"/>
            <a:chOff x="990720" y="2133720"/>
            <a:chExt cx="2514600" cy="1752480"/>
          </a:xfrm>
        </p:grpSpPr>
        <p:sp>
          <p:nvSpPr>
            <p:cNvPr id="134" name="AutoShape 4"/>
            <p:cNvSpPr/>
            <p:nvPr/>
          </p:nvSpPr>
          <p:spPr>
            <a:xfrm>
              <a:off x="990720" y="2133720"/>
              <a:ext cx="2514600" cy="1752480"/>
            </a:xfrm>
            <a:prstGeom prst="cloudCallout">
              <a:avLst>
                <a:gd name="adj1" fmla="val -32069"/>
                <a:gd name="adj2" fmla="val 5054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" descr=""/>
            <p:cNvPicPr/>
            <p:nvPr/>
          </p:nvPicPr>
          <p:blipFill>
            <a:blip r:embed="rId6"/>
            <a:srcRect l="9764" t="4234" r="7244" b="11130"/>
            <a:stretch/>
          </p:blipFill>
          <p:spPr>
            <a:xfrm>
              <a:off x="1752480" y="2362320"/>
              <a:ext cx="1101960" cy="129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1600200" y="2438280"/>
            <a:ext cx="1447920" cy="1143000"/>
            <a:chOff x="1600200" y="2438280"/>
            <a:chExt cx="1447920" cy="1143000"/>
          </a:xfrm>
        </p:grpSpPr>
        <p:sp>
          <p:nvSpPr>
            <p:cNvPr id="137" name=""/>
            <p:cNvSpPr/>
            <p:nvPr/>
          </p:nvSpPr>
          <p:spPr>
            <a:xfrm flipH="1">
              <a:off x="1676520" y="2438280"/>
              <a:ext cx="1371600" cy="114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0200" y="2514600"/>
              <a:ext cx="144792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990720" y="2133720"/>
            <a:ext cx="2514600" cy="1904760"/>
            <a:chOff x="990720" y="2133720"/>
            <a:chExt cx="2514600" cy="1904760"/>
          </a:xfrm>
        </p:grpSpPr>
        <p:sp>
          <p:nvSpPr>
            <p:cNvPr id="143" name="AutoShape 4"/>
            <p:cNvSpPr/>
            <p:nvPr/>
          </p:nvSpPr>
          <p:spPr>
            <a:xfrm>
              <a:off x="990720" y="2133720"/>
              <a:ext cx="2514600" cy="1904760"/>
            </a:xfrm>
            <a:prstGeom prst="cloudCallout">
              <a:avLst>
                <a:gd name="adj1" fmla="val -32069"/>
                <a:gd name="adj2" fmla="val 4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1676520" y="2514600"/>
              <a:ext cx="1143000" cy="10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77920" indent="-27792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owns all la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chooses your job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-250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VERNMENT owns all business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3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895480" y="3657600"/>
            <a:ext cx="2971800" cy="2868480"/>
            <a:chOff x="2895480" y="3657600"/>
            <a:chExt cx="2971800" cy="2868480"/>
          </a:xfrm>
        </p:grpSpPr>
        <p:pic>
          <p:nvPicPr>
            <p:cNvPr id="147" name="" descr=""/>
            <p:cNvPicPr/>
            <p:nvPr/>
          </p:nvPicPr>
          <p:blipFill>
            <a:blip r:embed="rId4"/>
            <a:stretch/>
          </p:blipFill>
          <p:spPr>
            <a:xfrm>
              <a:off x="2895480" y="5029200"/>
              <a:ext cx="1524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3962520" y="3657600"/>
              <a:ext cx="1904760" cy="1143000"/>
            </a:xfrm>
            <a:prstGeom prst="wedgeRoundRectCallout">
              <a:avLst>
                <a:gd name="adj1" fmla="val -31583"/>
                <a:gd name="adj2" fmla="val 79583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w many times do I gotta tell you no.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657600" y="1752480"/>
            <a:ext cx="5257800" cy="4910400"/>
            <a:chOff x="3657600" y="1752480"/>
            <a:chExt cx="5257800" cy="4910400"/>
          </a:xfrm>
        </p:grpSpPr>
        <p:pic>
          <p:nvPicPr>
            <p:cNvPr id="150" name="" descr=""/>
            <p:cNvPicPr/>
            <p:nvPr/>
          </p:nvPicPr>
          <p:blipFill>
            <a:blip r:embed="rId5"/>
            <a:srcRect l="8027" t="12881" r="0" b="14732"/>
            <a:stretch/>
          </p:blipFill>
          <p:spPr>
            <a:xfrm>
              <a:off x="3657600" y="1752480"/>
              <a:ext cx="5238720" cy="2971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1" name=""/>
            <p:cNvGrpSpPr/>
            <p:nvPr/>
          </p:nvGrpSpPr>
          <p:grpSpPr>
            <a:xfrm>
              <a:off x="5715000" y="4191120"/>
              <a:ext cx="3200400" cy="2471760"/>
              <a:chOff x="5715000" y="4191120"/>
              <a:chExt cx="3200400" cy="2471760"/>
            </a:xfrm>
          </p:grpSpPr>
          <p:pic>
            <p:nvPicPr>
              <p:cNvPr id="15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715000" y="5410080"/>
                <a:ext cx="1523880" cy="12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>
                <a:off x="6858000" y="4191120"/>
                <a:ext cx="2057400" cy="1371600"/>
              </a:xfrm>
              <a:prstGeom prst="wedgeRoundRectCallout">
                <a:avLst>
                  <a:gd name="adj1" fmla="val -40356"/>
                  <a:gd name="adj2" fmla="val 63888"/>
                  <a:gd name="adj3" fmla="val 16667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o privately owned businesses.  Get in the food lines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1523880" y="2438280"/>
            <a:ext cx="1447920" cy="1143000"/>
            <a:chOff x="1523880" y="2438280"/>
            <a:chExt cx="1447920" cy="1143000"/>
          </a:xfrm>
        </p:grpSpPr>
        <p:sp>
          <p:nvSpPr>
            <p:cNvPr id="155" name=""/>
            <p:cNvSpPr/>
            <p:nvPr/>
          </p:nvSpPr>
          <p:spPr>
            <a:xfrm flipH="1">
              <a:off x="1600200" y="2438280"/>
              <a:ext cx="1371600" cy="1143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23880" y="2514600"/>
              <a:ext cx="1447920" cy="1066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5 – Effects of Command Econo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3390840" y="3809880"/>
            <a:ext cx="224784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conomic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6"/>
          <p:cNvSpPr/>
          <p:nvPr/>
        </p:nvSpPr>
        <p:spPr>
          <a:xfrm>
            <a:off x="4876920" y="2666880"/>
            <a:ext cx="1676160" cy="91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Ec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2"/>
          <p:cNvSpPr/>
          <p:nvPr/>
        </p:nvSpPr>
        <p:spPr>
          <a:xfrm flipV="1">
            <a:off x="502920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6"/>
          <p:cNvGrpSpPr/>
          <p:nvPr/>
        </p:nvGrpSpPr>
        <p:grpSpPr>
          <a:xfrm>
            <a:off x="1523880" y="4648320"/>
            <a:ext cx="1905120" cy="990360"/>
            <a:chOff x="1523880" y="4648320"/>
            <a:chExt cx="1905120" cy="990360"/>
          </a:xfrm>
        </p:grpSpPr>
        <p:sp>
          <p:nvSpPr>
            <p:cNvPr id="162" name="Oval 7"/>
            <p:cNvSpPr/>
            <p:nvPr/>
          </p:nvSpPr>
          <p:spPr>
            <a:xfrm>
              <a:off x="1523880" y="46483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8"/>
            <p:cNvSpPr/>
            <p:nvPr/>
          </p:nvSpPr>
          <p:spPr>
            <a:xfrm>
              <a:off x="1828800" y="480024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and Econom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Line 9"/>
          <p:cNvSpPr/>
          <p:nvPr/>
        </p:nvSpPr>
        <p:spPr>
          <a:xfrm flipH="1">
            <a:off x="3124080" y="44956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10"/>
          <p:cNvGrpSpPr/>
          <p:nvPr/>
        </p:nvGrpSpPr>
        <p:grpSpPr>
          <a:xfrm>
            <a:off x="7086600" y="2514600"/>
            <a:ext cx="1905120" cy="990720"/>
            <a:chOff x="7086600" y="2514600"/>
            <a:chExt cx="1905120" cy="990720"/>
          </a:xfrm>
        </p:grpSpPr>
        <p:sp>
          <p:nvSpPr>
            <p:cNvPr id="166" name="Oval 11"/>
            <p:cNvSpPr/>
            <p:nvPr/>
          </p:nvSpPr>
          <p:spPr>
            <a:xfrm>
              <a:off x="7086600" y="251460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7162920" y="281952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3"/>
          <p:cNvGrpSpPr/>
          <p:nvPr/>
        </p:nvGrpSpPr>
        <p:grpSpPr>
          <a:xfrm>
            <a:off x="3200400" y="5562720"/>
            <a:ext cx="1905120" cy="990360"/>
            <a:chOff x="3200400" y="5562720"/>
            <a:chExt cx="1905120" cy="990360"/>
          </a:xfrm>
        </p:grpSpPr>
        <p:sp>
          <p:nvSpPr>
            <p:cNvPr id="169" name="Oval 14"/>
            <p:cNvSpPr/>
            <p:nvPr/>
          </p:nvSpPr>
          <p:spPr>
            <a:xfrm>
              <a:off x="3200400" y="5562720"/>
              <a:ext cx="1905120" cy="99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3276720" y="58672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 Expla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Line 16"/>
          <p:cNvSpPr/>
          <p:nvPr/>
        </p:nvSpPr>
        <p:spPr>
          <a:xfrm flipV="1">
            <a:off x="6553080" y="3047760"/>
            <a:ext cx="5335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7"/>
          <p:cNvSpPr/>
          <p:nvPr/>
        </p:nvSpPr>
        <p:spPr>
          <a:xfrm>
            <a:off x="3124080" y="5486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8"/>
          <p:cNvGrpSpPr/>
          <p:nvPr/>
        </p:nvGrpSpPr>
        <p:grpSpPr>
          <a:xfrm>
            <a:off x="152280" y="5715000"/>
            <a:ext cx="2438280" cy="990720"/>
            <a:chOff x="152280" y="5715000"/>
            <a:chExt cx="2438280" cy="990720"/>
          </a:xfrm>
        </p:grpSpPr>
        <p:sp>
          <p:nvSpPr>
            <p:cNvPr id="174" name="Oval 19"/>
            <p:cNvSpPr/>
            <p:nvPr/>
          </p:nvSpPr>
          <p:spPr>
            <a:xfrm>
              <a:off x="152280" y="5715000"/>
              <a:ext cx="243828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>
              <a:off x="249840" y="6019920"/>
              <a:ext cx="224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1"/>
          <p:cNvGrpSpPr/>
          <p:nvPr/>
        </p:nvGrpSpPr>
        <p:grpSpPr>
          <a:xfrm>
            <a:off x="5486400" y="1066680"/>
            <a:ext cx="2437920" cy="990720"/>
            <a:chOff x="5486400" y="1066680"/>
            <a:chExt cx="2437920" cy="990720"/>
          </a:xfrm>
        </p:grpSpPr>
        <p:sp>
          <p:nvSpPr>
            <p:cNvPr id="177" name="Oval 22"/>
            <p:cNvSpPr/>
            <p:nvPr/>
          </p:nvSpPr>
          <p:spPr>
            <a:xfrm>
              <a:off x="5486400" y="1066680"/>
              <a:ext cx="24379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3"/>
            <p:cNvSpPr/>
            <p:nvPr/>
          </p:nvSpPr>
          <p:spPr>
            <a:xfrm>
              <a:off x="5583960" y="1371600"/>
              <a:ext cx="224280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. Characteris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Line 24"/>
          <p:cNvSpPr/>
          <p:nvPr/>
        </p:nvSpPr>
        <p:spPr>
          <a:xfrm flipH="1">
            <a:off x="1676160" y="556272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5"/>
          <p:cNvSpPr/>
          <p:nvPr/>
        </p:nvSpPr>
        <p:spPr>
          <a:xfrm flipV="1">
            <a:off x="5867280" y="19807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26"/>
          <p:cNvGrpSpPr/>
          <p:nvPr/>
        </p:nvGrpSpPr>
        <p:grpSpPr>
          <a:xfrm>
            <a:off x="7086600" y="3809880"/>
            <a:ext cx="1905120" cy="990720"/>
            <a:chOff x="7086600" y="3809880"/>
            <a:chExt cx="1905120" cy="990720"/>
          </a:xfrm>
        </p:grpSpPr>
        <p:sp>
          <p:nvSpPr>
            <p:cNvPr id="182" name="Oval 27"/>
            <p:cNvSpPr/>
            <p:nvPr/>
          </p:nvSpPr>
          <p:spPr>
            <a:xfrm>
              <a:off x="7086600" y="3809880"/>
              <a:ext cx="1905120" cy="9907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28"/>
            <p:cNvSpPr/>
            <p:nvPr/>
          </p:nvSpPr>
          <p:spPr>
            <a:xfrm>
              <a:off x="7162920" y="4114800"/>
              <a:ext cx="17524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Line 29"/>
          <p:cNvSpPr/>
          <p:nvPr/>
        </p:nvSpPr>
        <p:spPr>
          <a:xfrm>
            <a:off x="8077320" y="3505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30"/>
          <p:cNvGrpSpPr/>
          <p:nvPr/>
        </p:nvGrpSpPr>
        <p:grpSpPr>
          <a:xfrm>
            <a:off x="5486400" y="5638680"/>
            <a:ext cx="1905120" cy="990720"/>
            <a:chOff x="5486400" y="5638680"/>
            <a:chExt cx="1905120" cy="990720"/>
          </a:xfrm>
        </p:grpSpPr>
        <p:sp>
          <p:nvSpPr>
            <p:cNvPr id="186" name="Oval 31"/>
            <p:cNvSpPr/>
            <p:nvPr/>
          </p:nvSpPr>
          <p:spPr>
            <a:xfrm>
              <a:off x="5486400" y="563868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32"/>
            <p:cNvSpPr/>
            <p:nvPr/>
          </p:nvSpPr>
          <p:spPr>
            <a:xfrm>
              <a:off x="5562720" y="5943600"/>
              <a:ext cx="1752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 Summa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Line 33"/>
          <p:cNvSpPr/>
          <p:nvPr/>
        </p:nvSpPr>
        <p:spPr>
          <a:xfrm>
            <a:off x="5105520" y="6095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3"/>
          <p:cNvGrpSpPr/>
          <p:nvPr/>
        </p:nvGrpSpPr>
        <p:grpSpPr>
          <a:xfrm>
            <a:off x="228600" y="3429000"/>
            <a:ext cx="1905120" cy="990720"/>
            <a:chOff x="228600" y="3429000"/>
            <a:chExt cx="1905120" cy="990720"/>
          </a:xfrm>
        </p:grpSpPr>
        <p:sp>
          <p:nvSpPr>
            <p:cNvPr id="190" name="Oval 14"/>
            <p:cNvSpPr/>
            <p:nvPr/>
          </p:nvSpPr>
          <p:spPr>
            <a:xfrm>
              <a:off x="228600" y="3429000"/>
              <a:ext cx="1905120" cy="990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304920" y="3733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 Effect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 flipH="1" flipV="1">
            <a:off x="1599840" y="43434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3714840"/>
            <a:ext cx="2362320" cy="3144600"/>
            <a:chOff x="0" y="3714840"/>
            <a:chExt cx="2362320" cy="314460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0" y="3714840"/>
              <a:ext cx="2357280" cy="31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6491160"/>
              <a:ext cx="23623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li – Lives in Cub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and Econom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4582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ry few rich people, many poor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onomy doesn’t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5120" y="2590920"/>
            <a:ext cx="2133360" cy="1447560"/>
          </a:xfrm>
          <a:prstGeom prst="wedgeRoundRectCallout">
            <a:avLst>
              <a:gd name="adj1" fmla="val -46430"/>
              <a:gd name="adj2" fmla="val 646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y’re crazy if they think I’m working  hard as a far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876920" y="914400"/>
            <a:ext cx="4267080" cy="5943600"/>
            <a:chOff x="4876920" y="914400"/>
            <a:chExt cx="4267080" cy="5943600"/>
          </a:xfrm>
        </p:grpSpPr>
        <p:grpSp>
          <p:nvGrpSpPr>
            <p:cNvPr id="200" name=""/>
            <p:cNvGrpSpPr/>
            <p:nvPr/>
          </p:nvGrpSpPr>
          <p:grpSpPr>
            <a:xfrm>
              <a:off x="4876920" y="2623680"/>
              <a:ext cx="4267080" cy="4234320"/>
              <a:chOff x="4876920" y="2623680"/>
              <a:chExt cx="4267080" cy="4234320"/>
            </a:xfrm>
          </p:grpSpPr>
          <p:pic>
            <p:nvPicPr>
              <p:cNvPr id="20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76920" y="2711520"/>
                <a:ext cx="4267080" cy="414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Rectangle 3" descr=""/>
              <p:cNvPicPr/>
              <p:nvPr/>
            </p:nvPicPr>
            <p:blipFill>
              <a:blip r:embed="rId4"/>
              <a:srcRect l="6671" t="4004" r="6671" b="11789"/>
              <a:stretch/>
            </p:blipFill>
            <p:spPr>
              <a:xfrm rot="866400">
                <a:off x="6722640" y="2679480"/>
                <a:ext cx="565200" cy="914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3" name=""/>
            <p:cNvSpPr/>
            <p:nvPr/>
          </p:nvSpPr>
          <p:spPr>
            <a:xfrm>
              <a:off x="7086600" y="914400"/>
              <a:ext cx="2057400" cy="1523880"/>
            </a:xfrm>
            <a:prstGeom prst="wedgeRoundRectCallout">
              <a:avLst>
                <a:gd name="adj1" fmla="val -36111"/>
                <a:gd name="adj2" fmla="val 62500"/>
                <a:gd name="adj3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ince I’m in the government, my friends and I are rich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523880" y="2438280"/>
            <a:ext cx="1828800" cy="1143000"/>
          </a:xfrm>
          <a:prstGeom prst="wedgeRoundRectCallout">
            <a:avLst>
              <a:gd name="adj1" fmla="val -47393"/>
              <a:gd name="adj2" fmla="val 8472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’m not.  They barely pay m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11:36:29Z</dcterms:created>
  <dc:creator>CFISD</dc:creator>
  <dc:description/>
  <dc:language>en-US</dc:language>
  <cp:lastModifiedBy>CFISD</cp:lastModifiedBy>
  <dcterms:modified xsi:type="dcterms:W3CDTF">2008-09-29T17:41:01Z</dcterms:modified>
  <cp:revision>63</cp:revision>
  <dc:subject/>
  <dc:title>Human Geography</dc:title>
</cp:coreProperties>
</file>