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3780-B1F4-437E-8934-56379872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E34-806B-44F1-A8CA-4BC46286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5B7D-364F-4FCA-85EF-36EC8D4A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38B-2D32-4ADC-ABDC-C329DCD1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8ADA-41A3-48EF-99A2-DDF0439C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5C7B-AB37-4774-8E29-2F0D8674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FD1-8007-49C2-960C-5AECDD57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8F4-8910-4856-977C-7AADC8B1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F06F-FC26-420B-ADC9-B543F60E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3484-2996-4172-9DBC-4D69411D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00B4-122C-481B-A18F-4975BD81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BBE0-70EE-4DAE-A422-17DFDD97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EF72-2D9F-431D-8360-D5C42F7FB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– Turn to p. 91 and add an explanation of Command Economy to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46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50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53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58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6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are meeting after school to discuss this deci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your answer to the questions on the next slide and I will take your responses to the meet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Answer the question below that fits you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urned in a project, how do you feel about this new poli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id not turn in a project, how do you feel about this new polic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ill this effect your work in the fu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is this like a command econom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ion is over and the new US President is a member of the Communist Party. Th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 economic system switched from a Market Economy to a Command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official US economics paper to complete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our paper into 6 sec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pictures that show how your life would be different if this happened in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neath each picture explaining what is happe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one picture for each characteristic and effect of a command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ixth box, complete the following stat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support/do not support this switch in policy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964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from a market economy to a command economy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w would your life be different if the US switched to a command economy? (5 pictures, 5 captio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lete the statement below in box #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2133720"/>
          <a:ext cx="8458200" cy="435456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20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: I support/do not support this change in economic policy becaus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s all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nd their demand controls the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pick their own jobs and work hard for pro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218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6"/>
          <p:cNvGrpSpPr/>
          <p:nvPr/>
        </p:nvGrpSpPr>
        <p:grpSpPr>
          <a:xfrm>
            <a:off x="5333760" y="304920"/>
            <a:ext cx="3276360" cy="1618560"/>
            <a:chOff x="5333760" y="304920"/>
            <a:chExt cx="3276360" cy="1618560"/>
          </a:xfrm>
        </p:grpSpPr>
        <p:sp>
          <p:nvSpPr>
            <p:cNvPr id="221" name="Text Box 7"/>
            <p:cNvSpPr/>
            <p:nvPr/>
          </p:nvSpPr>
          <p:spPr>
            <a:xfrm>
              <a:off x="6726240" y="304920"/>
              <a:ext cx="1883880" cy="161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How a country makes laws and policies. (Govern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 flipH="1">
              <a:off x="5333760" y="762120"/>
              <a:ext cx="13921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7"/>
          <p:cNvSpPr/>
          <p:nvPr/>
        </p:nvSpPr>
        <p:spPr>
          <a:xfrm>
            <a:off x="6858000" y="3200400"/>
            <a:ext cx="21337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ow a country produces and exchanges goods and services. (Jobs, Money, Goods, Manufacturing, Buying/Se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6019920" y="3886200"/>
            <a:ext cx="8380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rcRect l="31312" t="6159" r="32261" b="5590"/>
          <a:stretch/>
        </p:blipFill>
        <p:spPr>
          <a:xfrm rot="880200">
            <a:off x="5486040" y="4343040"/>
            <a:ext cx="5112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04920" y="2971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Add the economics cut-away b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 rot="20713200">
            <a:off x="3429000" y="4419360"/>
            <a:ext cx="914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Island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exit ticket form answer the following questions in at least fou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political system will your Island Country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economic system will your Island Country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on’t forget to answer the Question of the Day in your noteboo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the NOTES portion of your notebook right before (or after) your Web that we created on Fr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some space after the point where you left o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today’s notes COMMAND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9810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1828800"/>
            <a:ext cx="2971800" cy="412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6  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conom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9 Command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t today’s notes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Add two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4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8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81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86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89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4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98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products, businesses, and money is controlled by the GOVER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to your note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ree products and businesses you supported or used today after you woke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 used Crest toothpaste, I watched a Samsung TV, and I used gas from Exxon-Mobil to ge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90720" y="2286000"/>
            <a:ext cx="2514600" cy="1599840"/>
            <a:chOff x="990720" y="2286000"/>
            <a:chExt cx="2514600" cy="1599840"/>
          </a:xfrm>
        </p:grpSpPr>
        <p:sp>
          <p:nvSpPr>
            <p:cNvPr id="108" name="AutoShape 4"/>
            <p:cNvSpPr/>
            <p:nvPr/>
          </p:nvSpPr>
          <p:spPr>
            <a:xfrm>
              <a:off x="990720" y="2286000"/>
              <a:ext cx="2514600" cy="1599840"/>
            </a:xfrm>
            <a:prstGeom prst="cloudCallout">
              <a:avLst>
                <a:gd name="adj1" fmla="val -32069"/>
                <a:gd name="adj2" fmla="val 505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rcRect l="0" t="0" r="0" b="17461"/>
            <a:stretch/>
          </p:blipFill>
          <p:spPr>
            <a:xfrm>
              <a:off x="1676520" y="2552400"/>
              <a:ext cx="129528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way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57800" y="990720"/>
            <a:ext cx="3886200" cy="5672160"/>
            <a:chOff x="5257800" y="990720"/>
            <a:chExt cx="3886200" cy="56721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5257800" y="990720"/>
              <a:ext cx="3886200" cy="4114800"/>
              <a:chOff x="5257800" y="990720"/>
              <a:chExt cx="3886200" cy="4114800"/>
            </a:xfrm>
          </p:grpSpPr>
          <p:pic>
            <p:nvPicPr>
              <p:cNvPr id="116" name="" descr=""/>
              <p:cNvPicPr/>
              <p:nvPr/>
            </p:nvPicPr>
            <p:blipFill>
              <a:blip r:embed="rId6"/>
              <a:srcRect l="28833" t="20113" r="0" b="13511"/>
              <a:stretch/>
            </p:blipFill>
            <p:spPr>
              <a:xfrm>
                <a:off x="5257800" y="990720"/>
                <a:ext cx="3886200" cy="41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229080" y="3445200"/>
                <a:ext cx="1942920" cy="1008720"/>
              </a:xfrm>
              <a:prstGeom prst="rect">
                <a:avLst/>
              </a:prstGeom>
              <a:solidFill>
                <a:srgbClr val="e4e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cc"/>
                    </a:solidFill>
                    <a:latin typeface="Arial"/>
                  </a:rPr>
                  <a:t>Property of the Cuban Gover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live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20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rry pal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600200"/>
            <a:ext cx="4724280" cy="5062680"/>
            <a:chOff x="4419720" y="1600200"/>
            <a:chExt cx="4724280" cy="5062680"/>
          </a:xfrm>
        </p:grpSpPr>
        <p:pic>
          <p:nvPicPr>
            <p:cNvPr id="130" name="" descr="Harvesting a Wheat Field - Harvest is usually the busiest time of year for arable farmers.  In the UK most crops are harvested in July, August and the early part of September.  This picture shows a wheat field being harvested near Odell Wold, Bedfordshire early August 2005.&#13;&#10;&#13;&#10;"/>
            <p:cNvPicPr/>
            <p:nvPr/>
          </p:nvPicPr>
          <p:blipFill>
            <a:blip r:embed="rId4"/>
            <a:srcRect l="0" t="23256" r="0" b="0"/>
            <a:stretch/>
          </p:blipFill>
          <p:spPr>
            <a:xfrm>
              <a:off x="4419720" y="1600200"/>
              <a:ext cx="457200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work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0720" y="2133720"/>
            <a:ext cx="2514600" cy="1752480"/>
            <a:chOff x="990720" y="2133720"/>
            <a:chExt cx="2514600" cy="1752480"/>
          </a:xfrm>
        </p:grpSpPr>
        <p:sp>
          <p:nvSpPr>
            <p:cNvPr id="134" name="AutoShape 4"/>
            <p:cNvSpPr/>
            <p:nvPr/>
          </p:nvSpPr>
          <p:spPr>
            <a:xfrm>
              <a:off x="990720" y="2133720"/>
              <a:ext cx="2514600" cy="1752480"/>
            </a:xfrm>
            <a:prstGeom prst="cloudCallout">
              <a:avLst>
                <a:gd name="adj1" fmla="val -32069"/>
                <a:gd name="adj2" fmla="val 505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6"/>
            <a:srcRect l="9764" t="4234" r="7244" b="11130"/>
            <a:stretch/>
          </p:blipFill>
          <p:spPr>
            <a:xfrm>
              <a:off x="1752480" y="2362320"/>
              <a:ext cx="110196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37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990720" y="2133720"/>
            <a:ext cx="2514600" cy="1904760"/>
            <a:chOff x="990720" y="2133720"/>
            <a:chExt cx="2514600" cy="1904760"/>
          </a:xfrm>
        </p:grpSpPr>
        <p:sp>
          <p:nvSpPr>
            <p:cNvPr id="143" name="AutoShape 4"/>
            <p:cNvSpPr/>
            <p:nvPr/>
          </p:nvSpPr>
          <p:spPr>
            <a:xfrm>
              <a:off x="990720" y="2133720"/>
              <a:ext cx="2514600" cy="1904760"/>
            </a:xfrm>
            <a:prstGeom prst="cloudCallout">
              <a:avLst>
                <a:gd name="adj1" fmla="val -32069"/>
                <a:gd name="adj2" fmla="val 4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676520" y="251460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77920" indent="-2779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chooses your job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busines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895480" y="3657600"/>
            <a:ext cx="2971800" cy="2868480"/>
            <a:chOff x="2895480" y="3657600"/>
            <a:chExt cx="2971800" cy="286848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95480" y="5029200"/>
              <a:ext cx="1524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62520" y="3657600"/>
              <a:ext cx="1904760" cy="1143000"/>
            </a:xfrm>
            <a:prstGeom prst="wedgeRoundRectCallout">
              <a:avLst>
                <a:gd name="adj1" fmla="val -31583"/>
                <a:gd name="adj2" fmla="val 7958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many times do I gotta tell you no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57600" y="1752480"/>
            <a:ext cx="5257800" cy="4910400"/>
            <a:chOff x="3657600" y="1752480"/>
            <a:chExt cx="5257800" cy="491040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rcRect l="8027" t="12881" r="0" b="14732"/>
            <a:stretch/>
          </p:blipFill>
          <p:spPr>
            <a:xfrm>
              <a:off x="3657600" y="1752480"/>
              <a:ext cx="5238720" cy="29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5715000" y="4191120"/>
              <a:ext cx="3200400" cy="2471760"/>
              <a:chOff x="5715000" y="4191120"/>
              <a:chExt cx="3200400" cy="24717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5410080"/>
                <a:ext cx="1523880" cy="12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6858000" y="4191120"/>
                <a:ext cx="2057400" cy="1371600"/>
              </a:xfrm>
              <a:prstGeom prst="wedgeRoundRectCallout">
                <a:avLst>
                  <a:gd name="adj1" fmla="val -40356"/>
                  <a:gd name="adj2" fmla="val 63888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 privately owned businesses.  Get in the food lines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523880" y="2438280"/>
            <a:ext cx="1447920" cy="1143000"/>
            <a:chOff x="1523880" y="2438280"/>
            <a:chExt cx="1447920" cy="1143000"/>
          </a:xfrm>
        </p:grpSpPr>
        <p:sp>
          <p:nvSpPr>
            <p:cNvPr id="155" name=""/>
            <p:cNvSpPr/>
            <p:nvPr/>
          </p:nvSpPr>
          <p:spPr>
            <a:xfrm flipH="1">
              <a:off x="160020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5 – Effects of Command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162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166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169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174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177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18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186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28600" y="3429000"/>
            <a:ext cx="1905120" cy="990720"/>
            <a:chOff x="228600" y="3429000"/>
            <a:chExt cx="1905120" cy="990720"/>
          </a:xfrm>
        </p:grpSpPr>
        <p:sp>
          <p:nvSpPr>
            <p:cNvPr id="190" name="Oval 14"/>
            <p:cNvSpPr/>
            <p:nvPr/>
          </p:nvSpPr>
          <p:spPr>
            <a:xfrm>
              <a:off x="228600" y="34290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04920" y="3733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Effec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 flipV="1">
            <a:off x="159984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 Econo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few rich people, many poo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y doesn’t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590920"/>
            <a:ext cx="2133360" cy="1447560"/>
          </a:xfrm>
          <a:prstGeom prst="wedgeRoundRectCallout">
            <a:avLst>
              <a:gd name="adj1" fmla="val -46430"/>
              <a:gd name="adj2" fmla="val 64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’re crazy if they think I’m working  hard as a far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76920" y="914400"/>
            <a:ext cx="4267080" cy="5943600"/>
            <a:chOff x="4876920" y="914400"/>
            <a:chExt cx="4267080" cy="5943600"/>
          </a:xfrm>
        </p:grpSpPr>
        <p:grpSp>
          <p:nvGrpSpPr>
            <p:cNvPr id="200" name=""/>
            <p:cNvGrpSpPr/>
            <p:nvPr/>
          </p:nvGrpSpPr>
          <p:grpSpPr>
            <a:xfrm>
              <a:off x="4876920" y="2623680"/>
              <a:ext cx="4267080" cy="4234320"/>
              <a:chOff x="4876920" y="2623680"/>
              <a:chExt cx="4267080" cy="42343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6920" y="2711520"/>
                <a:ext cx="4267080" cy="414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Rectangle 3" descr=""/>
              <p:cNvPicPr/>
              <p:nvPr/>
            </p:nvPicPr>
            <p:blipFill>
              <a:blip r:embed="rId4"/>
              <a:srcRect l="6671" t="4004" r="6671" b="11789"/>
              <a:stretch/>
            </p:blipFill>
            <p:spPr>
              <a:xfrm rot="866400">
                <a:off x="6722640" y="2679480"/>
                <a:ext cx="5652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" name=""/>
            <p:cNvSpPr/>
            <p:nvPr/>
          </p:nvSpPr>
          <p:spPr>
            <a:xfrm>
              <a:off x="7086600" y="914400"/>
              <a:ext cx="2057400" cy="1523880"/>
            </a:xfrm>
            <a:prstGeom prst="wedgeRoundRectCallout">
              <a:avLst>
                <a:gd name="adj1" fmla="val -36111"/>
                <a:gd name="adj2" fmla="val 625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ce I’m in the government, my friends and I are ri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23880" y="2438280"/>
            <a:ext cx="1828800" cy="1143000"/>
          </a:xfrm>
          <a:prstGeom prst="wedgeRoundRectCallout">
            <a:avLst>
              <a:gd name="adj1" fmla="val -47393"/>
              <a:gd name="adj2" fmla="val 84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’m not.  They barely pay m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01Z</dcterms:modified>
  <cp:revision>63</cp:revision>
  <dc:subject/>
  <dc:title>Human Geography</dc:title>
</cp:coreProperties>
</file>