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0C7-1CA1-4BC3-B0BA-AEAB2BAC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0DE-4506-4931-8694-2E3C4015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B3F-581E-4C03-B52A-51E9D364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56A-F5E3-4A0A-829A-98A22FCD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8B6-9CA7-41F2-B1C8-1D66B445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A7A-38DA-4556-A860-0826CA13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B9A-5158-4B4A-B39D-0B1EBB56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125-8A3F-4191-9F57-2F3E8801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024-69AF-4885-BB72-CDAF7BA4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1FEC-72D2-4CB8-82C0-E38C9A3B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4B8-8E47-4E4D-883F-DC276E54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A39-66B1-4BCC-8DD0-7AE9A167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CC3A-30D1-4C26-BD70-B016F3BA1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– Turn to p. 91 and add an explanation of Command Economy to your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46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50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53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58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62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are not going to be graded, instead every kid will receive a 65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s are meeting after school to discuss this deci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your answer to the questions on the next slide and I will take your responses to the meet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se answers in your notebook under the Command Economy notes section, not on your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are not going to be graded, instead every kid will receive a 65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se answers in your notebook under the Command Economy notes section, not on your W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Answer the question below that fits you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turned in a project, how do you feel about this new poli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id not turn in a project, how do you feel about this new polic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ill this effect your work in the fut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How is this like a command econom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ion is over and the new US President is a member of the Communist Party. Thu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 economic system switched from a Market Economy to a Command Econo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official US economics paper to complete the follow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our paper into 6 sec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 pictures that show how your life would be different if this happened in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neath each picture explaining what is happe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one picture for each characteristic and effect of a command econom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ixth box, complete the following stat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support/do not support this switch in policy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9644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 from a market economy to a command economy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ow would your life be different if the US switched to a command economy? (5 pictures, 5 captio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plete the statement below in box #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80880" y="2133720"/>
          <a:ext cx="8458200" cy="435456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20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ment: I support/do not support this change in economic policy becaus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ontrols all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hooses your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 is their politic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nd their demand controls the econo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an pick their own jobs and work hard for prof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 is their politic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 Geograp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geography based on man-made cre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809880" y="1295280"/>
            <a:ext cx="2403720" cy="5257800"/>
            <a:chOff x="3809880" y="1295280"/>
            <a:chExt cx="2403720" cy="5257800"/>
          </a:xfrm>
        </p:grpSpPr>
        <p:pic>
          <p:nvPicPr>
            <p:cNvPr id="218" name="Picture 4" descr="HG Man"/>
            <p:cNvPicPr/>
            <p:nvPr/>
          </p:nvPicPr>
          <p:blipFill>
            <a:blip r:embed="rId2"/>
            <a:srcRect l="15806" t="2856" r="48829" b="2856"/>
            <a:stretch/>
          </p:blipFill>
          <p:spPr>
            <a:xfrm>
              <a:off x="3809880" y="1295280"/>
              <a:ext cx="240372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5" descr=""/>
            <p:cNvPicPr/>
            <p:nvPr/>
          </p:nvPicPr>
          <p:blipFill>
            <a:blip r:embed="rId3"/>
            <a:srcRect l="15127" t="6527" r="12947" b="4351"/>
            <a:stretch/>
          </p:blipFill>
          <p:spPr>
            <a:xfrm>
              <a:off x="4572000" y="1295280"/>
              <a:ext cx="86832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6"/>
          <p:cNvGrpSpPr/>
          <p:nvPr/>
        </p:nvGrpSpPr>
        <p:grpSpPr>
          <a:xfrm>
            <a:off x="5333760" y="304920"/>
            <a:ext cx="3276360" cy="1618560"/>
            <a:chOff x="5333760" y="304920"/>
            <a:chExt cx="3276360" cy="1618560"/>
          </a:xfrm>
        </p:grpSpPr>
        <p:sp>
          <p:nvSpPr>
            <p:cNvPr id="221" name="Text Box 7"/>
            <p:cNvSpPr/>
            <p:nvPr/>
          </p:nvSpPr>
          <p:spPr>
            <a:xfrm>
              <a:off x="6726240" y="304920"/>
              <a:ext cx="1883880" cy="161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litic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– How a country makes laws and policies. (Govern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 flipH="1">
              <a:off x="5333760" y="762120"/>
              <a:ext cx="13921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7"/>
          <p:cNvSpPr/>
          <p:nvPr/>
        </p:nvSpPr>
        <p:spPr>
          <a:xfrm>
            <a:off x="6858000" y="3200400"/>
            <a:ext cx="21337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ow a country produces and exchanges goods and services. (Jobs, Money, Goods, Manufacturing, Buying/Se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 flipH="1">
            <a:off x="6019920" y="3886200"/>
            <a:ext cx="83808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rcRect l="31312" t="6159" r="32261" b="5590"/>
          <a:stretch/>
        </p:blipFill>
        <p:spPr>
          <a:xfrm rot="880200">
            <a:off x="5486040" y="4343040"/>
            <a:ext cx="5112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04920" y="29718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– Add the economics cut-away bo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 rot="20713200">
            <a:off x="3429000" y="4419360"/>
            <a:ext cx="91440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Island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exit ticket form answer the following questions in at least four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ich political system will your Island Country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you made your cho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ch economic system will your Island Country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plain why you made your cho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on’t forget to answer the Question of the Day in your notebook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the NOTES portion of your notebook right before (or after) your Web that we created on Fri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some space after the point where you left o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today’s notes COMMAND ECONO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19810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1828800"/>
            <a:ext cx="2971800" cy="412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26   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conom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29 Command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t today’s notes 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– Add two bubbles to your web, one for characteristics and one for summ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74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78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81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8"/>
          <p:cNvGrpSpPr/>
          <p:nvPr/>
        </p:nvGrpSpPr>
        <p:grpSpPr>
          <a:xfrm>
            <a:off x="152280" y="5715000"/>
            <a:ext cx="2438280" cy="990720"/>
            <a:chOff x="152280" y="5715000"/>
            <a:chExt cx="2438280" cy="990720"/>
          </a:xfrm>
        </p:grpSpPr>
        <p:sp>
          <p:nvSpPr>
            <p:cNvPr id="86" name="Oval 19"/>
            <p:cNvSpPr/>
            <p:nvPr/>
          </p:nvSpPr>
          <p:spPr>
            <a:xfrm>
              <a:off x="152280" y="5715000"/>
              <a:ext cx="243828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0"/>
            <p:cNvSpPr/>
            <p:nvPr/>
          </p:nvSpPr>
          <p:spPr>
            <a:xfrm>
              <a:off x="249840" y="6019920"/>
              <a:ext cx="22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89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4"/>
          <p:cNvSpPr/>
          <p:nvPr/>
        </p:nvSpPr>
        <p:spPr>
          <a:xfrm flipH="1">
            <a:off x="1676160" y="5562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94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5486400" y="5638680"/>
            <a:ext cx="1905120" cy="990720"/>
            <a:chOff x="5486400" y="5638680"/>
            <a:chExt cx="1905120" cy="990720"/>
          </a:xfrm>
        </p:grpSpPr>
        <p:sp>
          <p:nvSpPr>
            <p:cNvPr id="98" name="Oval 31"/>
            <p:cNvSpPr/>
            <p:nvPr/>
          </p:nvSpPr>
          <p:spPr>
            <a:xfrm>
              <a:off x="5486400" y="56386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2"/>
            <p:cNvSpPr/>
            <p:nvPr/>
          </p:nvSpPr>
          <p:spPr>
            <a:xfrm>
              <a:off x="5562720" y="5943600"/>
              <a:ext cx="1752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Line 33"/>
          <p:cNvSpPr/>
          <p:nvPr/>
        </p:nvSpPr>
        <p:spPr>
          <a:xfrm>
            <a:off x="51055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products, businesses, and money is controlled by the GOVER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to your note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ree products and businesses you supported or used today after you woke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I used Crest toothpaste, I watched a Samsung TV, and I used gas from Exxon-Mobil to ge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owns all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990720" y="2286000"/>
            <a:ext cx="2514600" cy="1599840"/>
            <a:chOff x="990720" y="2286000"/>
            <a:chExt cx="2514600" cy="1599840"/>
          </a:xfrm>
        </p:grpSpPr>
        <p:sp>
          <p:nvSpPr>
            <p:cNvPr id="108" name="AutoShape 4"/>
            <p:cNvSpPr/>
            <p:nvPr/>
          </p:nvSpPr>
          <p:spPr>
            <a:xfrm>
              <a:off x="990720" y="2286000"/>
              <a:ext cx="2514600" cy="1599840"/>
            </a:xfrm>
            <a:prstGeom prst="cloudCallout">
              <a:avLst>
                <a:gd name="adj1" fmla="val -32069"/>
                <a:gd name="adj2" fmla="val 505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3"/>
            <a:srcRect l="0" t="0" r="0" b="17461"/>
            <a:stretch/>
          </p:blipFill>
          <p:spPr>
            <a:xfrm>
              <a:off x="1676520" y="2552400"/>
              <a:ext cx="1295280" cy="93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3048120" y="3429000"/>
            <a:ext cx="2361960" cy="2695680"/>
            <a:chOff x="3048120" y="3429000"/>
            <a:chExt cx="2361960" cy="269568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3048120" y="3962520"/>
              <a:ext cx="195408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495680" y="3429000"/>
              <a:ext cx="914400" cy="685800"/>
            </a:xfrm>
            <a:prstGeom prst="wedgeRoundRectCallout">
              <a:avLst>
                <a:gd name="adj1" fmla="val -42185"/>
                <a:gd name="adj2" fmla="val 7893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 way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257800" y="990720"/>
            <a:ext cx="3886200" cy="5672160"/>
            <a:chOff x="5257800" y="990720"/>
            <a:chExt cx="3886200" cy="5672160"/>
          </a:xfrm>
        </p:grpSpPr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6248520" y="5410080"/>
              <a:ext cx="1523880" cy="125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"/>
            <p:cNvGrpSpPr/>
            <p:nvPr/>
          </p:nvGrpSpPr>
          <p:grpSpPr>
            <a:xfrm>
              <a:off x="5257800" y="990720"/>
              <a:ext cx="3886200" cy="4114800"/>
              <a:chOff x="5257800" y="990720"/>
              <a:chExt cx="3886200" cy="4114800"/>
            </a:xfrm>
          </p:grpSpPr>
          <p:pic>
            <p:nvPicPr>
              <p:cNvPr id="116" name="" descr=""/>
              <p:cNvPicPr/>
              <p:nvPr/>
            </p:nvPicPr>
            <p:blipFill>
              <a:blip r:embed="rId6"/>
              <a:srcRect l="28833" t="20113" r="0" b="13511"/>
              <a:stretch/>
            </p:blipFill>
            <p:spPr>
              <a:xfrm>
                <a:off x="5257800" y="990720"/>
                <a:ext cx="3886200" cy="411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6229080" y="3445200"/>
                <a:ext cx="1942920" cy="1008720"/>
              </a:xfrm>
              <a:prstGeom prst="rect">
                <a:avLst/>
              </a:prstGeom>
              <a:solidFill>
                <a:srgbClr val="e4e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cc"/>
                    </a:solidFill>
                    <a:latin typeface="Arial"/>
                  </a:rPr>
                  <a:t>Property of the Cuban Governm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696080" y="4800600"/>
              <a:ext cx="1447920" cy="762120"/>
            </a:xfrm>
            <a:prstGeom prst="wedgeRoundRectCallout">
              <a:avLst>
                <a:gd name="adj1" fmla="val -47699"/>
                <a:gd name="adj2" fmla="val 7333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 must live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438280"/>
            <a:ext cx="1447920" cy="1143000"/>
            <a:chOff x="1600200" y="2438280"/>
            <a:chExt cx="1447920" cy="1143000"/>
          </a:xfrm>
        </p:grpSpPr>
        <p:sp>
          <p:nvSpPr>
            <p:cNvPr id="120" name=""/>
            <p:cNvSpPr/>
            <p:nvPr/>
          </p:nvSpPr>
          <p:spPr>
            <a:xfrm flipH="1">
              <a:off x="167652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0020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owns all l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chooses your jo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048120" y="3429000"/>
            <a:ext cx="2361960" cy="2695680"/>
            <a:chOff x="3048120" y="3429000"/>
            <a:chExt cx="2361960" cy="2695680"/>
          </a:xfrm>
        </p:grpSpPr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3048120" y="3962520"/>
              <a:ext cx="195408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495680" y="3429000"/>
              <a:ext cx="914400" cy="685800"/>
            </a:xfrm>
            <a:prstGeom prst="wedgeRoundRectCallout">
              <a:avLst>
                <a:gd name="adj1" fmla="val -42185"/>
                <a:gd name="adj2" fmla="val 7893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rry pal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600200"/>
            <a:ext cx="4724280" cy="5062680"/>
            <a:chOff x="4419720" y="1600200"/>
            <a:chExt cx="4724280" cy="5062680"/>
          </a:xfrm>
        </p:grpSpPr>
        <p:pic>
          <p:nvPicPr>
            <p:cNvPr id="130" name="" descr="Harvesting a Wheat Field - Harvest is usually the busiest time of year for arable farmers.  In the UK most crops are harvested in July, August and the early part of September.  This picture shows a wheat field being harvested near Odell Wold, Bedfordshire early August 2005.&#13;&#10;&#13;&#10;"/>
            <p:cNvPicPr/>
            <p:nvPr/>
          </p:nvPicPr>
          <p:blipFill>
            <a:blip r:embed="rId4"/>
            <a:srcRect l="0" t="23256" r="0" b="0"/>
            <a:stretch/>
          </p:blipFill>
          <p:spPr>
            <a:xfrm>
              <a:off x="4419720" y="1600200"/>
              <a:ext cx="457200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6248520" y="5410080"/>
              <a:ext cx="1523880" cy="12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696080" y="4800600"/>
              <a:ext cx="1447920" cy="762120"/>
            </a:xfrm>
            <a:prstGeom prst="wedgeRoundRectCallout">
              <a:avLst>
                <a:gd name="adj1" fmla="val -47699"/>
                <a:gd name="adj2" fmla="val 7333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 must work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990720" y="2133720"/>
            <a:ext cx="2514600" cy="1752480"/>
            <a:chOff x="990720" y="2133720"/>
            <a:chExt cx="2514600" cy="1752480"/>
          </a:xfrm>
        </p:grpSpPr>
        <p:sp>
          <p:nvSpPr>
            <p:cNvPr id="134" name="AutoShape 4"/>
            <p:cNvSpPr/>
            <p:nvPr/>
          </p:nvSpPr>
          <p:spPr>
            <a:xfrm>
              <a:off x="990720" y="2133720"/>
              <a:ext cx="2514600" cy="1752480"/>
            </a:xfrm>
            <a:prstGeom prst="cloudCallout">
              <a:avLst>
                <a:gd name="adj1" fmla="val -32069"/>
                <a:gd name="adj2" fmla="val 505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6"/>
            <a:srcRect l="9764" t="4234" r="7244" b="11130"/>
            <a:stretch/>
          </p:blipFill>
          <p:spPr>
            <a:xfrm>
              <a:off x="1752480" y="2362320"/>
              <a:ext cx="110196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1600200" y="2438280"/>
            <a:ext cx="1447920" cy="1143000"/>
            <a:chOff x="1600200" y="2438280"/>
            <a:chExt cx="1447920" cy="1143000"/>
          </a:xfrm>
        </p:grpSpPr>
        <p:sp>
          <p:nvSpPr>
            <p:cNvPr id="137" name=""/>
            <p:cNvSpPr/>
            <p:nvPr/>
          </p:nvSpPr>
          <p:spPr>
            <a:xfrm flipH="1">
              <a:off x="167652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020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990720" y="2133720"/>
            <a:ext cx="2514600" cy="1904760"/>
            <a:chOff x="990720" y="2133720"/>
            <a:chExt cx="2514600" cy="1904760"/>
          </a:xfrm>
        </p:grpSpPr>
        <p:sp>
          <p:nvSpPr>
            <p:cNvPr id="143" name="AutoShape 4"/>
            <p:cNvSpPr/>
            <p:nvPr/>
          </p:nvSpPr>
          <p:spPr>
            <a:xfrm>
              <a:off x="990720" y="2133720"/>
              <a:ext cx="2514600" cy="1904760"/>
            </a:xfrm>
            <a:prstGeom prst="cloudCallout">
              <a:avLst>
                <a:gd name="adj1" fmla="val -32069"/>
                <a:gd name="adj2" fmla="val 4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1676520" y="2514600"/>
              <a:ext cx="1143000" cy="10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77920" indent="-27792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owns all l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chooses your job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owns all business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895480" y="3657600"/>
            <a:ext cx="2971800" cy="2868480"/>
            <a:chOff x="2895480" y="3657600"/>
            <a:chExt cx="2971800" cy="286848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895480" y="5029200"/>
              <a:ext cx="1524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962520" y="3657600"/>
              <a:ext cx="1904760" cy="1143000"/>
            </a:xfrm>
            <a:prstGeom prst="wedgeRoundRectCallout">
              <a:avLst>
                <a:gd name="adj1" fmla="val -31583"/>
                <a:gd name="adj2" fmla="val 7958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w many times do I gotta tell you no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57600" y="1752480"/>
            <a:ext cx="5257800" cy="4910400"/>
            <a:chOff x="3657600" y="1752480"/>
            <a:chExt cx="5257800" cy="4910400"/>
          </a:xfrm>
        </p:grpSpPr>
        <p:pic>
          <p:nvPicPr>
            <p:cNvPr id="150" name="" descr=""/>
            <p:cNvPicPr/>
            <p:nvPr/>
          </p:nvPicPr>
          <p:blipFill>
            <a:blip r:embed="rId5"/>
            <a:srcRect l="8027" t="12881" r="0" b="14732"/>
            <a:stretch/>
          </p:blipFill>
          <p:spPr>
            <a:xfrm>
              <a:off x="3657600" y="1752480"/>
              <a:ext cx="5238720" cy="29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"/>
            <p:cNvGrpSpPr/>
            <p:nvPr/>
          </p:nvGrpSpPr>
          <p:grpSpPr>
            <a:xfrm>
              <a:off x="5715000" y="4191120"/>
              <a:ext cx="3200400" cy="2471760"/>
              <a:chOff x="5715000" y="4191120"/>
              <a:chExt cx="3200400" cy="2471760"/>
            </a:xfrm>
          </p:grpSpPr>
          <p:pic>
            <p:nvPicPr>
              <p:cNvPr id="15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5410080"/>
                <a:ext cx="1523880" cy="12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6858000" y="4191120"/>
                <a:ext cx="2057400" cy="1371600"/>
              </a:xfrm>
              <a:prstGeom prst="wedgeRoundRectCallout">
                <a:avLst>
                  <a:gd name="adj1" fmla="val -40356"/>
                  <a:gd name="adj2" fmla="val 63888"/>
                  <a:gd name="adj3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 privately owned businesses.  Get in the food lines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523880" y="2438280"/>
            <a:ext cx="1447920" cy="1143000"/>
            <a:chOff x="1523880" y="2438280"/>
            <a:chExt cx="1447920" cy="1143000"/>
          </a:xfrm>
        </p:grpSpPr>
        <p:sp>
          <p:nvSpPr>
            <p:cNvPr id="155" name=""/>
            <p:cNvSpPr/>
            <p:nvPr/>
          </p:nvSpPr>
          <p:spPr>
            <a:xfrm flipH="1">
              <a:off x="160020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388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5 – Effects of Command Econo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162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166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169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8"/>
          <p:cNvGrpSpPr/>
          <p:nvPr/>
        </p:nvGrpSpPr>
        <p:grpSpPr>
          <a:xfrm>
            <a:off x="152280" y="5715000"/>
            <a:ext cx="2438280" cy="990720"/>
            <a:chOff x="152280" y="5715000"/>
            <a:chExt cx="2438280" cy="990720"/>
          </a:xfrm>
        </p:grpSpPr>
        <p:sp>
          <p:nvSpPr>
            <p:cNvPr id="174" name="Oval 19"/>
            <p:cNvSpPr/>
            <p:nvPr/>
          </p:nvSpPr>
          <p:spPr>
            <a:xfrm>
              <a:off x="152280" y="5715000"/>
              <a:ext cx="243828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249840" y="6019920"/>
              <a:ext cx="22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177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24"/>
          <p:cNvSpPr/>
          <p:nvPr/>
        </p:nvSpPr>
        <p:spPr>
          <a:xfrm flipH="1">
            <a:off x="1676160" y="5562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182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0"/>
          <p:cNvGrpSpPr/>
          <p:nvPr/>
        </p:nvGrpSpPr>
        <p:grpSpPr>
          <a:xfrm>
            <a:off x="5486400" y="5638680"/>
            <a:ext cx="1905120" cy="990720"/>
            <a:chOff x="5486400" y="5638680"/>
            <a:chExt cx="1905120" cy="990720"/>
          </a:xfrm>
        </p:grpSpPr>
        <p:sp>
          <p:nvSpPr>
            <p:cNvPr id="186" name="Oval 31"/>
            <p:cNvSpPr/>
            <p:nvPr/>
          </p:nvSpPr>
          <p:spPr>
            <a:xfrm>
              <a:off x="5486400" y="56386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2"/>
            <p:cNvSpPr/>
            <p:nvPr/>
          </p:nvSpPr>
          <p:spPr>
            <a:xfrm>
              <a:off x="5562720" y="5943600"/>
              <a:ext cx="1752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Line 33"/>
          <p:cNvSpPr/>
          <p:nvPr/>
        </p:nvSpPr>
        <p:spPr>
          <a:xfrm>
            <a:off x="51055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228600" y="3429000"/>
            <a:ext cx="1905120" cy="990720"/>
            <a:chOff x="228600" y="3429000"/>
            <a:chExt cx="1905120" cy="990720"/>
          </a:xfrm>
        </p:grpSpPr>
        <p:sp>
          <p:nvSpPr>
            <p:cNvPr id="190" name="Oval 14"/>
            <p:cNvSpPr/>
            <p:nvPr/>
          </p:nvSpPr>
          <p:spPr>
            <a:xfrm>
              <a:off x="228600" y="34290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04920" y="3733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 Effec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H="1" flipV="1">
            <a:off x="159984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 Econom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few rich people, many poo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y doesn’t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2590920"/>
            <a:ext cx="2133360" cy="1447560"/>
          </a:xfrm>
          <a:prstGeom prst="wedgeRoundRectCallout">
            <a:avLst>
              <a:gd name="adj1" fmla="val -46430"/>
              <a:gd name="adj2" fmla="val 64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y’re crazy if they think I’m working  hard as a far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876920" y="914400"/>
            <a:ext cx="4267080" cy="5943600"/>
            <a:chOff x="4876920" y="914400"/>
            <a:chExt cx="4267080" cy="5943600"/>
          </a:xfrm>
        </p:grpSpPr>
        <p:grpSp>
          <p:nvGrpSpPr>
            <p:cNvPr id="200" name=""/>
            <p:cNvGrpSpPr/>
            <p:nvPr/>
          </p:nvGrpSpPr>
          <p:grpSpPr>
            <a:xfrm>
              <a:off x="4876920" y="2623680"/>
              <a:ext cx="4267080" cy="4234320"/>
              <a:chOff x="4876920" y="2623680"/>
              <a:chExt cx="4267080" cy="4234320"/>
            </a:xfrm>
          </p:grpSpPr>
          <p:pic>
            <p:nvPicPr>
              <p:cNvPr id="2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76920" y="2711520"/>
                <a:ext cx="4267080" cy="414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Rectangle 3" descr=""/>
              <p:cNvPicPr/>
              <p:nvPr/>
            </p:nvPicPr>
            <p:blipFill>
              <a:blip r:embed="rId4"/>
              <a:srcRect l="6671" t="4004" r="6671" b="11789"/>
              <a:stretch/>
            </p:blipFill>
            <p:spPr>
              <a:xfrm rot="866400">
                <a:off x="6722640" y="2679480"/>
                <a:ext cx="5652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3" name=""/>
            <p:cNvSpPr/>
            <p:nvPr/>
          </p:nvSpPr>
          <p:spPr>
            <a:xfrm>
              <a:off x="7086600" y="914400"/>
              <a:ext cx="2057400" cy="1523880"/>
            </a:xfrm>
            <a:prstGeom prst="wedgeRoundRectCallout">
              <a:avLst>
                <a:gd name="adj1" fmla="val -36111"/>
                <a:gd name="adj2" fmla="val 625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ce I’m in the government, my friends and I are rich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523880" y="2438280"/>
            <a:ext cx="1828800" cy="1143000"/>
          </a:xfrm>
          <a:prstGeom prst="wedgeRoundRectCallout">
            <a:avLst>
              <a:gd name="adj1" fmla="val -47393"/>
              <a:gd name="adj2" fmla="val 84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’m not.  They barely pay m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9T17:41:01Z</dcterms:modified>
  <cp:revision>63</cp:revision>
  <dc:subject/>
  <dc:title>Human Geography</dc:title>
</cp:coreProperties>
</file>