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07FA-5B8E-410C-9619-6192C2F4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689E-D282-4244-A479-B533F3F8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998-2787-42D1-824D-EA19C9972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1E4-903F-4B2F-A884-2C7C047B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E74-BF70-45B7-8388-84B223A3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75A6-5469-421A-A1E7-93079379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4846-0E7E-41C0-B581-1D74156CD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738D-317F-45D9-81E8-3D1D320D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C161-79C5-418C-B358-F5CC077C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7890-D9D3-46B0-9594-01EC6A28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227-346F-4A72-8C8C-9394F020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6FE6-D007-4D02-BA62-96A4566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4AC4-4AED-4B8E-B8DC-E034903DCD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rso2ndperiod.wikispaces.com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–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752480"/>
                <a:gridCol w="1905120"/>
                <a:gridCol w="167652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where the A’s are sitting when you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228600"/>
          <a:ext cx="8991720" cy="6324480"/>
        </p:xfrm>
        <a:graphic>
          <a:graphicData uri="http://schemas.openxmlformats.org/drawingml/2006/table">
            <a:tbl>
              <a:tblPr/>
              <a:tblGrid>
                <a:gridCol w="2108160"/>
                <a:gridCol w="1882800"/>
                <a:gridCol w="1432080"/>
                <a:gridCol w="1699920"/>
                <a:gridCol w="186876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co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r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r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ra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ls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c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ma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i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Rebec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Chels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Peaco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Ka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Complete the section that corresponds to your lett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hen meet with your gro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each them your section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hool Prompt – In your noteboo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wo sentences addressing the following promp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mp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would school be different if all the principals and teachers left at noon today and never came 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one economic, political, and social sentenc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ly Spanish colonists (Europea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militar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ebsites on the following pages to complete the notes on the Venn Diagram on the back of the yellow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dillo websit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ta webs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igarchy webs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914400"/>
          <a:ext cx="8229600" cy="5638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8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vah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ls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e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v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iro B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tta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y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d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i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z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ber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 O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el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lumbian Exchan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diffusion of goods between the old world and the new wor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 World =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World = the Ame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Sketch the diagram of the Columbian Exchange (use p. 136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Include a sketch of horses and cattle moving from the old world to the new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Include 4 more diseases and foods that are the most important to the Americas economicall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Chart -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ew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ti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of mixed Spanish and Native American heritag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of Tordesilla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 can skip th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0" b="4602"/>
          <a:stretch/>
        </p:blipFill>
        <p:spPr>
          <a:xfrm>
            <a:off x="4724280" y="1676520"/>
            <a:ext cx="4038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294920"/>
            <a:ext cx="8991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Every student is either an A, B, C, or D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 each section on your cha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Mex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= Central Ame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aribbean (p. 2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= Brazil (p. 23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mplete your assigned s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have 8 minut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 will receive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llow Paper –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Later you will be assigned to a gro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Your job is to teach the group the section that you completed with your partn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Take turns teaching the group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tudents who are teaching their groups will have 3 minutes each to get them their information before switching to the next stud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Once your group is finish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et your group approved and receive a 100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o be approve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Each yellow paper must be comple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Each student’s yellow paper must b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GLUED into the students’ noteboo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You may get a laptop and begin working on the rest of today’s activit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lick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ing Period and go to the botto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ccess the powerpoint titled “Col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S Effec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Complete the web from yester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ners and Assig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914400"/>
          <a:ext cx="8229600" cy="55800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p. 224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 (p. 23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Lu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aga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N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ep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Jennif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T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J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Guiller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228600"/>
          <a:ext cx="9097920" cy="6324480"/>
        </p:xfrm>
        <a:graphic>
          <a:graphicData uri="http://schemas.openxmlformats.org/drawingml/2006/table">
            <a:tbl>
              <a:tblPr/>
              <a:tblGrid>
                <a:gridCol w="1143000"/>
                <a:gridCol w="2209680"/>
                <a:gridCol w="1981440"/>
                <a:gridCol w="1904760"/>
                <a:gridCol w="1859040"/>
              </a:tblGrid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ui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d Bi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y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l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v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k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ngri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kar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r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uillermo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am 6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v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fon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Jayly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hocel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 to the under-lined student’s desk to  meet as a group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3:03:15Z</dcterms:created>
  <dc:creator>CFISD</dc:creator>
  <dc:description/>
  <dc:language>en-US</dc:language>
  <cp:lastModifiedBy>CFISD</cp:lastModifiedBy>
  <dcterms:modified xsi:type="dcterms:W3CDTF">2009-01-29T20:56:53Z</dcterms:modified>
  <cp:revision>49</cp:revision>
  <dc:subject/>
  <dc:title>Rainforest – Final Decision</dc:title>
</cp:coreProperties>
</file>