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9648B-AF52-4E10-A3A5-36D0054C6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D9F0C-BAAA-42F6-85CF-B2C44FFA1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16427-00CB-45B6-A9B8-546D04819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02C50-1E9A-48C1-B847-4EB2792F9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D5E73-50E8-47EE-BB99-1CC355303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F0498-3094-436D-A140-DDCC7CEAA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9A528-DAF2-4F1F-951F-CCE2B18F3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A691D-B2B3-4CCE-858A-30D02C006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F19FD-EEA0-48C4-86BF-09E5908B8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F9F33-E2DA-4770-8B6B-4D28943B0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E7E2F-0F60-4591-B298-6A637B51B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965B5-7DBE-470C-8035-398777466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EA732-0E10-4680-A535-7DEEAA7ECF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library.nd.edu/rarebooks/exhibits/riverplate/04-rise/index.shtml" TargetMode="External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orso2ndperiod.wikispaces.com/" TargetMode="External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onization – Day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0" y="228600"/>
          <a:ext cx="9097920" cy="6324480"/>
        </p:xfrm>
        <a:graphic>
          <a:graphicData uri="http://schemas.openxmlformats.org/drawingml/2006/table">
            <a:tbl>
              <a:tblPr/>
              <a:tblGrid>
                <a:gridCol w="1752480"/>
                <a:gridCol w="1905120"/>
                <a:gridCol w="1676520"/>
                <a:gridCol w="1904760"/>
                <a:gridCol w="1859040"/>
              </a:tblGrid>
              <a:tr h="316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tt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Team 1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Team 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Team 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Team 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6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tt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Team 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Team 6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Team 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 to where the A’s are sitting when you meet as a group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"/>
          <p:cNvGraphicFramePr/>
          <p:nvPr/>
        </p:nvGraphicFramePr>
        <p:xfrm>
          <a:off x="0" y="228600"/>
          <a:ext cx="9097920" cy="6324480"/>
        </p:xfrm>
        <a:graphic>
          <a:graphicData uri="http://schemas.openxmlformats.org/drawingml/2006/table">
            <a:tbl>
              <a:tblPr/>
              <a:tblGrid>
                <a:gridCol w="1752480"/>
                <a:gridCol w="1905120"/>
                <a:gridCol w="1676520"/>
                <a:gridCol w="1904760"/>
                <a:gridCol w="1859040"/>
              </a:tblGrid>
              <a:tr h="316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tt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Team 1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Team 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Team 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Team 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6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tt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Team 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Team 6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Team 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 –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 to where the A’s are sitting when you meet as a group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0" y="228600"/>
          <a:ext cx="8991720" cy="6324480"/>
        </p:xfrm>
        <a:graphic>
          <a:graphicData uri="http://schemas.openxmlformats.org/drawingml/2006/table">
            <a:tbl>
              <a:tblPr/>
              <a:tblGrid>
                <a:gridCol w="2108160"/>
                <a:gridCol w="1882800"/>
                <a:gridCol w="1432080"/>
                <a:gridCol w="1699920"/>
                <a:gridCol w="1868760"/>
              </a:tblGrid>
              <a:tr h="316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c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Team 1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ur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co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rem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mer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Team 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ra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ck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ls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b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yl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Team 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ce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rr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mai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Team 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i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mil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6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Team 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. Rebecc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. Chelse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. Peacoc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. Kar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Complete the section that corresponds to your letter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Then meet with your grou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Teach them your section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chool Prompt – In your notebook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two sentences addressing the following prompt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mpt: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ow would school be different if all the principals and teachers left at noon today and never came ba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lude one economic, political, and social sentence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ypes of Government – record these on the Venn Diagr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 Oligarch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government run by a few rich peo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ly Spanish colonists (European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 Junt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government run by th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milit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 Caudill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militar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ictato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rection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the websites on the following pages to complete the notes on the Venn Diagram on the back of the yellow pap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380880" y="68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udillo website: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library.nd.edu/rarebooks/exhibits/riverplate/04-rise/index.s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tion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What did Caudillos provide for their peopl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nta website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ligarchy websit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3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rtners and Assign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457200" y="914400"/>
          <a:ext cx="8229600" cy="563868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89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 (p. 224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 (p. 236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4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bl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vah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ls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ej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ic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li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miro P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m E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vi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ephani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miro B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rin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ittan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eyt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and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u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tic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nze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imm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ber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ssic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m O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chel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t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olumbian Exchan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the diffusion of goods between the old world and the new worl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LD World = Eur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World = the Amer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ask </a:t>
            </a:r>
            <a:r>
              <a:rPr b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Sketch the diagram of the Columbian Exchange (use p. 136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Include a sketch of horses and cattle moving from the old world to the new wor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Include 4 more diseases and foods that are the most important to the Americas economically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" dur="500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" dur="500"/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" dur="500"/>
                                        <p:tgtEl>
                                          <p:spTgt spid="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ellow Chart - Intr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New Vocabul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stiz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people of mixed Spanish and Native American heritag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eaty of Tordesillas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you can skip thi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rcRect l="0" t="0" r="0" b="4602"/>
          <a:stretch/>
        </p:blipFill>
        <p:spPr>
          <a:xfrm>
            <a:off x="4724280" y="1676520"/>
            <a:ext cx="403884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" dur="5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ellow Paper – Cha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1920" y="1294920"/>
            <a:ext cx="8991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 Every student is either an A, B, C, or D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k each section on your char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= Mexic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 = Central Ame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 = Caribbean (p. 22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 = Brazil (p. 23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 Complete your assigned se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You have 8 minutes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You will receive a partn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" dur="5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" dur="500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" dur="500"/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ellow Paper – Cha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560" y="1066680"/>
            <a:ext cx="83818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 Later you will be assigned to a group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Your job is to teach the group the section that you completed with your partn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. Take turns teaching the group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Students who are teaching their groups will have 3 minutes each to get them their information before switching to the next student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" dur="5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" dur="5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380880" y="380880"/>
            <a:ext cx="876312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. Once your group is finished…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Get your group approved and receive a 100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To be approved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. Each yellow paper must be complet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rec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. Each student’s yellow paper must b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PE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GLUED into the students’ notebook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. You may get a laptop and begin working on the rest of today’s activiti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Go to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orso2ndperiod.wikispaces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Click 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arking Period and go to the bottom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Access the powerpoint titled “Coloniz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PS Effects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Complete the web from yesterda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3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rtners and Assign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457200" y="914400"/>
          <a:ext cx="8229600" cy="55800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3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 (p. 224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 (p. 236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4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ui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gal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i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i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eph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nnif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k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rd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fons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ld Bil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st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i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ngri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uillerm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ylyn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dd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y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v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akar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lak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hocel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3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rtners and Assign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457200" y="914400"/>
          <a:ext cx="8229600" cy="55800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3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 (p. 224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 (p. 236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4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Lui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An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Magal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Ni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 Eri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 Steph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Jennif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V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Tr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Jak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 Jord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 Alfons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Wild Bil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Just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Cri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Hingri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 Guillerm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 Jaylyn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Madd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Joy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Iv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Anakar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 Blak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 Jhocel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0" y="228600"/>
          <a:ext cx="9097920" cy="6324480"/>
        </p:xfrm>
        <a:graphic>
          <a:graphicData uri="http://schemas.openxmlformats.org/drawingml/2006/table">
            <a:tbl>
              <a:tblPr/>
              <a:tblGrid>
                <a:gridCol w="1143000"/>
                <a:gridCol w="2209680"/>
                <a:gridCol w="1981440"/>
                <a:gridCol w="1904760"/>
                <a:gridCol w="1859040"/>
              </a:tblGrid>
              <a:tr h="316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tt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Team 1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Luis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nnifer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ld Bil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dd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Team 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An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st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y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Team 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galy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n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i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Iv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Team 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ic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Jake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ngri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akar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6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tt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Team 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i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rd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Guillermo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lak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Team 6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even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fons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Jaylyn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hocel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 to the under-lined student’s desk to  meet as a group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6T13:03:15Z</dcterms:created>
  <dc:creator>CFISD</dc:creator>
  <dc:description/>
  <dc:language>en-US</dc:language>
  <cp:lastModifiedBy>CFISD</cp:lastModifiedBy>
  <dcterms:modified xsi:type="dcterms:W3CDTF">2009-01-29T20:56:53Z</dcterms:modified>
  <cp:revision>49</cp:revision>
  <dc:subject/>
  <dc:title>Rainforest – Final Decision</dc:title>
</cp:coreProperties>
</file>