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883-03E2-4888-998E-DEB66760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722-DE48-4664-A0D7-0C431C0F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135-BB24-478C-98EB-3D61F2D0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4EF-0580-42B0-97A6-03F47BB3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415-3D57-4F45-ABAD-D77D054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2C6-8C89-48C8-9F4A-B0F36C46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01E-630E-46A7-97FD-C9A3D84C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15F-57DE-4FC0-A139-6461BACA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7E5-87E7-4C5C-B879-43AEC3D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C3F-AA8D-41DB-982B-EFF6B24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3A8-1F9D-49BC-AD71-AC950AEA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599-C9E0-404F-8A60-6DD9523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278-8CA0-4C90-9BAA-618133BB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–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"/>
          <a:ext cx="8991720" cy="6324480"/>
        </p:xfrm>
        <a:graphic>
          <a:graphicData uri="http://schemas.openxmlformats.org/drawingml/2006/table">
            <a:tbl>
              <a:tblPr/>
              <a:tblGrid>
                <a:gridCol w="2108160"/>
                <a:gridCol w="1882800"/>
                <a:gridCol w="1432080"/>
                <a:gridCol w="1699920"/>
                <a:gridCol w="186876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ebec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h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ac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plete the section that corresponds to your lett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n meet with your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each them your sectio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Prompt –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wo sentences addressing the following prom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school be different if all the principals and teachers left at noon today and never ca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one economic, political, and social senten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Spanish colonists (Europ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ilit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sites on the following pages to complete the notes on the Venn Diagram on the back of the yellow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dillo 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ta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garchy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600" cy="563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y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diffusion of goods between the old world and the new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World =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=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etch the diagram of the Columbian Exchange (use p. 13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lude a sketch of horses and cattle moving from the old world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 4 more diseases and foods that are the most important to the Americas economic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Chart -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ti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of mixed Spanish and Native American heri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Tordesill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can skip th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4602"/>
          <a:stretch/>
        </p:blipFill>
        <p:spPr>
          <a:xfrm>
            <a:off x="4724280" y="16765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very student is either an A, B, C, or 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each section on your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aribbean (p. 2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razil (p.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plete your assigned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have 8 minu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will receive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Later you will be assigned to a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r job is to teach the group the section that you complete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ake turns teaching the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udents who are teaching their groups will have 3 minutes each to get them their information before switching to the next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Once your group is finish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your group approved and receive a 1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be approv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ach yellow paper must be 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ach student’s yellow paper mus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LUED into the students’ noteboo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You may get a laptop and begin working on the rest of today’s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ck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ing Period and go to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ss the powerpoint titled “Col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Effec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lete the web from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198144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u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k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uillerm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the under-lined student’s desk to 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03:15Z</dcterms:created>
  <dc:creator>CFISD</dc:creator>
  <dc:description/>
  <dc:language>en-US</dc:language>
  <cp:lastModifiedBy>CFISD</cp:lastModifiedBy>
  <dcterms:modified xsi:type="dcterms:W3CDTF">2009-01-29T20:56:53Z</dcterms:modified>
  <cp:revision>49</cp:revision>
  <dc:subject/>
  <dc:title>Rainforest – Final Decision</dc:title>
</cp:coreProperties>
</file>