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38E8-DCB7-411A-891E-B6011D24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1BEC-4848-4408-BB67-FAE6642C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69D-D909-48C2-A5B9-D544690EB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26C3-DBD0-4B0D-854B-67FC3E79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824-3463-4358-844C-6FFB1A94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A9C-F9EB-4108-8326-868A5119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4685-31CB-428B-BD9E-CB9EFB9D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9A8C-401B-41FC-A828-AB2ACEEC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229E-9ED3-471A-A875-127C1A23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02B5-CBB4-44B4-AB6B-AC03F80D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905-CD93-403D-87F3-6AB6CD4D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707-0E05-460C-96F0-26E0322B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E5B5-10FB-4412-A65B-DCB6D60C6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ibrary.nd.edu/rarebooks/exhibits/riverplate/04-rise/index.shtml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rso2ndperiod.wikispaces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 –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167652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where the A’s are sitting when you meet as a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167652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where the A’s are sitting when you meet as a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228600"/>
          <a:ext cx="8991720" cy="6324480"/>
        </p:xfrm>
        <a:graphic>
          <a:graphicData uri="http://schemas.openxmlformats.org/drawingml/2006/table">
            <a:tbl>
              <a:tblPr/>
              <a:tblGrid>
                <a:gridCol w="2108160"/>
                <a:gridCol w="1882800"/>
                <a:gridCol w="1432080"/>
                <a:gridCol w="1699920"/>
                <a:gridCol w="186876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e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e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r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ma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ebec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Chels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Peac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Ka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omplete the section that corresponds to your lett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hen meet with your 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Teach them your section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ool Prompt – In your note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wo sentences addressing the following promp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would school be different if all the principals and teachers left at noon today and never came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one economic, political, and social senten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Government – record these on the Venn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Oligarc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government run by a few rich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Spanish colonists (Europe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Ju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government run b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audill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ilita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ct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ebsites on the following pages to complete the notes on the Venn Diagram on the back of the yellow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dillo websit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brary.nd.edu/rarebooks/exhibits/riverplate/04-rise/index.s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did Caudillos provide for their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ta websi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garchy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 and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914400"/>
          <a:ext cx="8229600" cy="5638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p. 2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p. 2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b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e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iro 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iro 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t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y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i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z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s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O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lumbian Ex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diffusion of goods between the old world and the new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World =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World = the Ame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ketch the diagram of the Columbian Exchange (use p. 13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clude a sketch of horses and cattle moving from the old world to the new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clude 4 more diseases and foods that are the most important to the Americas economicall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Chart - 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w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tiz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eople of mixed Spanish and Native American herit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y of Tordesill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can skip th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4602"/>
          <a:stretch/>
        </p:blipFill>
        <p:spPr>
          <a:xfrm>
            <a:off x="4724280" y="1676520"/>
            <a:ext cx="403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Paper –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very student is either an A, B, C, or 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each section on your ch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Mex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= Central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Caribbean (p. 22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= Brazil (p. 2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omplete your assigned s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You have 8 minu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You will receive a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Paper –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Later you will be assigned to a gro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Your job is to teach the group the section that you completed with your part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Take turns teaching the group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udents who are teaching their groups will have 3 minutes each to get them their information before switching to the next stud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Once your group is finished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et your group approved and receive a 1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be approv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Each yellow paper must be comple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Each student’s yellow paper must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GLUED into the students’ noteboo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You may get a laptop and begin working on the rest of today’s activ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rso2ndperiod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lick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rking Period and go to the bott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ccess the powerpoint titled “Col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S Effec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mplete the web from yester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 and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914400"/>
          <a:ext cx="8229600" cy="5580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p. 2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p. 2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ller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 and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914400"/>
          <a:ext cx="8229600" cy="5580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p. 2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p. 2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ag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Step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J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Guiller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143000"/>
                <a:gridCol w="2209680"/>
                <a:gridCol w="198144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ui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l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Jak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uillerm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the under-lined student’s desk to  meet as a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3:03:15Z</dcterms:created>
  <dc:creator>CFISD</dc:creator>
  <dc:description/>
  <dc:language>en-US</dc:language>
  <cp:lastModifiedBy>CFISD</cp:lastModifiedBy>
  <dcterms:modified xsi:type="dcterms:W3CDTF">2009-01-29T20:56:53Z</dcterms:modified>
  <cp:revision>49</cp:revision>
  <dc:subject/>
  <dc:title>Rainforest – Final Decision</dc:title>
</cp:coreProperties>
</file>