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C701-C0E4-4E48-AABD-0C4928FBF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BC89-E36A-4584-A60A-9EF9C0BC2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338D-7A43-4F70-8821-BE2E980BA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8BBD-5604-4448-920D-17E764D69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EB58-023B-4797-BF57-A5C15B80A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2EE6-0986-4112-89FC-7ED4590B9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5194-C752-4ACB-B7D5-C2A2ADFD4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5543-7168-4988-99D3-92ED99339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B48D-AE73-483F-920C-58B1986AE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4491-3DE6-49F5-B71A-1D61ED2E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EAA7-BFC5-4970-A1F0-EA2B1A27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747F-8DA4-4CF5-B2E1-E0C59B56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955A7-4644-4377-9FEC-9052B2B7A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library.nd.edu/rarebooks/exhibits/riverplate/04-rise/index.shtml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orso2ndperiod.wikispaces.com/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nization – Day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0" y="228600"/>
          <a:ext cx="9097920" cy="6324480"/>
        </p:xfrm>
        <a:graphic>
          <a:graphicData uri="http://schemas.openxmlformats.org/drawingml/2006/table">
            <a:tbl>
              <a:tblPr/>
              <a:tblGrid>
                <a:gridCol w="1752480"/>
                <a:gridCol w="1905120"/>
                <a:gridCol w="1676520"/>
                <a:gridCol w="1904760"/>
                <a:gridCol w="1859040"/>
              </a:tblGrid>
              <a:tr h="31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6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 to where the A’s are sitting when you meet as a group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0" y="228600"/>
          <a:ext cx="9097920" cy="6324480"/>
        </p:xfrm>
        <a:graphic>
          <a:graphicData uri="http://schemas.openxmlformats.org/drawingml/2006/table">
            <a:tbl>
              <a:tblPr/>
              <a:tblGrid>
                <a:gridCol w="1752480"/>
                <a:gridCol w="1905120"/>
                <a:gridCol w="1676520"/>
                <a:gridCol w="1904760"/>
                <a:gridCol w="1859040"/>
              </a:tblGrid>
              <a:tr h="31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6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 to where the A’s are sitting when you meet as a group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0" y="228600"/>
          <a:ext cx="8991720" cy="6324480"/>
        </p:xfrm>
        <a:graphic>
          <a:graphicData uri="http://schemas.openxmlformats.org/drawingml/2006/table">
            <a:tbl>
              <a:tblPr/>
              <a:tblGrid>
                <a:gridCol w="2108160"/>
                <a:gridCol w="1882800"/>
                <a:gridCol w="1432080"/>
                <a:gridCol w="1699920"/>
                <a:gridCol w="1868760"/>
              </a:tblGrid>
              <a:tr h="31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ur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co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rem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mer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ra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ck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ls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b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yl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c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mai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i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i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Rebec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Chels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Peaco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Kar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Complete the section that corresponds to your lette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Then meet with your grou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Teach them your section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hool Prompt – In your noteboo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wo sentences addressing the following promp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pt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w would school be different if all the principals and teachers left at noon today and never came 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one economic, political, and social sentenc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Government – record these on the Venn Dia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Oligarch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government run by a few rich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ly Spanish colonists (Europea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Jun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government run by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ilit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Caudill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milita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cta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rection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websites on the following pages to complete the notes on the Venn Diagram on the back of the yellow pap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8088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dillo website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library.nd.edu/rarebooks/exhibits/riverplate/04-rise/index.s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hat did Caudillos provide for their peop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ta websit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igarchy websi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ners and Assign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57200" y="914400"/>
          <a:ext cx="8229600" cy="56386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(p. 22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 (p. 23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b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vah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ls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ej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i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miro P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 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v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han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miro 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i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ttan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eyt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d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i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z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m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be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ss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 O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el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t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lumbian Exchan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the diffusion of goods between the old world and the new worl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 World =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World = the Amer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ketch the diagram of the Columbian Exchange (use p. 136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Include a sketch of horses and cattle moving from the old world to the new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Include 4 more diseases and foods that are the most important to the Americas economicall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ellow Chart - Int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ew Vocabul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stiz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people of mixed Spanish and Native American herita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aty of Tordesilla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ou can skip thi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0" t="0" r="0" b="4602"/>
          <a:stretch/>
        </p:blipFill>
        <p:spPr>
          <a:xfrm>
            <a:off x="4724280" y="1676520"/>
            <a:ext cx="40388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ellow Paper – Ch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Every student is either an A, B, C, or 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 each section on your cha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= Mex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= Central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= Caribbean (p. 22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 = Brazil (p. 23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Complete your assigned s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You have 8 minut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You will receive a part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ellow Paper – Ch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18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Later you will be assigned to a grou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Your job is to teach the group the section that you completed with your partn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Take turns teaching the group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tudents who are teaching their groups will have 3 minutes each to get them their information before switching to the next stud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880" y="380880"/>
            <a:ext cx="87631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Once your group is finished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Get your group approved and receive a 10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o be approved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Each yellow paper must be complet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c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Each student’s yellow paper must b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P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GLUED into the students’ notebook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 You may get a laptop and begin working on the rest of today’s activit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Go to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orso2ndperiod.wikispace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Click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rking Period and go to the botto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ccess the powerpoint titled “Col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S Effect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Complete the web from yesterda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ners and Assign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57200" y="914400"/>
          <a:ext cx="8229600" cy="55800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(p. 22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 (p. 23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a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i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h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nnif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rd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fon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d Bi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st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ngri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iller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ylyn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y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kar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hoce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ners and Assign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914400"/>
          <a:ext cx="8229600" cy="55800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(p. 22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 (p. 23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Lu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Maga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N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Eri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Steph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Jennif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V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Tr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Ja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Jord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Alfon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Wild Bi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Just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Cr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Hingri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Guiller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Jaylyn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Mad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Joy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Iv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Anakar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Bla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Jhoce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0" y="228600"/>
          <a:ext cx="9097920" cy="6324480"/>
        </p:xfrm>
        <a:graphic>
          <a:graphicData uri="http://schemas.openxmlformats.org/drawingml/2006/table">
            <a:tbl>
              <a:tblPr/>
              <a:tblGrid>
                <a:gridCol w="1143000"/>
                <a:gridCol w="2209680"/>
                <a:gridCol w="1981440"/>
                <a:gridCol w="1904760"/>
                <a:gridCol w="1859040"/>
              </a:tblGrid>
              <a:tr h="31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ui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nnifer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d Bi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st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y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al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Iv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c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Jak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ngri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kar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i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rd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Guillermo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6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ve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fon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Jaylyn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hoce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 to the under-lined student’s desk to  meet as a group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3:03:15Z</dcterms:created>
  <dc:creator>CFISD</dc:creator>
  <dc:description/>
  <dc:language>en-US</dc:language>
  <cp:lastModifiedBy>CFISD</cp:lastModifiedBy>
  <dcterms:modified xsi:type="dcterms:W3CDTF">2009-01-29T20:56:53Z</dcterms:modified>
  <cp:revision>49</cp:revision>
  <dc:subject/>
  <dc:title>Rainforest – Final Decision</dc:title>
</cp:coreProperties>
</file>