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E5616-4E9C-47A4-9D68-78118D58C2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53853-9786-404A-999F-FDF828F11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F0C85-4860-4E2E-B57F-F5C8700B1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81A1-7160-4736-AB11-67DAB55E2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FD4E-6EA8-402D-BE06-DF4883508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C765-4354-410C-B4F1-3DE7F6ADF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7F4F-4762-4D2F-890A-CA0C735B0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9262-AAE1-4922-ABCB-4248A8310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F291-07D8-44EE-872C-572F24AEF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5C05-E50D-4132-9B9B-E6E85A0DF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8058-105E-46E9-B11F-EA672E122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AE41-C89A-4163-A426-123C5D655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7218-95A7-4CA4-8B82-C776DA48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6C28-088E-42C6-9A62-FD06B2E5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4D7E-E459-41D0-B46E-70D8D9BB5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76CF1-3C15-474F-967A-99A327FE53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drought.unl.edu/whatis/climographsdomesticenglish.htm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57200" y="1295280"/>
          <a:ext cx="8229600" cy="4830480"/>
        </p:xfrm>
        <a:graphic>
          <a:graphicData uri="http://schemas.openxmlformats.org/drawingml/2006/table">
            <a:tbl>
              <a:tblPr/>
              <a:tblGrid>
                <a:gridCol w="1600200"/>
                <a:gridCol w="4572000"/>
                <a:gridCol w="2057400"/>
              </a:tblGrid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2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MPs – Foc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tial Analys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Themes of Geograph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A’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o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ysical Proces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mograph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jor Climate Reg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opical Wet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Always hot and rain falls almost daily (Amazon Rainfores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sert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Receives less than 10 inches of rain per year (Phoenix, AZ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miarid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Receives between 10 and 16 inches of rain per year (West Texa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diterranean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Dry and hot summers, cool and rainy winters (Los Angeles, CA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umid Subtropical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Hot and humid summers, mild to cool winters (Houston, Tx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rine West Coast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Located close to warm ocean currents.  Moderate temperatures and constant rainfall (Seattle, WA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umid Continental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Hot summers and Cold winters.  Located in the interior, far away from oceans.  Have four distinct seasons (St. Louis, MO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undra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Always cold.  Flat, treeless lands around the Arctic Ocean.  Very little rain.  Land has permafrost. (Greenlan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 5 - Climo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tasks toda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what is shown on a climograp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2 climographs for the capital cities of fictional countr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mograp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limographs are a graphic representation of the climate in a given are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Themes of Geography –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it like ther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ould use a climograph to tell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rcRect l="18749" t="16666" r="17188" b="9376"/>
          <a:stretch/>
        </p:blipFill>
        <p:spPr>
          <a:xfrm>
            <a:off x="2895480" y="1143000"/>
            <a:ext cx="6248520" cy="54100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733920" y="151920"/>
            <a:ext cx="48765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lo, Hawaii – Tropical W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2971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mographs includ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ine graph measuring average temperature an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ar graph measuring average rainfall for each mon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5181480" y="5029200"/>
            <a:ext cx="15242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in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5410080" y="2590920"/>
            <a:ext cx="20574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rcRect l="20315" t="16666" r="17970" b="9376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304920" y="152280"/>
            <a:ext cx="68198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uston Climograph - Humid Subtropic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s Vegas Climograph - Dese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rcRect l="19440" t="16321" r="19011" b="9490"/>
          <a:stretch/>
        </p:blipFill>
        <p:spPr>
          <a:xfrm>
            <a:off x="0" y="914400"/>
            <a:ext cx="9144000" cy="59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rcRect l="20315" t="16666" r="17970" b="9376"/>
          <a:stretch/>
        </p:blipFill>
        <p:spPr>
          <a:xfrm>
            <a:off x="0" y="990720"/>
            <a:ext cx="4419720" cy="33145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rcRect l="19440" t="16321" r="19011" b="9490"/>
          <a:stretch/>
        </p:blipFill>
        <p:spPr>
          <a:xfrm>
            <a:off x="4419720" y="3409920"/>
            <a:ext cx="4267080" cy="320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09480" y="2286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ton – Humid Subtrop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181480" y="28954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 Vegas - Des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4572000"/>
            <a:ext cx="342900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mplete the questions below in your notebook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are the climates of Houston and Las Vegas different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do you know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mograph Hel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556272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 graph is always temperatu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warm/cold = line, 4 X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 graph is always precipita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wet = bar, 3 X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a place have -10 precipitation? Can a place have -10 for tempera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943600" y="990720"/>
            <a:ext cx="2819520" cy="48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te the questions below in your notebook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would a farmer use a climograp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would a tourist use a climograp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3 other professions in which people would find a climograph usefu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king Your Climogra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each of the following step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two climate zones from the list on th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p. 60-63 to record the characteristics of your capital’s climate in your notebook.  (No graphing ye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your climograph.  Use p. 64 to help you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’t forget your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up the rainfall and temperature amounts, but make sure they could really happ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ember, which is the line graph? Which is the bar grap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: 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drought.unl.edu/whatis/climographsdomesticenglish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3:52:14Z</dcterms:created>
  <dc:creator>CFISD</dc:creator>
  <dc:description/>
  <dc:language>en-US</dc:language>
  <cp:lastModifiedBy>CFISD</cp:lastModifiedBy>
  <dcterms:modified xsi:type="dcterms:W3CDTF">2008-09-24T12:16:14Z</dcterms:modified>
  <cp:revision>33</cp:revision>
  <dc:subject/>
  <dc:title>Project Help</dc:title>
</cp:coreProperties>
</file>