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EBDF-6F74-4100-8427-A2B519B1E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8554-C486-4D26-B370-75E507E3C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A1B1-62BC-42B4-AF73-5AF013546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41AD-7BD7-48CE-9163-50E25859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2EEA-92FC-4275-8CBE-4BCF9F89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5731-2C1C-40B9-8687-4B778270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BD92-8A58-4C71-8D1F-C7A58DB9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645-B4CF-41C8-8308-46DD5F0B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5106-2B5A-43F0-8824-7DAA0430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BCEB-63E4-4EE7-8CE7-0AFFC27E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2118-5450-48AD-877F-42658A3A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46F1-F153-40EF-B9EC-7398ED33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A43A-A485-4BFE-A6AC-928E48B2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5C1D-6102-4F61-8F33-75F5CF2A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FC11-F5A0-4879-BA54-3CFFF1B3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167D-7488-42D8-AC1A-D7DC3F8CA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rought.unl.edu/whatis/climographsdomesticenglish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295280"/>
          <a:ext cx="8229600" cy="483048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s – Foc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Themes of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ograp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Climate Re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opical We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lways hot and rain falls almost daily (Amazon Rainfores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er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Receives less than 10 inches of rain per year (Phoenix, A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miarid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Receives between 10 and 16 inches of rain per year (West Tex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terranea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Dry and hot summers, cool and rainy winters (Los Angeles, 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id Subtropic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Hot and humid summers, mild to cool winters (Houston, T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ine West Coas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Located close to warm ocean currents.  Moderate temperatures and constant rainfall (Seattle, W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id Continent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Hot summers and Cold winters.  Located in the interior, far away from oceans.  Have four distinct seasons (St. Louis, M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ndra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lways cold.  Flat, treeless lands around the Arctic Ocean.  Very little rain.  Land has permafrost. (Greenla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5 - Clim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asks to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at is shown on a climo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2 climographs for the capital cities of fictional count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o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imographs are a graphic representation of the climate in a given ar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Themes of Geography –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 like the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ould use a climograph to tell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18749" t="16666" r="17188" b="9376"/>
          <a:stretch/>
        </p:blipFill>
        <p:spPr>
          <a:xfrm>
            <a:off x="2895480" y="1143000"/>
            <a:ext cx="6248520" cy="5410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33920" y="151920"/>
            <a:ext cx="48765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lo, Hawaii – Tropical W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2971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ographs inclu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ne graph measuring average temperature 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r graph measuring average rainfall for each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181480" y="5029200"/>
            <a:ext cx="1524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410080" y="2590920"/>
            <a:ext cx="2057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rcRect l="20315" t="16666" r="17970" b="9376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04920" y="152280"/>
            <a:ext cx="6819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uston Climograph - Humid Subtrop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 Vegas Climograph - Dese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19440" t="16321" r="19011" b="9490"/>
          <a:stretch/>
        </p:blipFill>
        <p:spPr>
          <a:xfrm>
            <a:off x="0" y="914400"/>
            <a:ext cx="914400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rcRect l="20315" t="16666" r="17970" b="9376"/>
          <a:stretch/>
        </p:blipFill>
        <p:spPr>
          <a:xfrm>
            <a:off x="0" y="9907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19440" t="16321" r="19011" b="9490"/>
          <a:stretch/>
        </p:blipFill>
        <p:spPr>
          <a:xfrm>
            <a:off x="4419720" y="34099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9480" y="228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ton – Humid Subtrop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Vegas - De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572000"/>
            <a:ext cx="34290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plete the questions below in your notebook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are the climates of Houston and Las Vegas differen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 you kno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mograph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55627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graph is always temperat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warm/cold = line, 4 X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 graph is always precipit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wet = bar, 3 X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 place have -10 precipitation? Can a place have -10 for tempera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990720"/>
            <a:ext cx="28195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te the questions below in your notebook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a farmer use a climograp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a tourist use a climograp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3 other professions in which people would find a climograph usefu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ing Your Climo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each of the following step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wo climate zones from the list on th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. 60-63 to record the characteristics of your capital’s climate in your notebook.  (No graphing ye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your climograph.  Use p. 64 to help yo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forget your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up the rainfall and temperature amounts, but make sure they could really happ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, which is the line graph? Which is the bar grap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: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rought.unl.edu/whatis/climographsdomesticenglish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3:52:14Z</dcterms:created>
  <dc:creator>CFISD</dc:creator>
  <dc:description/>
  <dc:language>en-US</dc:language>
  <cp:lastModifiedBy>CFISD</cp:lastModifiedBy>
  <dcterms:modified xsi:type="dcterms:W3CDTF">2008-09-24T12:16:14Z</dcterms:modified>
  <cp:revision>33</cp:revision>
  <dc:subject/>
  <dc:title>Project Help</dc:title>
</cp:coreProperties>
</file>