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5462-3C23-4D5B-984F-CFA41D8DB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D686-EC21-4D8A-97AD-71AF3DA9D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89FC-BD40-47CC-8C04-D4982C8F8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6994-BD47-4B1B-BBD3-241B4AD9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3467-606E-4190-BA0B-C46DF2B0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6B0C-02FB-4606-9A94-673A9111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2645-B83A-46A3-928D-1F08A9B1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6BBC-C904-4E94-BC8A-A64B1EA4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108D-744A-4E7F-B52F-7BB06899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4BAA-50C5-45CE-826F-2342A06C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5F1A-FFC5-4602-8C50-9E2B95C9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C311-9841-492E-8B74-41656A08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7186-0EAF-4252-A5C4-CEA6CA52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3835-029E-4C49-8D49-93729DD0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34A5-0F31-4298-8872-B4ED3AE4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03DF-117E-4959-9329-149410051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rought.unl.edu/whatis/climographsdomesticenglish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295280"/>
          <a:ext cx="8229600" cy="483048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s – Foc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Themes of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ograp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Climate Re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opical We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lways hot and rain falls almost daily (Amazon Rainfores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er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Receives less than 10 inches of rain per year (Phoenix, A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miarid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Receives between 10 and 16 inches of rain per year (West Tex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terranean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Dry and hot summers, cool and rainy winters (Los Angeles, C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id Subtropic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Hot and humid summers, mild to cool winters (Houston, T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rine West Coas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Located close to warm ocean currents.  Moderate temperatures and constant rainfall (Seattle, W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id Continent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Hot summers and Cold winters.  Located in the interior, far away from oceans.  Have four distinct seasons (St. Louis, M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ndra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lways cold.  Flat, treeless lands around the Arctic Ocean.  Very little rain.  Land has permafrost. (Greenlan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5 - Clim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asks tod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at is shown on a climo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2 climographs for the capital cities of fictional count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o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imographs are a graphic representation of the climate in a given ar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Themes of Geography –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t like ther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ould use a climograph to tell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18749" t="16666" r="17188" b="9376"/>
          <a:stretch/>
        </p:blipFill>
        <p:spPr>
          <a:xfrm>
            <a:off x="2895480" y="1143000"/>
            <a:ext cx="6248520" cy="54100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33920" y="151920"/>
            <a:ext cx="48765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lo, Hawaii – Tropical W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2971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ographs inclu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ne graph measuring average temperature 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r graph measuring average rainfall for each mo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181480" y="5029200"/>
            <a:ext cx="1524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410080" y="2590920"/>
            <a:ext cx="2057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rcRect l="20315" t="16666" r="17970" b="9376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04920" y="152280"/>
            <a:ext cx="6819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uston Climograph - Humid Subtrop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 Vegas Climograph - Dese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rcRect l="19440" t="16321" r="19011" b="9490"/>
          <a:stretch/>
        </p:blipFill>
        <p:spPr>
          <a:xfrm>
            <a:off x="0" y="914400"/>
            <a:ext cx="914400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rcRect l="20315" t="16666" r="17970" b="9376"/>
          <a:stretch/>
        </p:blipFill>
        <p:spPr>
          <a:xfrm>
            <a:off x="0" y="9907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19440" t="16321" r="19011" b="9490"/>
          <a:stretch/>
        </p:blipFill>
        <p:spPr>
          <a:xfrm>
            <a:off x="4419720" y="34099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09480" y="228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ton – Humid Subtrop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2895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Vegas - De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4572000"/>
            <a:ext cx="34290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plete the questions below in your notebook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are the climates of Houston and Las Vegas differen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o you know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mograph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55627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graph is always temperat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warm/cold = line, 4 X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 graph is always precipit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wet = bar, 3 X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 place have -10 precipitation? Can a place have -10 for tempera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990720"/>
            <a:ext cx="281952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te the questions below in your notebook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ould a farmer use a climograp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ould a tourist use a climograp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3 other professions in which people would find a climograph usefu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ing Your Climo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each of the following step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wo climate zones from the list on th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. 60-63 to record the characteristics of your capital’s climate in your notebook.  (No graphing ye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your climograph.  Use p. 64 to help yo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forget your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up the rainfall and temperature amounts, but make sure they could really happ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, which is the line graph? Which is the bar grap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: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rought.unl.edu/whatis/climographsdomesticenglish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3:52:14Z</dcterms:created>
  <dc:creator>CFISD</dc:creator>
  <dc:description/>
  <dc:language>en-US</dc:language>
  <cp:lastModifiedBy>CFISD</cp:lastModifiedBy>
  <dcterms:modified xsi:type="dcterms:W3CDTF">2008-09-24T12:16:14Z</dcterms:modified>
  <cp:revision>33</cp:revision>
  <dc:subject/>
  <dc:title>Project Help</dc:title>
</cp:coreProperties>
</file>