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4F24-F0F5-4465-ABA6-87B06A581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A1FE-42D6-47F6-9C1B-0FEB64D9E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B102-7DBF-47C5-86FA-51C1034A5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0AA-708A-49AB-8558-5B96C8EC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0EEE-ED05-4B3F-A569-4A93BE58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ABF4-457F-481B-A7B1-C6DEDE48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A7B-2ED9-4D34-BA93-2E00B59E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75B-5ACD-44F3-86BF-D65EF684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9D6-4E54-460E-8F1A-38014DA2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11C-2D25-4B67-A679-7E3AE912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7E4-BBA1-4E18-8D27-6417542D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DB2F-9319-4655-88BF-809FECE9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50EF-F78A-4C22-92D0-ABF402F3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A898-DB71-4AE1-9D24-92CB0898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88D-B4FB-4447-BFA5-5C361447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E005-6C36-4B46-B73E-B28FB8FCA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rought.unl.edu/whatis/climographsdomesticenglish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95280"/>
          <a:ext cx="8229600" cy="48304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 - Clim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s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is shown on a clim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2 climographs for the capital cities of fictional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imographs are a graphic representation of the climate in a given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Themes of Geography –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like the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uld use a climograph to tell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8749" t="16666" r="17188" b="9376"/>
          <a:stretch/>
        </p:blipFill>
        <p:spPr>
          <a:xfrm>
            <a:off x="2895480" y="1143000"/>
            <a:ext cx="624852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4876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o, Hawaii – Tropical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ographs inclu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graph measuring average temperature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r graph measuring average rainfall for each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81480" y="5029200"/>
            <a:ext cx="1524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410080" y="2590920"/>
            <a:ext cx="205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152280"/>
            <a:ext cx="681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uston Climograph - Humid Subtr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Vegas Climograph - 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9440" t="16321" r="19011" b="9490"/>
          <a:stretch/>
        </p:blipFill>
        <p:spPr>
          <a:xfrm>
            <a:off x="0" y="91440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90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9440" t="16321" r="19011" b="9490"/>
          <a:stretch/>
        </p:blipFill>
        <p:spPr>
          <a:xfrm>
            <a:off x="4419720" y="3409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228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 – Humid Sub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Vegas -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572000"/>
            <a:ext cx="3429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are the climates of Houston and Las Vegas differen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mograp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5562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graph is always temper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arm/cold = line, 4 X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graph is always precipit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et = bar, 3 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 place have -10 precipitation? Can a place have -10 for temp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990720"/>
            <a:ext cx="28195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farmer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tourist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3 other professions in which people would find a climograph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Your Climo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each of the following ste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wo climate zones from the list on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0-63 to record the characteristics of your capital’s climate in your notebook.  (No graphing y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climograph.  Use p. 64 to help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your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rainfall and temperature amounts, but make sure they could really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which is the line graph? Which is the bar 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rought.unl.edu/whatis/climographsdomesticenglish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52:14Z</dcterms:created>
  <dc:creator>CFISD</dc:creator>
  <dc:description/>
  <dc:language>en-US</dc:language>
  <cp:lastModifiedBy>CFISD</cp:lastModifiedBy>
  <dcterms:modified xsi:type="dcterms:W3CDTF">2008-09-24T12:16:14Z</dcterms:modified>
  <cp:revision>33</cp:revision>
  <dc:subject/>
  <dc:title>Project Help</dc:title>
</cp:coreProperties>
</file>