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112A-CDA7-4F32-A032-4F28666EB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8F4-9B44-4E1C-8BEC-342008EF2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CE03-529E-4E67-89B8-7F9987B6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B32-AEF8-4476-922E-24275B8C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249-E3FE-45C7-BA9E-9FDFEE48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A98-AF4C-4007-82F4-7B24F9D1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E78-3FDE-44A5-9041-FDCAF499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179-AB04-4D56-ACDC-55E18020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77D-C447-4DE8-837D-B988E92B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E68-D9C0-4B03-A632-2DCF9FB5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3E2-4A4A-4553-B8C1-22546046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7D4-C917-4FBB-81BB-D38924F5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55F-C65A-4E72-851C-5CB563A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944-A077-4D6F-8775-729541D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50B-FC70-497B-BDB8-E69713B7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B05B-86AF-4F51-9DBD-8579CFC1D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rought.unl.edu/whatis/climographsdomesticenglish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95280"/>
          <a:ext cx="8229600" cy="48304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 - Clim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s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is shown on a clim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2 climographs for the capital cities of fictional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mographs are a graphic representation of the climate in a given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hemes of Geography –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like the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uld use a climograph to tell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8749" t="16666" r="17188" b="9376"/>
          <a:stretch/>
        </p:blipFill>
        <p:spPr>
          <a:xfrm>
            <a:off x="2895480" y="1143000"/>
            <a:ext cx="624852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487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o, Hawaii – Tropical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ographs inclu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graph measuring average temperature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r graph measuring average rainfall for each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81480" y="5029200"/>
            <a:ext cx="1524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410080" y="2590920"/>
            <a:ext cx="205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152280"/>
            <a:ext cx="681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uston Climograph - Humid Subtr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Vegas Climograph -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9440" t="16321" r="19011" b="9490"/>
          <a:stretch/>
        </p:blipFill>
        <p:spPr>
          <a:xfrm>
            <a:off x="0" y="91440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90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9440" t="16321" r="19011" b="9490"/>
          <a:stretch/>
        </p:blipFill>
        <p:spPr>
          <a:xfrm>
            <a:off x="4419720" y="3409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228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 – Humid Sub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Vegas -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572000"/>
            <a:ext cx="3429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the climates of Houston and Las Vegas differen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ograp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5562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 is always temper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rm/cold = line, 4 X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 is always precipit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et = bar, 3 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 place have -10 precipitation? Can a place have -10 for temp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990720"/>
            <a:ext cx="28195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farmer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tourist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3 other professions in which people would find a climograph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Your Climo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each of the following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wo climate zones from the lis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0-63 to record the characteristics of your capital’s climate in your notebook.  (No graphing y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climograph.  Use p. 64 to help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you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rainfall and temperature amounts, but make sure they could really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which is the line graph? Which is the bar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rought.unl.edu/whatis/climographsdomesticenglish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52:14Z</dcterms:created>
  <dc:creator>CFISD</dc:creator>
  <dc:description/>
  <dc:language>en-US</dc:language>
  <cp:lastModifiedBy>CFISD</cp:lastModifiedBy>
  <dcterms:modified xsi:type="dcterms:W3CDTF">2008-09-24T12:16:14Z</dcterms:modified>
  <cp:revision>33</cp:revision>
  <dc:subject/>
  <dc:title>Project Help</dc:title>
</cp:coreProperties>
</file>