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7.wmf" ContentType="image/x-wmf"/>
  <Override PartName="/ppt/media/image6.jpeg" ContentType="image/jpeg"/>
  <Override PartName="/ppt/media/image5.wmf" ContentType="image/x-wmf"/>
  <Override PartName="/ppt/media/image12.jpeg" ContentType="image/jpeg"/>
  <Override PartName="/ppt/media/image10.wmf" ContentType="image/x-wmf"/>
  <Override PartName="/ppt/media/image25.png" ContentType="image/png"/>
  <Override PartName="/ppt/media/image13.jpeg" ContentType="image/jpeg"/>
  <Override PartName="/ppt/media/image23.png" ContentType="image/png"/>
  <Override PartName="/ppt/media/image3.wmf" ContentType="image/x-wmf"/>
  <Override PartName="/ppt/media/image2.wmf" ContentType="image/x-wmf"/>
  <Override PartName="/ppt/media/image26.jpeg" ContentType="image/jpeg"/>
  <Override PartName="/ppt/media/image19.png" ContentType="image/png"/>
  <Override PartName="/ppt/media/image24.png" ContentType="image/png"/>
  <Override PartName="/ppt/media/image1.jpeg" ContentType="image/jpeg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71E7-7660-4814-AA15-D1AFBE7C7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of the Suez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87D8-E407-4252-9241-E4F7A30F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3B0-8EEB-4641-B507-FFBB2C73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D103-7A18-4FB4-8D79-193BF889C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717-7C38-4593-9547-FE9D3563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0C7DB-81C1-483B-86EB-FB874A66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54DB6B-489B-4FA0-BC0E-EA35FCF7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23954-416A-4D61-83EF-C04925C53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D35C64-0A61-4906-A589-2C2191AA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48807-F516-4207-8764-60FAA96C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E15CB-5220-4A84-97F6-9EF51549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00230-C6D5-4E1B-B5CE-E6CC1644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D8F-5486-41D2-BC58-7257EB64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3D26B-DE57-4DA9-AF7B-2FD4702A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34BBA9-35EA-41FF-AE69-BD7B78F1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C14AB-AB9A-4E51-861E-294C5984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4AA20-2D23-4D93-A8D3-73416C63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616D13-F92F-4688-A078-4A0564AC2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CEA-B196-419D-8557-AB887274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5252-D496-4CC1-8915-F5DADF42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42F5-C234-474D-9DAC-C01A6CD6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F16-2FC7-472E-AC97-74DC01FB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390-1BFF-4372-9A18-17F33520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94BB-C5CE-4B7C-932F-D647966E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8B20-CBB1-4E3B-85F5-B8F9EC3F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5F2E-024D-4BE5-BB79-E7353F9FEF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9E68-56ED-448F-837D-A4CD2BEFC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:/whs588.htm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" Target="slide35.xml"/><Relationship Id="rId4" Type="http://schemas.openxmlformats.org/officeDocument/2006/relationships/slide" Target="slide30.xml"/><Relationship Id="rId5" Type="http://schemas.openxmlformats.org/officeDocument/2006/relationships/slide" Target="slide31.xml"/><Relationship Id="rId6" Type="http://schemas.openxmlformats.org/officeDocument/2006/relationships/slide" Target=""/><Relationship Id="rId7" Type="http://schemas.openxmlformats.org/officeDocument/2006/relationships/slide" Target="slide29.xml"/><Relationship Id="rId8" Type="http://schemas.openxmlformats.org/officeDocument/2006/relationships/slide" Target=""/><Relationship Id="rId9" Type="http://schemas.openxmlformats.org/officeDocument/2006/relationships/slide" Target="slide37.xml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00"/>
                </a:solidFill>
                <a:latin typeface="Tahoma"/>
              </a:rPr>
              <a:t>CHOKEPOINTS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ot to get past ‘um, but how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3F314-A843-42CF-B1C0-3A8115D55CEE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419720" y="14479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 chokepoint is a strategic strait or canal which could be closed or blocked to stop sea traff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The Suez Canal and  the Straits of Hormuz (pictured on the map) are examples of choke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529160" cy="4572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17711400">
            <a:off x="3428640" y="320004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380600">
            <a:off x="1218960" y="274284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uez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Strait of Hor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5943600"/>
            <a:ext cx="3886200" cy="6426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. Make any adjustments to your definition that are need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8E01-3365-4D69-A288-6AB1420EBC98}" type="slidenum">
              <a:t>10</a:t>
            </a:fld>
          </a:p>
        </p:txBody>
      </p:sp>
    </p:spTree>
  </p:cSld>
  <p:transition>
    <p:checke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89154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600"/>
                </a:solidFill>
                <a:latin typeface="Tahoma"/>
              </a:rPr>
              <a:t>CHOKEPOINTS OR BOTTLENECKS 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752480"/>
            <a:ext cx="7696080" cy="4818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62520" y="3809880"/>
            <a:ext cx="47242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ith the rise of industrial Europe and seaborne trade, entrepreneurs thought of building a canal to connect the Red Sea with the Mediterranean Sea directly, thus saving time either from sailing around Africa or transporting freight across the Suez Peninsul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47712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40080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www.standto.com/qorsuez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80D2-A1EF-47CC-AF1F-B78863B64C8C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SUEZ CANAL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1954080"/>
            <a:ext cx="4038480" cy="4015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257800" y="380880"/>
            <a:ext cx="388620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The Suez Canal was completed in 1869 under the leadership of a French company under de Lesseps.  European capital (money) built it and operated i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429000" y="4191120"/>
            <a:ext cx="722160" cy="444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81480" y="3581280"/>
            <a:ext cx="3962520" cy="31244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600"/>
                </a:solidFill>
                <a:latin typeface="Tahoma"/>
              </a:rPr>
              <a:t>3. Why would European companies be willing to fund the building of the canal?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c600"/>
                </a:solidFill>
                <a:latin typeface="Tahoma"/>
              </a:rPr>
              <a:t>4. How would it make them more wealthy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Write your answer in your notebook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632448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//people.hofstra.edu/geotrans/eng/ch1en/conc1en/suez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64AE-047A-40BB-8C63-F1B6A94BBB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2612 C -0.05955 0.02704 -0.06927 0.0275 -0.07882 0.02912 C -0.08802 0.03051 -0.09653 0.03837 -0.10556 0.04091 C -0.1184 0.04438 -0.13038 0.0497 -0.14323 0.0527 C -0.14983 0.06125 -0.1533 0.06958 -0.16111 0.07628 C -0.16753 0.08946 -0.16927 0.08576 -0.17882 0.09408 C -0.19097 0.11858 -0.175 0.08899 -0.18993 0.10887 C -0.20469 0.12852 -0.18368 0.10841 -0.20104 0.12367 C -0.21146 0.14447 -0.20538 0.13754 -0.21667 0.14748 C -0.22378 0.16181 -0.23038 0.16065 -0.24115 0.16504 C -0.25226 0.16296 -0.26163 0.16088 -0.27222 0.15626 C -0.27292 0.15326 -0.27326 0.15025 -0.27448 0.14748 C -0.27708 0.14124 -0.28333 0.12968 -0.28333 0.12968 C -0.28837 0.10887 -0.28611 0.11789 -0.28993 0.10309 C -0.29167 0.09639 -0.29705 0.092 -0.29878 0.08529 C -0.30365 0.06611 -0.31476 0.04877 -0.32326 0.0319 C -0.32778 0.02288 -0.3283 0.01456 -0.33212 0.00531 C -0.33472 -0.00093 -0.34115 -0.01249 -0.34115 -0.01249 C -0.34271 -0.01873 -0.34583 -0.03167 -0.34774 -0.03907 C -0.34844 -0.04208 -0.34931 -0.04485 -0.35 -0.04785 C -0.35069 -0.05086 -0.35226 -0.05687 -0.35226 -0.05687 C -0.35035 -0.07213 -0.34965 -0.07999 -0.34323 -0.09224 C -0.3401 -0.10564 -0.33542 -0.11766 -0.33212 -0.13084 C -0.33142 -0.13962 -0.33108 -0.14864 -0.33003 -0.15742 C -0.32969 -0.16043 -0.32951 -0.16413 -0.32778 -0.16621 C -0.32014 -0.17615 -0.31615 -0.1773 -0.30781 -0.181 C -0.30503 -0.19187 -0.30556 -0.18678 -0.30556 -0.1958 E">
                                      <p:cBhvr>
                                        <p:cTn id="9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08 0.01433 C -0.10035 0.00786 -0.12014 -0.00093 -0.13889 -0.00948 C -0.14132 -0.01064 -0.14306 -0.01364 -0.14549 -0.01526 C -0.14757 -0.01665 -0.15 -0.01734 -0.15226 -0.01827 C -0.16684 -0.01549 -0.16424 -0.01711 -0.17448 -0.01249 C -0.17882 -0.01064 -0.18767 -0.00648 -0.18767 -0.00648 C -0.20712 -0.01503 -0.20451 -0.04254 -0.21215 -0.06265 C -0.21337 -0.06588 -0.21563 -0.06843 -0.21667 -0.07166 C -0.21944 -0.08022 -0.22101 -0.08946 -0.22326 -0.09825 C -0.225 -0.10541 -0.22587 -0.1105 -0.23003 -0.11605 C -0.23194 -0.11859 -0.2342 -0.12021 -0.23663 -0.12183 C -0.23872 -0.12321 -0.24323 -0.12483 -0.24323 -0.12483 E">
                                      <p:cBhvr>
                                        <p:cTn id="9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617840"/>
            <a:ext cx="5334120" cy="5240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rot="2695200">
            <a:off x="3047040" y="57909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 S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160020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editerranean Se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90920" y="31240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uez Cana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1828800"/>
            <a:ext cx="327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The Suez Canal brought a new era of European influence in Pacific Asia by reducing the journey from Asia to Europe by about 65,000 km.  The region became commercially accessible and colonial trade expand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E398-5DC9-4C20-BCC0-1F98D1D1C2B7}" type="slidenum">
              <a:t>13</a:t>
            </a:fld>
          </a:p>
        </p:txBody>
      </p:sp>
    </p:spTree>
  </p:cSld>
  <p:transition>
    <p:plus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392040"/>
            <a:ext cx="8534160" cy="610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981080" y="685800"/>
            <a:ext cx="63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The Suez Canal is only 101 miles long but was built across the Egyptian desert.  It is one of the most significant maritime “shortcuts” ever built by man.</a:t>
            </a:r>
            <a:r>
              <a:rPr b="0" lang="en-US" sz="2200" spc="-1" strike="noStrike">
                <a:solidFill>
                  <a:srgbClr val="000066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791320"/>
            <a:ext cx="441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http://people.hofstra.edu/geotrans/eng/ch5en/conc5en/suezconstr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9BC6-2F68-4874-A771-5C12AD5D86BE}" type="slidenum">
              <a:t>14</a:t>
            </a:fld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SS Wisconsin goes through the Cana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80880" y="1241280"/>
            <a:ext cx="8382240" cy="561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BBD-ED01-4435-AE43-88563304B6CF}" type="slidenum">
              <a:t>15</a:t>
            </a:fld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MPACT OF THE 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707E-5983-4DDE-A101-4B817BDC5A34}" type="slidenum">
              <a:t>16</a:t>
            </a:fld>
          </a:p>
        </p:txBody>
      </p:sp>
    </p:spTree>
  </p:cSld>
  <p:transition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2C05-1C47-419F-A24E-2FCEBA97B506}" type="slidenum">
              <a:t>17</a:t>
            </a:fld>
          </a:p>
        </p:txBody>
      </p:sp>
    </p:spTree>
  </p:cSld>
  <p:transition>
    <p:diamond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f you can shorten your shipping time, you can ship more items in the same amount of time that it used to t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89C7-B5E0-4A93-947C-E2D4C6E0B44C}" type="slidenum">
              <a:t>18</a:t>
            </a:fld>
          </a:p>
        </p:txBody>
      </p:sp>
    </p:spTree>
  </p:cSld>
  <p:transition>
    <p:diamond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SUEZ CAN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hortened the route around Africa by 4,000 mi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Saved two weeks of shipping ti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Tahoma"/>
              </a:rPr>
              <a:t>If you can shorten your shipping time, you can ship more items in the same amount of time that it used to ta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onnage shipped jumped from 500,000 tons to 3,500,000 tons in ten years after the Suez Canal ope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EF3-A29E-4211-9A4C-5AE608B2D0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rec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tle a page in your notebook “Chokepoint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a list 1-9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do not need to take any notes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st complete tasks numbered 1-9 in your notebook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4B3B-DB6E-40D8-A73F-EA2410BF8E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s allowed the Europeans to take a greater interest in the Asian markets than ever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British control of the canal was viewed as the “Lifeline of the Empire” because it allowed the British quicker access to the colonies in Asia and Afric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4419720"/>
            <a:ext cx="4724640" cy="194436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5. In your notebook, write down what you think is the most important impact of the Suez Canal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6. Justify, or explain, your answer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6C8A-96CC-4994-A6E2-021BB9117E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600"/>
                </a:solidFill>
                <a:latin typeface="Tahoma"/>
              </a:rPr>
              <a:t>Strait of Gibralta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5029200" cy="2673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486400" y="2209680"/>
            <a:ext cx="342900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Has long been fought o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Has been held by the Phoenicians, Romans, Visigoths, and the Mos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The British won the Battle of Trafalgar defeating Napole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217-1E83-4FAF-8616-516CEE04D6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:\whs588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962520" y="3962520"/>
            <a:ext cx="4190760" cy="1922760"/>
          </a:xfrm>
          <a:prstGeom prst="rect">
            <a:avLst/>
          </a:prstGeom>
          <a:noFill/>
          <a:ln w="57240">
            <a:solidFill>
              <a:srgbClr val="00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800"/>
                </a:solidFill>
                <a:latin typeface="Tahoma"/>
              </a:rPr>
              <a:t>After viewing the animation of the Battle of Trafalgar, click on the X to close the animation.  That will return you to the PowerPoi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2590920"/>
            <a:ext cx="4190760" cy="825480"/>
          </a:xfrm>
          <a:prstGeom prst="rect">
            <a:avLst/>
          </a:prstGeom>
          <a:noFill/>
          <a:ln w="57240">
            <a:solidFill>
              <a:srgbClr val="00f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800"/>
                </a:solidFill>
                <a:latin typeface="Tahoma"/>
              </a:rPr>
              <a:t>Click first on the D: to go to the anim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A9E-2328-4F23-ADF2-54C335400DC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7315200" cy="673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62164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http://www.webcom.com/beacon/mapchokepoint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5720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15000" y="426708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502920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6324480"/>
            <a:ext cx="30456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5257800"/>
            <a:ext cx="304920" cy="3049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736-C9F0-469B-A7F5-F7077918BD28}" type="slidenum">
              <a:t>23</a:t>
            </a:fld>
          </a:p>
        </p:txBody>
      </p:sp>
    </p:spTree>
  </p:cSld>
  <p:transition>
    <p:checker dir="horz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50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500" autoRev="1" fill="hold"/>
                                        <p:tgtEl>
                                          <p:spTgt spid="1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1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OIL DEPENDENC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D7A5-F384-4C7E-9FC3-5EEF66635B2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ahoma"/>
              </a:rPr>
              <a:t>OIL DEPENDENCY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the past 50 years, one of the main sources of energy used by developed and developing nations has been oi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nations with little of this resource,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disrup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the </a:t>
            </a:r>
            <a:r>
              <a:rPr b="1" i="1" lang="en-US" sz="3600" spc="-1" strike="noStrike">
                <a:solidFill>
                  <a:srgbClr val="ffcc00"/>
                </a:solidFill>
                <a:latin typeface="Tahoma"/>
              </a:rPr>
              <a:t>availabil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of oil or a large price increase, causes economic or political proble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5257800"/>
            <a:ext cx="3581280" cy="10994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00"/>
                </a:solidFill>
                <a:latin typeface="Tahoma"/>
              </a:rPr>
              <a:t>7. In your notebook, write down two effects of closing a chokepoin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07A-97D6-423E-9967-B0CAAAF34757}" type="slidenum">
              <a:t>25</a:t>
            </a:fld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rcRect l="0" t="16670" r="35439" b="8669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5AB-F969-4A79-9A75-2AAB4BC3A582}" type="slidenum">
              <a:t>26</a:t>
            </a:fld>
          </a:p>
        </p:txBody>
      </p:sp>
    </p:spTree>
  </p:cSld>
  <p:transition>
    <p:wheel spokes="3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SECURING THE SUPPLY: STRATEGIC POINTS OF CONCER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centuries, straits such as Gibraltar have been protected by international law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82, the Law of Sea Conventions further protected the international access for nations to sail through straits and canal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5562720"/>
            <a:ext cx="5257800" cy="703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8. In your notebook, explain why straits would be protected by international law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DFA-24ED-4114-94DE-570F4DECCB8D}" type="slidenum">
              <a:t>27</a:t>
            </a:fld>
          </a:p>
        </p:txBody>
      </p:sp>
    </p:spTree>
  </p:cSld>
  <p:transition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rcRect l="1001" t="17999" r="37002" b="11334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6553080" y="43434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>
            <a:hlinkClick r:id="rId4" action="ppaction://hlinksldjump"/>
          </p:cNvPr>
          <p:cNvSpPr/>
          <p:nvPr/>
        </p:nvSpPr>
        <p:spPr>
          <a:xfrm>
            <a:off x="5105520" y="41148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>
            <a:hlinkClick r:id="rId5" action="ppaction://hlinksldjump"/>
          </p:cNvPr>
          <p:cNvSpPr/>
          <p:nvPr/>
        </p:nvSpPr>
        <p:spPr>
          <a:xfrm>
            <a:off x="5410080" y="3733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>
            <a:hlinkClick r:id="rId6" action="ppaction://hlinksldjump"/>
          </p:cNvPr>
          <p:cNvSpPr/>
          <p:nvPr/>
        </p:nvSpPr>
        <p:spPr>
          <a:xfrm>
            <a:off x="4419720" y="3200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7" action="ppaction://hlinksldjump"/>
          </p:cNvPr>
          <p:cNvSpPr/>
          <p:nvPr/>
        </p:nvSpPr>
        <p:spPr>
          <a:xfrm>
            <a:off x="4343400" y="35053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>
            <a:hlinkClick r:id="rId8" action="ppaction://hlinksldjump"/>
          </p:cNvPr>
          <p:cNvSpPr/>
          <p:nvPr/>
        </p:nvSpPr>
        <p:spPr>
          <a:xfrm>
            <a:off x="1295280" y="42670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5943600"/>
            <a:ext cx="32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105520"/>
            <a:ext cx="1828800" cy="1310760"/>
          </a:xfrm>
          <a:prstGeom prst="rect">
            <a:avLst/>
          </a:prstGeom>
          <a:solidFill>
            <a:srgbClr val="e7e1c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3300"/>
                </a:solidFill>
                <a:latin typeface="Tahoma"/>
              </a:rPr>
              <a:t>After you have visited each of the chokepoints, click on this butt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>
            <a:hlinkClick r:id="rId9" action="ppaction://hlinksldjump"/>
          </p:cNvPr>
          <p:cNvSpPr/>
          <p:nvPr/>
        </p:nvSpPr>
        <p:spPr>
          <a:xfrm>
            <a:off x="304920" y="457200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7493"/>
                </a:moveTo>
                <a:lnTo>
                  <a:pt x="15939" y="7493"/>
                </a:lnTo>
                <a:lnTo>
                  <a:pt x="15939" y="12828"/>
                </a:lnTo>
                <a:cubicBezTo>
                  <a:pt x="15939" y="13751"/>
                  <a:pt x="16740" y="14482"/>
                  <a:pt x="17776" y="14482"/>
                </a:cubicBezTo>
                <a:lnTo>
                  <a:pt x="19438" y="14482"/>
                </a:lnTo>
                <a:cubicBezTo>
                  <a:pt x="20474" y="14482"/>
                  <a:pt x="21274" y="13751"/>
                  <a:pt x="21274" y="12828"/>
                </a:cubicBezTo>
                <a:lnTo>
                  <a:pt x="21274" y="7493"/>
                </a:lnTo>
                <a:lnTo>
                  <a:pt x="19438" y="7493"/>
                </a:lnTo>
                <a:lnTo>
                  <a:pt x="22946" y="3985"/>
                </a:lnTo>
                <a:lnTo>
                  <a:pt x="26619" y="7493"/>
                </a:lnTo>
                <a:lnTo>
                  <a:pt x="24782" y="7493"/>
                </a:lnTo>
                <a:lnTo>
                  <a:pt x="24782" y="12828"/>
                </a:lnTo>
                <a:cubicBezTo>
                  <a:pt x="24782" y="15596"/>
                  <a:pt x="22206" y="18155"/>
                  <a:pt x="19438" y="18155"/>
                </a:cubicBezTo>
                <a:lnTo>
                  <a:pt x="17776" y="18155"/>
                </a:lnTo>
                <a:cubicBezTo>
                  <a:pt x="15008" y="18155"/>
                  <a:pt x="12431" y="15596"/>
                  <a:pt x="12431" y="12828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4724280" cy="703800"/>
          </a:xfrm>
          <a:prstGeom prst="rect">
            <a:avLst/>
          </a:prstGeom>
          <a:solidFill>
            <a:srgbClr val="e7e1c5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Click on each of the tankers for information about the chokepoint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444B-B470-4E65-ADBF-69FB5E22076A}" type="slidenum">
              <a:t>28</a:t>
            </a:fld>
          </a:p>
        </p:txBody>
      </p:sp>
    </p:spTree>
  </p:cSld>
  <p:transition>
    <p:diamond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54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ahoma"/>
              </a:rPr>
              <a:t>Suez Canal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4197600" cy="4419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4800600" y="2057400"/>
            <a:ext cx="41148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It is the only sea route between the Red Sea and the Mediterranean S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With the Middle East tension, the Suez Canal is a prime target for many nations. In 1967, the Arab-Israeli War shut down the canal for 8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A third of the cargo is oil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63244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rId3" action="ppaction://hlinksldjump"/>
          </p:cNvPr>
          <p:cNvSpPr/>
          <p:nvPr/>
        </p:nvSpPr>
        <p:spPr>
          <a:xfrm>
            <a:off x="380880" y="38088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5" h="21600">
                <a:moveTo>
                  <a:pt x="14586" y="7493"/>
                </a:moveTo>
                <a:lnTo>
                  <a:pt x="18094" y="7493"/>
                </a:lnTo>
                <a:lnTo>
                  <a:pt x="18094" y="12828"/>
                </a:lnTo>
                <a:cubicBezTo>
                  <a:pt x="18094" y="13751"/>
                  <a:pt x="18895" y="14482"/>
                  <a:pt x="19930" y="14482"/>
                </a:cubicBezTo>
                <a:lnTo>
                  <a:pt x="21593" y="14482"/>
                </a:lnTo>
                <a:cubicBezTo>
                  <a:pt x="22628" y="14482"/>
                  <a:pt x="23429" y="13751"/>
                  <a:pt x="23429" y="12828"/>
                </a:cubicBezTo>
                <a:lnTo>
                  <a:pt x="23429" y="7493"/>
                </a:lnTo>
                <a:lnTo>
                  <a:pt x="21593" y="7493"/>
                </a:lnTo>
                <a:lnTo>
                  <a:pt x="25100" y="3985"/>
                </a:lnTo>
                <a:lnTo>
                  <a:pt x="28773" y="7493"/>
                </a:lnTo>
                <a:lnTo>
                  <a:pt x="26937" y="7493"/>
                </a:lnTo>
                <a:lnTo>
                  <a:pt x="26937" y="12828"/>
                </a:lnTo>
                <a:cubicBezTo>
                  <a:pt x="26937" y="15596"/>
                  <a:pt x="24360" y="18155"/>
                  <a:pt x="21593" y="18155"/>
                </a:cubicBezTo>
                <a:lnTo>
                  <a:pt x="19930" y="18155"/>
                </a:lnTo>
                <a:cubicBezTo>
                  <a:pt x="17163" y="18155"/>
                  <a:pt x="14586" y="15596"/>
                  <a:pt x="145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990720"/>
            <a:ext cx="167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Tahoma"/>
              </a:rPr>
              <a:t>Click on button to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A65-1978-4A15-ADB8-F96D126487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are chokepoint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nt: In your history class they might be called “bottlenecks.”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geographers call them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“chokepoints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w, take a minute and imagine what a chokepoint or a bottleneck might look 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9365-7138-42AE-B16A-8508BC273B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c600"/>
                </a:solidFill>
                <a:latin typeface="Tahoma"/>
              </a:rPr>
              <a:t>BAB el MANDEB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3605040" cy="42674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114800" y="1905120"/>
            <a:ext cx="4724280" cy="58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Bottleneck for traffic between the Mediterranean Sea and the Indian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3.2 million barrels of oil daily move through this chokepoi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All the nations along the Red Sea are Islamic and the rulers of Sudan are backed by Ir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c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" y="624852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>
            <a:hlinkClick r:id="rId3" action="ppaction://hlinksldjump"/>
          </p:cNvPr>
          <p:cNvSpPr/>
          <p:nvPr/>
        </p:nvSpPr>
        <p:spPr>
          <a:xfrm>
            <a:off x="380880" y="99072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7493"/>
                </a:moveTo>
                <a:lnTo>
                  <a:pt x="19894" y="7493"/>
                </a:lnTo>
                <a:lnTo>
                  <a:pt x="19894" y="12828"/>
                </a:lnTo>
                <a:cubicBezTo>
                  <a:pt x="19894" y="13751"/>
                  <a:pt x="20695" y="14482"/>
                  <a:pt x="21731" y="14482"/>
                </a:cubicBezTo>
                <a:lnTo>
                  <a:pt x="23393" y="14482"/>
                </a:lnTo>
                <a:cubicBezTo>
                  <a:pt x="24429" y="14482"/>
                  <a:pt x="25229" y="13751"/>
                  <a:pt x="25229" y="12828"/>
                </a:cubicBezTo>
                <a:lnTo>
                  <a:pt x="25229" y="7493"/>
                </a:lnTo>
                <a:lnTo>
                  <a:pt x="23393" y="7493"/>
                </a:lnTo>
                <a:lnTo>
                  <a:pt x="26901" y="3985"/>
                </a:lnTo>
                <a:lnTo>
                  <a:pt x="30573" y="7493"/>
                </a:lnTo>
                <a:lnTo>
                  <a:pt x="28737" y="7493"/>
                </a:lnTo>
                <a:lnTo>
                  <a:pt x="28737" y="12828"/>
                </a:lnTo>
                <a:cubicBezTo>
                  <a:pt x="28737" y="15596"/>
                  <a:pt x="26161" y="18155"/>
                  <a:pt x="23393" y="18155"/>
                </a:cubicBezTo>
                <a:lnTo>
                  <a:pt x="21731" y="18155"/>
                </a:lnTo>
                <a:cubicBezTo>
                  <a:pt x="18963" y="18155"/>
                  <a:pt x="16386" y="15596"/>
                  <a:pt x="1638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1447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ahoma"/>
              </a:rPr>
              <a:t>Click button to 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8B8-7A1C-4FDF-AA36-B4FEFA7FFC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cccc"/>
                </a:solidFill>
                <a:latin typeface="Tahoma"/>
              </a:rPr>
              <a:t>STRAIT OF HORMUZ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447920" y="3828960"/>
            <a:ext cx="5943600" cy="30290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990720"/>
            <a:ext cx="9144000" cy="3035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ritical point in the lifeline flow of oil from the Persian Gulf area. A quarter of the world’s oil supply passes through this strait. 15.5 million barrels of oil a day pass through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losely monitored by the U.S. military and its al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ahoma"/>
              </a:rPr>
              <a:t>Connects the Persian Gulf and the Arabian Sea (part of the Indian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8120" y="3962520"/>
            <a:ext cx="495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0A8-783F-49B1-BBC6-5B82B4F0E5B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828800" y="0"/>
            <a:ext cx="4495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Tahoma"/>
              </a:rPr>
              <a:t>Strait of Hormu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144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ff"/>
                </a:solidFill>
                <a:latin typeface="Tahoma"/>
              </a:rPr>
              <a:t>http://www.eia.doe.gov/emeu/cabs/choke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>
            <a:hlinkClick r:id="rId3" action="ppaction://hlinksldjump"/>
          </p:cNvPr>
          <p:cNvSpPr/>
          <p:nvPr/>
        </p:nvSpPr>
        <p:spPr>
          <a:xfrm>
            <a:off x="6705720" y="54864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7493"/>
                </a:moveTo>
                <a:lnTo>
                  <a:pt x="10899" y="7493"/>
                </a:lnTo>
                <a:lnTo>
                  <a:pt x="10899" y="12828"/>
                </a:lnTo>
                <a:cubicBezTo>
                  <a:pt x="10899" y="13751"/>
                  <a:pt x="11700" y="14482"/>
                  <a:pt x="12736" y="14482"/>
                </a:cubicBezTo>
                <a:lnTo>
                  <a:pt x="14398" y="14482"/>
                </a:lnTo>
                <a:cubicBezTo>
                  <a:pt x="15434" y="14482"/>
                  <a:pt x="16235" y="13751"/>
                  <a:pt x="16235" y="12828"/>
                </a:cubicBezTo>
                <a:lnTo>
                  <a:pt x="16235" y="7493"/>
                </a:lnTo>
                <a:lnTo>
                  <a:pt x="14398" y="7493"/>
                </a:lnTo>
                <a:lnTo>
                  <a:pt x="17906" y="3985"/>
                </a:lnTo>
                <a:lnTo>
                  <a:pt x="21579" y="7493"/>
                </a:lnTo>
                <a:lnTo>
                  <a:pt x="19742" y="7493"/>
                </a:lnTo>
                <a:lnTo>
                  <a:pt x="19742" y="12828"/>
                </a:lnTo>
                <a:cubicBezTo>
                  <a:pt x="19742" y="15596"/>
                  <a:pt x="17166" y="18155"/>
                  <a:pt x="14398" y="18155"/>
                </a:cubicBezTo>
                <a:lnTo>
                  <a:pt x="12736" y="18155"/>
                </a:lnTo>
                <a:cubicBezTo>
                  <a:pt x="9968" y="18155"/>
                  <a:pt x="7392" y="15596"/>
                  <a:pt x="7392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4572000"/>
            <a:ext cx="1828800" cy="824040"/>
          </a:xfrm>
          <a:prstGeom prst="rect">
            <a:avLst/>
          </a:prstGeom>
          <a:noFill/>
          <a:ln w="9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Click on button to return to 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489E-FBE2-4029-9921-F4F1FA2A22E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5029200" cy="335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33520" y="0"/>
            <a:ext cx="815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9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ff00"/>
                </a:solidFill>
                <a:latin typeface="Tahoma"/>
              </a:rPr>
              <a:t>THE BOSPORUS STRA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143000"/>
            <a:ext cx="9144000" cy="244908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Tahoma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Joins the Black Sea and the Sea of Marm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ff00"/>
              </a:buClr>
              <a:buFont typeface="Tahoma"/>
              <a:buChar char="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Russians and Turks have fought many battles over this strait.  Turks are now citing environmental concerns as an excuse to restrict Russian access to the stra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65530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8F9A-1D1B-452E-9EA3-E57E5DE3F44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10199"/>
                </a:solidFill>
                <a:latin typeface="Tahoma"/>
              </a:rPr>
              <a:t>http://www.eia.doe.gov/emeu/cabs/choke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609480" y="49528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7493"/>
                </a:moveTo>
                <a:lnTo>
                  <a:pt x="8646" y="7493"/>
                </a:lnTo>
                <a:lnTo>
                  <a:pt x="8646" y="12828"/>
                </a:lnTo>
                <a:cubicBezTo>
                  <a:pt x="8646" y="13751"/>
                  <a:pt x="9446" y="14482"/>
                  <a:pt x="10482" y="14482"/>
                </a:cubicBezTo>
                <a:lnTo>
                  <a:pt x="12144" y="14482"/>
                </a:lnTo>
                <a:cubicBezTo>
                  <a:pt x="13180" y="14482"/>
                  <a:pt x="13981" y="13751"/>
                  <a:pt x="13981" y="12828"/>
                </a:cubicBezTo>
                <a:lnTo>
                  <a:pt x="13981" y="7493"/>
                </a:lnTo>
                <a:lnTo>
                  <a:pt x="12144" y="7493"/>
                </a:lnTo>
                <a:lnTo>
                  <a:pt x="15652" y="3985"/>
                </a:lnTo>
                <a:lnTo>
                  <a:pt x="19325" y="7493"/>
                </a:lnTo>
                <a:lnTo>
                  <a:pt x="17488" y="7493"/>
                </a:lnTo>
                <a:lnTo>
                  <a:pt x="17488" y="12828"/>
                </a:lnTo>
                <a:cubicBezTo>
                  <a:pt x="17488" y="15596"/>
                  <a:pt x="14912" y="18155"/>
                  <a:pt x="12144" y="18155"/>
                </a:cubicBezTo>
                <a:lnTo>
                  <a:pt x="10482" y="18155"/>
                </a:lnTo>
                <a:cubicBezTo>
                  <a:pt x="7714" y="18155"/>
                  <a:pt x="5138" y="15596"/>
                  <a:pt x="5138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403848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on button to return to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A74D-1D12-4F35-A7A1-753B57BB9BD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Strait of Malacc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467840" cy="2738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80880" y="4114800"/>
            <a:ext cx="7162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Tankers pass through this strait bordered by Indonesia and Malaysi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Located in the Indian Ocean, this strait is a shortcut for oil tankers traveling between the Middle East and the oil-dependent nations of the Pacific Rim (especially Japan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cc00"/>
                </a:solidFill>
                <a:latin typeface="Tahoma"/>
              </a:rPr>
              <a:t>More than 50,000 ships pass through this strait yea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3809880"/>
            <a:ext cx="739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ttp://geography.about.com/library/weekly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>
            <a:hlinkClick r:id="rId3" action="ppaction://hlinksldjump"/>
          </p:cNvPr>
          <p:cNvSpPr/>
          <p:nvPr/>
        </p:nvSpPr>
        <p:spPr>
          <a:xfrm>
            <a:off x="8153280" y="41911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7493"/>
                </a:moveTo>
                <a:lnTo>
                  <a:pt x="10004" y="7493"/>
                </a:lnTo>
                <a:lnTo>
                  <a:pt x="10004" y="12828"/>
                </a:lnTo>
                <a:cubicBezTo>
                  <a:pt x="10004" y="13751"/>
                  <a:pt x="10805" y="14482"/>
                  <a:pt x="11841" y="14482"/>
                </a:cubicBezTo>
                <a:lnTo>
                  <a:pt x="13503" y="14482"/>
                </a:lnTo>
                <a:cubicBezTo>
                  <a:pt x="14539" y="14482"/>
                  <a:pt x="15340" y="13751"/>
                  <a:pt x="15340" y="12828"/>
                </a:cubicBezTo>
                <a:lnTo>
                  <a:pt x="15340" y="7493"/>
                </a:lnTo>
                <a:lnTo>
                  <a:pt x="13503" y="7493"/>
                </a:lnTo>
                <a:lnTo>
                  <a:pt x="17011" y="3985"/>
                </a:lnTo>
                <a:lnTo>
                  <a:pt x="20684" y="7493"/>
                </a:lnTo>
                <a:lnTo>
                  <a:pt x="18847" y="7493"/>
                </a:lnTo>
                <a:lnTo>
                  <a:pt x="18847" y="12828"/>
                </a:lnTo>
                <a:cubicBezTo>
                  <a:pt x="18847" y="15596"/>
                  <a:pt x="16271" y="18155"/>
                  <a:pt x="13503" y="18155"/>
                </a:cubicBezTo>
                <a:lnTo>
                  <a:pt x="11841" y="18155"/>
                </a:lnTo>
                <a:cubicBezTo>
                  <a:pt x="9073" y="18155"/>
                  <a:pt x="6497" y="15596"/>
                  <a:pt x="6497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4952880"/>
            <a:ext cx="838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lick button to return to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07A-BDC2-4486-824D-8FBB5E7D05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5333760" cy="35546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09480" y="22860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cccc"/>
                </a:solidFill>
                <a:latin typeface="Tahoma"/>
              </a:rPr>
              <a:t>Panama Can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1295280"/>
            <a:ext cx="34290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Connects the Pacific Ocean with the Caribbean Sea and Atlantic Oc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0.5 million barrels of oil go through it da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Needs to be widen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556272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http://geography.about.com/library/weekl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>
            <a:hlinkClick r:id="rId3" action="ppaction://hlinksldjump"/>
          </p:cNvPr>
          <p:cNvSpPr/>
          <p:nvPr/>
        </p:nvSpPr>
        <p:spPr>
          <a:xfrm>
            <a:off x="640080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7493"/>
                </a:moveTo>
                <a:lnTo>
                  <a:pt x="12100" y="7493"/>
                </a:lnTo>
                <a:lnTo>
                  <a:pt x="12100" y="12828"/>
                </a:lnTo>
                <a:cubicBezTo>
                  <a:pt x="12100" y="13751"/>
                  <a:pt x="12901" y="14482"/>
                  <a:pt x="13937" y="14482"/>
                </a:cubicBezTo>
                <a:lnTo>
                  <a:pt x="15599" y="14482"/>
                </a:lnTo>
                <a:cubicBezTo>
                  <a:pt x="16635" y="14482"/>
                  <a:pt x="17436" y="13751"/>
                  <a:pt x="17436" y="12828"/>
                </a:cubicBezTo>
                <a:lnTo>
                  <a:pt x="17436" y="7493"/>
                </a:lnTo>
                <a:lnTo>
                  <a:pt x="15599" y="7493"/>
                </a:lnTo>
                <a:lnTo>
                  <a:pt x="19107" y="3985"/>
                </a:lnTo>
                <a:lnTo>
                  <a:pt x="22780" y="7493"/>
                </a:lnTo>
                <a:lnTo>
                  <a:pt x="20943" y="7493"/>
                </a:lnTo>
                <a:lnTo>
                  <a:pt x="20943" y="12828"/>
                </a:lnTo>
                <a:cubicBezTo>
                  <a:pt x="20943" y="15596"/>
                  <a:pt x="18367" y="18155"/>
                  <a:pt x="15599" y="18155"/>
                </a:cubicBezTo>
                <a:lnTo>
                  <a:pt x="13937" y="18155"/>
                </a:lnTo>
                <a:cubicBezTo>
                  <a:pt x="11169" y="18155"/>
                  <a:pt x="8593" y="15596"/>
                  <a:pt x="8593" y="12828"/>
                </a:cubicBez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267080" y="601992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lick on button to return to map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E0C7-DA02-4ABB-8C1A-54368A408D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a491"/>
                </a:solidFill>
                <a:latin typeface="Tahoma"/>
              </a:rPr>
              <a:t>Barrels of Oil Transported through Chokepoints Dai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8915400" cy="472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D687-806E-4C0E-BB24-4AF1CDEB68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Let’s </a:t>
            </a:r>
            <a:r>
              <a:rPr b="1" i="1" lang="en-US" sz="4400" spc="-1" strike="noStrike" u="sng">
                <a:solidFill>
                  <a:srgbClr val="33cccc"/>
                </a:solidFill>
                <a:uFillTx/>
                <a:latin typeface="Tahoma"/>
              </a:rPr>
              <a:t>recap</a:t>
            </a:r>
            <a:r>
              <a:rPr b="1" lang="en-US" sz="4400" spc="-1" strike="noStrike">
                <a:solidFill>
                  <a:srgbClr val="33cccc"/>
                </a:solidFill>
                <a:latin typeface="Tahoma"/>
              </a:rPr>
              <a:t> what we know about chokepoints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495320" y="1828800"/>
            <a:ext cx="4419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A chokepoint is a strategic strait or canal which could be closed or blocked to stop sea traffi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Tahoma"/>
              </a:rPr>
              <a:t>The Suez Canal and  the Straits of Hormuz (pictured on the map) are examples of chokepoi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4529160" cy="45720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rot="17711400">
            <a:off x="3428640" y="320004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9380600">
            <a:off x="1218960" y="274284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2971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ahoma"/>
              </a:rPr>
              <a:t>Suez Ca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048120" y="2743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199"/>
                </a:solidFill>
                <a:latin typeface="Tahoma"/>
              </a:rPr>
              <a:t>Strait of Hormu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3D55-8DA1-4F93-93E5-D0723CCE7703}" type="slidenum">
              <a:t>38</a:t>
            </a:fld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Now, </a:t>
            </a:r>
            <a:r>
              <a:rPr b="0" i="1" lang="en-US" sz="4400" spc="-1" strike="noStrike" u="sng">
                <a:solidFill>
                  <a:srgbClr val="ffcc00"/>
                </a:solidFill>
                <a:uFillTx/>
                <a:latin typeface="Tahoma"/>
              </a:rPr>
              <a:t>review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what else you know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If a chokepoint is closed, it affects world trade patterns, the economy and politics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That can lead to higher prices and/or wa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Keeping these straits or chokepoints open is very important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600"/>
                </a:solidFill>
                <a:latin typeface="Tahoma"/>
              </a:rPr>
              <a:t>The control of these narrow passageways is critical. Whoever has the control is in pow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6C7-CF98-455E-9B25-2CB51BB27682}" type="slidenum">
              <a:t>39</a:t>
            </a:fld>
          </a:p>
        </p:txBody>
      </p:sp>
    </p:spTree>
  </p:cSld>
  <p:transition>
    <p:checker dir="horz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10199"/>
                </a:solidFill>
                <a:latin typeface="Tahoma"/>
              </a:rPr>
              <a:t>Chokepoints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 rot="2476800">
            <a:off x="914400" y="1676160"/>
            <a:ext cx="288432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114800" y="1523880"/>
            <a:ext cx="48006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Have you ever had trouble getting catsup out of the bottle? What caused the trouble?  Was it partially caused by trying to get something too thick through too small a plac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E75-2D6F-47E6-8D1D-D9F59BF078BB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mplete a flow chart showing these effect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2209680"/>
            <a:ext cx="3657600" cy="82548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he Strait of Hormuz gets clos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312408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3809880"/>
            <a:ext cx="3581280" cy="119124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U.S. and China scramble to get enough o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9880" y="4724280"/>
            <a:ext cx="914400" cy="914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71800" y="5715000"/>
            <a:ext cx="3200400" cy="82512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en-US" sz="4800" spc="-1" strike="noStrike">
                <a:solidFill>
                  <a:srgbClr val="ffcc00"/>
                </a:solidFill>
                <a:latin typeface="Tahoma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4267080"/>
            <a:ext cx="1981440" cy="2288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#9 (sketch the cause and effect chart in your notebook and use the following slide for potential answer choic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17C-5E60-4767-9ED9-FE232DA19FA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ich best fits in the last box of the flow ch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. Saudi Arabia pipes the oil to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Red Se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. The U.S. sends in troops and aircraft to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ake over the Strait of Horm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. Diplomatic pressure makes Turke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open the Strait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. The price of oil products goes 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orldw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4BE1-4C66-4F8C-869B-BBC2488538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9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2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2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Yes, the correct answer is B.  The United States sends in troops to open the Strait of Hormuz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A is incorrect.  Saudi Arabia might be able to pump more oil to the Red Sea but the quantity would not be sufficien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C is incorrect.  Turkey controls the Bosporus Strait, not the Strait of Hormuz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 is incorrect.  The price of oil products would go up significantly around the worl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55CA-EAC1-4980-B238-9F2F906395A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04920" y="3808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Congratulation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, you have finished the tutorial on chokepoint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t your answers approved and finish the cut-away boxes on your map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DA46-AB4C-430A-9DB6-3BF40C12862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4" dur="2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9" dur="2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Chokepoints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c600"/>
                </a:solidFill>
                <a:latin typeface="Tahoma"/>
              </a:rPr>
              <a:t>Have you ever wondered how they got those ships into those bottles?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How does something that big go through the narrow space at the top of the bottle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 rot="20409000">
            <a:off x="4419360" y="2209320"/>
            <a:ext cx="4724280" cy="1324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800600" y="5029200"/>
            <a:ext cx="358128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fter slide 7, think about the shape of the bottle and write a description of a chokepoint on your pap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B5B-6030-41F0-BE31-6C249802798B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Chokepoints or bottleneck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239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y do people choke?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ometimes it’s because something too large got stuck in their throat.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133720"/>
            <a:ext cx="342108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E54-E29B-496B-9B22-9E9D11A709AB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It’s just the same when people try to transport goods around the worl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ometimes countries are trading one good for anoth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Sometimes countries are transporting soldiers or armaments to battle sit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control of these narrow passageways is critical. Whoever has the control is in pow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C90-42F0-47D4-BE75-7A5BD71C36E9}" type="slidenum">
              <a:t>7</a:t>
            </a:fld>
          </a:p>
        </p:txBody>
      </p:sp>
    </p:spTree>
  </p:cSld>
  <p:transition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c600"/>
                </a:solidFill>
                <a:latin typeface="Tahoma"/>
              </a:rPr>
              <a:t>Chokepoints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40384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have the power.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 control the chokepoin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57C-1FAC-4228-AAD6-0EBB75BDBE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rinth Canal (Greece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638680" y="1447920"/>
            <a:ext cx="3124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are approximately 200 straits ( narrow bodies of water connecting two larger bodies of water) around the world, but only a handful are known as chokepoin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495680" y="5257800"/>
            <a:ext cx="4343400" cy="703800"/>
          </a:xfrm>
          <a:prstGeom prst="rect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In your notebook, create a definition for “chokepoint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1722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ttp:www.bikeabout.otg/journal/notes_96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97B6-2C8B-41D3-AEF4-F0EA5E3547DB}" type="slidenum">
              <a:t>9</a:t>
            </a:fld>
          </a:p>
        </p:txBody>
      </p:sp>
    </p:spTree>
  </p:cSld>
  <p:transition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21:17:30Z</dcterms:created>
  <dc:creator>Smith</dc:creator>
  <dc:description/>
  <dc:language>en-US</dc:language>
  <cp:lastModifiedBy>CFISD</cp:lastModifiedBy>
  <dcterms:modified xsi:type="dcterms:W3CDTF">2009-02-10T13:07:04Z</dcterms:modified>
  <cp:revision>41</cp:revision>
  <dc:subject/>
  <dc:title>CHOKEPOINTS</dc:title>
</cp:coreProperties>
</file>