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wmf" ContentType="image/x-wmf"/>
  <Override PartName="/ppt/media/image6.jpeg" ContentType="image/jpeg"/>
  <Override PartName="/ppt/media/image5.wmf" ContentType="image/x-wmf"/>
  <Override PartName="/ppt/media/image12.jpeg" ContentType="image/jpeg"/>
  <Override PartName="/ppt/media/image10.wmf" ContentType="image/x-wmf"/>
  <Override PartName="/ppt/media/image25.png" ContentType="image/png"/>
  <Override PartName="/ppt/media/image13.jpeg" ContentType="image/jpeg"/>
  <Override PartName="/ppt/media/image23.png" ContentType="image/png"/>
  <Override PartName="/ppt/media/image3.wmf" ContentType="image/x-wmf"/>
  <Override PartName="/ppt/media/image2.wmf" ContentType="image/x-wmf"/>
  <Override PartName="/ppt/media/image26.jpeg" ContentType="image/jpeg"/>
  <Override PartName="/ppt/media/image19.png" ContentType="image/png"/>
  <Override PartName="/ppt/media/image24.png" ContentType="image/png"/>
  <Override PartName="/ppt/media/image1.jpeg" ContentType="image/jpeg"/>
  <Override PartName="/ppt/media/image4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888C-4E69-41A8-8CE3-F9D1C6FFC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he Suez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9882-BE87-40B3-9763-E1370F06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012D-C608-46AF-9ECD-6D0B52D8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04E-AF30-4D24-A6F3-0632F912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EFE-1F60-446D-8A5C-A170DA85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EC445-F034-446D-B7FF-178CD278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4A863-8618-40F5-BD33-F53F137D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29418-C3CA-4B90-84C6-30F2DD13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DDA2D-01EA-4A8B-BFC0-604CBD8D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F091A-5914-48AF-96D8-53E99D8E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593DF-7CF8-476D-B9F7-46767910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7280D-FCCB-4E4D-895D-18096E09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7E7-4B38-4535-A70D-7F2FD296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4BC46-19D7-40B3-B7E8-ABC3BC09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58747-AA73-47F7-9214-EE71A5E2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7C35A-4626-4CE5-9AAE-E91925F0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A843B-CD7B-4295-826A-22C753AA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69AC6-AEF2-4736-9C55-8BCD3AEB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93D-8C8D-4220-9A70-5F1C3B07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C6C-1A1E-4A94-8F1A-292BD231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F0BB-D2C5-403F-BD28-66B6BD0D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CA5-8FA2-413F-8C10-8FA35CA1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1D0-FAAB-44F8-A1D4-0D394FB7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A0C1-1FB9-486D-9277-674B5E88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05AB-E61B-4949-9CD0-1BB79DF4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1F97-95ED-4F4F-80A4-E5D54D8C88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1EE8-F7A6-44E8-A2E0-C1C1BCFC45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D:/whs588.htm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35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"/><Relationship Id="rId7" Type="http://schemas.openxmlformats.org/officeDocument/2006/relationships/slide" Target="slide29.xml"/><Relationship Id="rId8" Type="http://schemas.openxmlformats.org/officeDocument/2006/relationships/slide" Target=""/><Relationship Id="rId9" Type="http://schemas.openxmlformats.org/officeDocument/2006/relationships/slide" Target="slide37.xml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Tahoma"/>
              </a:rPr>
              <a:t>CHOKEPOINT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ot to get past ‘um, but h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74FB0-D77A-4332-A077-D4D9D76CA364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cc"/>
                </a:solidFill>
                <a:latin typeface="Tahoma"/>
              </a:rPr>
              <a:t>Chokepoint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 chokepoint is a strategic strait or canal which could be closed or blocked to stop sea traff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The Suez Canal and  the Straits of Hormuz (pictured on the map) are examples of chokepoi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452916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17711400">
            <a:off x="3428640" y="320004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380600">
            <a:off x="1218960" y="274284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971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Suez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2743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Tahoma"/>
              </a:rPr>
              <a:t>Strait of Horm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5943600"/>
            <a:ext cx="3886200" cy="64260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Make any adjustments to your definition that are need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2DE-2497-4A85-AB48-B89313D0E6AB}" type="slidenum">
              <a:t>10</a:t>
            </a:fld>
          </a:p>
        </p:txBody>
      </p:sp>
    </p:spTree>
  </p:cSld>
  <p:transition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915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600"/>
                </a:solidFill>
                <a:latin typeface="Tahoma"/>
              </a:rPr>
              <a:t>CHOKEPOINTS OR BOTTLENECKS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696080" cy="4818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62520" y="3809880"/>
            <a:ext cx="4724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ith the rise of industrial Europe and seaborne trade, entrepreneurs thought of building a canal to connect the Red Sea with the Mediterranean Sea directly, thus saving time either from sailing around Africa or transporting freight across the Suez Peninsul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477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4008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standto.com/qorsuez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4FA-2503-4882-9973-AA9E37C9735D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600"/>
                </a:solidFill>
                <a:latin typeface="Tahoma"/>
              </a:rPr>
              <a:t>SUEZ CANA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" y="1954080"/>
            <a:ext cx="4038480" cy="4015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257800" y="380880"/>
            <a:ext cx="38862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The Suez Canal was completed in 1869 under the leadership of a French company under de Lesseps.  European capital (money) built it and operated i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29000" y="4191120"/>
            <a:ext cx="722160" cy="444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181480" y="3581280"/>
            <a:ext cx="3962520" cy="3124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600"/>
                </a:solidFill>
                <a:latin typeface="Tahoma"/>
              </a:rPr>
              <a:t>3. Why would European companies be willing to fund the building of the canal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600"/>
                </a:solidFill>
                <a:latin typeface="Tahoma"/>
              </a:rPr>
              <a:t>4. How would it make them more wealthy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rite your answer in your notebook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632448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people.hofstra.edu/geotrans/eng/ch1en/conc1en/suez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E014-B8EC-4C74-BD66-B80DC8C176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2612 C -0.05955 0.02704 -0.06927 0.0275 -0.07882 0.02912 C -0.08802 0.03051 -0.09653 0.03837 -0.10556 0.04091 C -0.1184 0.04438 -0.13038 0.0497 -0.14323 0.0527 C -0.14983 0.06125 -0.1533 0.06958 -0.16111 0.07628 C -0.16753 0.08946 -0.16927 0.08576 -0.17882 0.09408 C -0.19097 0.11858 -0.175 0.08899 -0.18993 0.10887 C -0.20469 0.12852 -0.18368 0.10841 -0.20104 0.12367 C -0.21146 0.14447 -0.20538 0.13754 -0.21667 0.14748 C -0.22378 0.16181 -0.23038 0.16065 -0.24115 0.16504 C -0.25226 0.16296 -0.26163 0.16088 -0.27222 0.15626 C -0.27292 0.15326 -0.27326 0.15025 -0.27448 0.14748 C -0.27708 0.14124 -0.28333 0.12968 -0.28333 0.12968 C -0.28837 0.10887 -0.28611 0.11789 -0.28993 0.10309 C -0.29167 0.09639 -0.29705 0.092 -0.29878 0.08529 C -0.30365 0.06611 -0.31476 0.04877 -0.32326 0.0319 C -0.32778 0.02288 -0.3283 0.01456 -0.33212 0.00531 C -0.33472 -0.00093 -0.34115 -0.01249 -0.34115 -0.01249 C -0.34271 -0.01873 -0.34583 -0.03167 -0.34774 -0.03907 C -0.34844 -0.04208 -0.34931 -0.04485 -0.35 -0.04785 C -0.35069 -0.05086 -0.35226 -0.05687 -0.35226 -0.05687 C -0.35035 -0.07213 -0.34965 -0.07999 -0.34323 -0.09224 C -0.3401 -0.10564 -0.33542 -0.11766 -0.33212 -0.13084 C -0.33142 -0.13962 -0.33108 -0.14864 -0.33003 -0.15742 C -0.32969 -0.16043 -0.32951 -0.16413 -0.32778 -0.16621 C -0.32014 -0.17615 -0.31615 -0.1773 -0.30781 -0.181 C -0.30503 -0.19187 -0.30556 -0.18678 -0.30556 -0.1958 E">
                                      <p:cBhvr>
                                        <p:cTn id="9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108 0.01433 C -0.10035 0.00786 -0.12014 -0.00093 -0.13889 -0.00948 C -0.14132 -0.01064 -0.14306 -0.01364 -0.14549 -0.01526 C -0.14757 -0.01665 -0.15 -0.01734 -0.15226 -0.01827 C -0.16684 -0.01549 -0.16424 -0.01711 -0.17448 -0.01249 C -0.17882 -0.01064 -0.18767 -0.00648 -0.18767 -0.00648 C -0.20712 -0.01503 -0.20451 -0.04254 -0.21215 -0.06265 C -0.21337 -0.06588 -0.21563 -0.06843 -0.21667 -0.07166 C -0.21944 -0.08022 -0.22101 -0.08946 -0.22326 -0.09825 C -0.225 -0.10541 -0.22587 -0.1105 -0.23003 -0.11605 C -0.23194 -0.11859 -0.2342 -0.12021 -0.23663 -0.12183 C -0.23872 -0.12321 -0.24323 -0.12483 -0.24323 -0.12483 E">
                                      <p:cBhvr>
                                        <p:cTn id="9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1617840"/>
            <a:ext cx="5334120" cy="5240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rot="2695200">
            <a:off x="3047040" y="57909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 S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160020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editerranean Se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31240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uez Can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1828800"/>
            <a:ext cx="327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The Suez Canal brought a new era of European influence in Pacific Asia by reducing the journey from Asia to Europe by about 65,000 km.  The region became commercially accessible and colonial trade expan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7A1-9A9F-4A04-99F0-31DFF78BA4AC}" type="slidenum">
              <a:t>13</a:t>
            </a:fld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920" y="392040"/>
            <a:ext cx="8534160" cy="610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81080" y="685800"/>
            <a:ext cx="63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The Suez Canal is only 101 miles long but was built across the Egyptian desert.  It is one of the most significant maritime “shortcuts” ever built by man.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79132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http://people.hofstra.edu/geotrans/eng/ch5en/conc5en/suezconstr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35FF-6BC0-4895-852B-9351D336031E}" type="slidenum">
              <a:t>14</a:t>
            </a:fld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S Wisconsin goes through the Canal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80880" y="1241280"/>
            <a:ext cx="8382240" cy="561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C4E-FD7E-488F-A660-73BFF3BD40E0}" type="slidenum">
              <a:t>15</a:t>
            </a:fld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MPACT OF THE 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312-E55D-4042-B0FA-35CDFF28BB5E}" type="slidenum">
              <a:t>16</a:t>
            </a:fld>
          </a:p>
        </p:txBody>
      </p:sp>
    </p:spTree>
  </p:cSld>
  <p:transition>
    <p:circl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aved two weeks of shipping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EF68-0987-49DB-A6B6-39A7BCC002D8}" type="slidenum">
              <a:t>17</a:t>
            </a:fld>
          </a:p>
        </p:txBody>
      </p:sp>
    </p:spTree>
  </p:cSld>
  <p:transition>
    <p:diamond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aved two weeks of shipping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f you can shorten your shipping time, you can ship more items in the same amount of time that it used to ta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720-E84B-4129-B5BF-F00405E6BF75}" type="slidenum">
              <a:t>18</a:t>
            </a:fld>
          </a:p>
        </p:txBody>
      </p:sp>
    </p:spTree>
  </p:cSld>
  <p:transition>
    <p:diamond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aved two weeks of shipping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If you can shorten your shipping time, you can ship more items in the same amount of time that it used to ta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onnage shipped jumped from 500,000 tons to 3,500,000 tons in ten years after the Suez Canal ope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36B-F7F6-4D3E-8334-BBF614E2C7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rec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tle a page in your notebook “Chokepoint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a list 1-9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do not need to take any not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 complete tasks numbered 1-9 in your notebook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2E78-38E2-407A-B62B-281BD29169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s allowed the Europeans to take a greater interest in the Asian markets than ever bef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ritish control of the canal was viewed as the “Lifeline of the Empire” because it allowed the British quicker access to the colonies in Asia and Afric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4419720"/>
            <a:ext cx="4724640" cy="1944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5. In your notebook, write down what you think is the most important impact of the Suez Canal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6. Justify, or explain, your answ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07EA-3B1D-40F4-A4CB-EF9030FA5F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600"/>
                </a:solidFill>
                <a:latin typeface="Tahoma"/>
              </a:rPr>
              <a:t>Strait of Gibralta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5029200" cy="2673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86400" y="2209680"/>
            <a:ext cx="34290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Has long been fought o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Has been held by the Phoenicians, Romans, Visigoths, and the Mos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The British won the Battle of Trafalgar defeating Napole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2F59-F00F-463D-BFDE-045D761181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D:\whs588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3962520"/>
            <a:ext cx="4190760" cy="1922760"/>
          </a:xfrm>
          <a:prstGeom prst="rect">
            <a:avLst/>
          </a:prstGeom>
          <a:noFill/>
          <a:ln w="57240">
            <a:solidFill>
              <a:srgbClr val="00f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800"/>
                </a:solidFill>
                <a:latin typeface="Tahoma"/>
              </a:rPr>
              <a:t>After viewing the animation of the Battle of Trafalgar, click on the X to close the animation.  That will return you to the PowerPoi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2590920"/>
            <a:ext cx="4190760" cy="825480"/>
          </a:xfrm>
          <a:prstGeom prst="rect">
            <a:avLst/>
          </a:prstGeom>
          <a:noFill/>
          <a:ln w="57240">
            <a:solidFill>
              <a:srgbClr val="00f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800"/>
                </a:solidFill>
                <a:latin typeface="Tahoma"/>
              </a:rPr>
              <a:t>Click first on the D: to go to the ani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520-1980-49F4-B22C-5AEB2203EF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7315200" cy="6737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62164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http://www.webcom.com/beacon/mapchokepoint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457200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42670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5029200"/>
            <a:ext cx="30456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6324480"/>
            <a:ext cx="30456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96080" y="525780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04EB-B2B4-4058-93D6-59ECC2B35B85}" type="slidenum">
              <a:t>23</a:t>
            </a:fld>
          </a:p>
        </p:txBody>
      </p:sp>
    </p:spTree>
  </p:cSld>
  <p:transition>
    <p:checker dir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50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50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50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50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OIL DEPENDENCY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B523-2E62-4F82-B8AD-3F276B4495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OIL DEPENDENCY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the past 50 years, one of the main sources of energy used by developed and developing nations has been 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nations with little of this resource, </a:t>
            </a:r>
            <a:r>
              <a:rPr b="1" i="1" lang="en-US" sz="3600" spc="-1" strike="noStrike">
                <a:solidFill>
                  <a:srgbClr val="ffcc00"/>
                </a:solidFill>
                <a:latin typeface="Tahoma"/>
              </a:rPr>
              <a:t>disrup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</a:t>
            </a:r>
            <a:r>
              <a:rPr b="1" i="1" lang="en-US" sz="3600" spc="-1" strike="noStrike">
                <a:solidFill>
                  <a:srgbClr val="ffcc00"/>
                </a:solidFill>
                <a:latin typeface="Tahoma"/>
              </a:rPr>
              <a:t>availabil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oil or a large price increase, causes economic or political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5257800"/>
            <a:ext cx="3581280" cy="1099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00"/>
                </a:solidFill>
                <a:latin typeface="Tahoma"/>
              </a:rPr>
              <a:t>7. In your notebook, write down two effects of closing a chokepoi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262-4709-48BF-A4E1-3D12C637F5B5}" type="slidenum">
              <a:t>25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0" t="16670" r="35439" b="8669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1A1-BD89-4A70-AE1A-1B0AF4F1A0C0}" type="slidenum">
              <a:t>26</a:t>
            </a:fld>
          </a:p>
        </p:txBody>
      </p:sp>
    </p:spTree>
  </p:cSld>
  <p:transition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SECURING THE SUPPLY: STRATEGIC POINTS OF CONCER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centuries, straits such as Gibraltar have been protected by international law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82, the Law of Sea Conventions further protected the international access for nations to sail through straits and canal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5562720"/>
            <a:ext cx="5257800" cy="7038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 In your notebook, explain why straits would be protected by international law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BB77-A5FE-4B62-B04F-6648A0F51EC3}" type="slidenum">
              <a:t>27</a:t>
            </a:fld>
          </a:p>
        </p:txBody>
      </p:sp>
    </p:spTree>
  </p:cSld>
  <p:transition>
    <p:diamond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rcRect l="1001" t="17999" r="37002" b="11334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6553080" y="43434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4" action="ppaction://hlinksldjump"/>
          </p:cNvPr>
          <p:cNvSpPr/>
          <p:nvPr/>
        </p:nvSpPr>
        <p:spPr>
          <a:xfrm>
            <a:off x="5105520" y="41148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rId5" action="ppaction://hlinksldjump"/>
          </p:cNvPr>
          <p:cNvSpPr/>
          <p:nvPr/>
        </p:nvSpPr>
        <p:spPr>
          <a:xfrm>
            <a:off x="5410080" y="37339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rId6" action="ppaction://hlinksldjump"/>
          </p:cNvPr>
          <p:cNvSpPr/>
          <p:nvPr/>
        </p:nvSpPr>
        <p:spPr>
          <a:xfrm>
            <a:off x="4419720" y="320040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7" action="ppaction://hlinksldjump"/>
          </p:cNvPr>
          <p:cNvSpPr/>
          <p:nvPr/>
        </p:nvSpPr>
        <p:spPr>
          <a:xfrm>
            <a:off x="4343400" y="35053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8" action="ppaction://hlinksldjump"/>
          </p:cNvPr>
          <p:cNvSpPr/>
          <p:nvPr/>
        </p:nvSpPr>
        <p:spPr>
          <a:xfrm>
            <a:off x="1295280" y="42670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5943600"/>
            <a:ext cx="3276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105520"/>
            <a:ext cx="1828800" cy="1310760"/>
          </a:xfrm>
          <a:prstGeom prst="rect">
            <a:avLst/>
          </a:prstGeom>
          <a:solidFill>
            <a:srgbClr val="e7e1c5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After you have visited each of the chokepoints, click on this butt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9" action="ppaction://hlinksldjump"/>
          </p:cNvPr>
          <p:cNvSpPr/>
          <p:nvPr/>
        </p:nvSpPr>
        <p:spPr>
          <a:xfrm>
            <a:off x="304920" y="45720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4724280" cy="703800"/>
          </a:xfrm>
          <a:prstGeom prst="rect">
            <a:avLst/>
          </a:prstGeom>
          <a:solidFill>
            <a:srgbClr val="e7e1c5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Click on each of the tankers for information about the chokepoi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F59B-2AEF-4240-A5BE-A714833DA572}" type="slidenum">
              <a:t>28</a:t>
            </a:fld>
          </a:p>
        </p:txBody>
      </p:sp>
    </p:spTree>
  </p:cSld>
  <p:transition>
    <p:diamond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5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cc"/>
                </a:solidFill>
                <a:latin typeface="Tahoma"/>
              </a:rPr>
              <a:t>Suez Ca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4197600" cy="4419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800600" y="2057400"/>
            <a:ext cx="41148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It is the only sea route between the Red Sea and the Mediterranean Se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With the Middle East tension, the Suez Canal is a prime target for many nations. In 1967, the Arab-Israeli War shut down the canal for 8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A third of the cargo is oi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632448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rId3" action="ppaction://hlinksldjump"/>
          </p:cNvPr>
          <p:cNvSpPr/>
          <p:nvPr/>
        </p:nvSpPr>
        <p:spPr>
          <a:xfrm>
            <a:off x="380880" y="38088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5" h="21600">
                <a:moveTo>
                  <a:pt x="14586" y="7493"/>
                </a:moveTo>
                <a:lnTo>
                  <a:pt x="18094" y="7493"/>
                </a:lnTo>
                <a:lnTo>
                  <a:pt x="18094" y="12828"/>
                </a:lnTo>
                <a:cubicBezTo>
                  <a:pt x="18094" y="13751"/>
                  <a:pt x="18895" y="14482"/>
                  <a:pt x="19930" y="14482"/>
                </a:cubicBezTo>
                <a:lnTo>
                  <a:pt x="21593" y="14482"/>
                </a:lnTo>
                <a:cubicBezTo>
                  <a:pt x="22628" y="14482"/>
                  <a:pt x="23429" y="13751"/>
                  <a:pt x="23429" y="12828"/>
                </a:cubicBezTo>
                <a:lnTo>
                  <a:pt x="23429" y="7493"/>
                </a:lnTo>
                <a:lnTo>
                  <a:pt x="21593" y="7493"/>
                </a:lnTo>
                <a:lnTo>
                  <a:pt x="25100" y="3985"/>
                </a:lnTo>
                <a:lnTo>
                  <a:pt x="28773" y="7493"/>
                </a:lnTo>
                <a:lnTo>
                  <a:pt x="26937" y="7493"/>
                </a:lnTo>
                <a:lnTo>
                  <a:pt x="26937" y="12828"/>
                </a:lnTo>
                <a:cubicBezTo>
                  <a:pt x="26937" y="15596"/>
                  <a:pt x="24360" y="18155"/>
                  <a:pt x="21593" y="18155"/>
                </a:cubicBezTo>
                <a:lnTo>
                  <a:pt x="19930" y="18155"/>
                </a:lnTo>
                <a:cubicBezTo>
                  <a:pt x="17163" y="18155"/>
                  <a:pt x="14586" y="15596"/>
                  <a:pt x="1458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990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Click on button to return to 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E28-4643-4E2B-954E-A273AD767A2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re chokepoint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nt: In your history class they might be called “bottlenecks.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geographers call them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“chokepoint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, take a minute and imagine what a chokepoint or a bottleneck might look li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494-FC71-49C0-94BA-358703844C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600"/>
                </a:solidFill>
                <a:latin typeface="Tahoma"/>
              </a:rPr>
              <a:t>BAB el MANDEB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605040" cy="4267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114800" y="1905120"/>
            <a:ext cx="472428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Bottleneck for traffic between the Mediterranean Sea and the Indian Oc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3.2 million barrels of oil daily move through this chokepo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All the nations along the Red Sea are Islamic and the rulers of Sudan are backed by Ir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24852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rId3" action="ppaction://hlinksldjump"/>
          </p:cNvPr>
          <p:cNvSpPr/>
          <p:nvPr/>
        </p:nvSpPr>
        <p:spPr>
          <a:xfrm>
            <a:off x="380880" y="9907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7493"/>
                </a:moveTo>
                <a:lnTo>
                  <a:pt x="19894" y="7493"/>
                </a:lnTo>
                <a:lnTo>
                  <a:pt x="19894" y="12828"/>
                </a:lnTo>
                <a:cubicBezTo>
                  <a:pt x="19894" y="13751"/>
                  <a:pt x="20695" y="14482"/>
                  <a:pt x="21731" y="14482"/>
                </a:cubicBezTo>
                <a:lnTo>
                  <a:pt x="23393" y="14482"/>
                </a:lnTo>
                <a:cubicBezTo>
                  <a:pt x="24429" y="14482"/>
                  <a:pt x="25229" y="13751"/>
                  <a:pt x="25229" y="12828"/>
                </a:cubicBezTo>
                <a:lnTo>
                  <a:pt x="25229" y="7493"/>
                </a:lnTo>
                <a:lnTo>
                  <a:pt x="23393" y="7493"/>
                </a:lnTo>
                <a:lnTo>
                  <a:pt x="26901" y="3985"/>
                </a:lnTo>
                <a:lnTo>
                  <a:pt x="30573" y="7493"/>
                </a:lnTo>
                <a:lnTo>
                  <a:pt x="28737" y="7493"/>
                </a:lnTo>
                <a:lnTo>
                  <a:pt x="28737" y="12828"/>
                </a:lnTo>
                <a:cubicBezTo>
                  <a:pt x="28737" y="15596"/>
                  <a:pt x="26161" y="18155"/>
                  <a:pt x="23393" y="18155"/>
                </a:cubicBezTo>
                <a:lnTo>
                  <a:pt x="21731" y="18155"/>
                </a:lnTo>
                <a:cubicBezTo>
                  <a:pt x="18963" y="18155"/>
                  <a:pt x="16386" y="15596"/>
                  <a:pt x="1638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1447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ahoma"/>
              </a:rPr>
              <a:t>Click button to  return to 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87B-6911-416B-844A-1D0F748950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cc"/>
                </a:solidFill>
                <a:latin typeface="Tahoma"/>
              </a:rPr>
              <a:t>STRAIT OF HORMUZ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447920" y="3828960"/>
            <a:ext cx="5943600" cy="3029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990720"/>
            <a:ext cx="9144000" cy="3035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ritical point in the lifeline flow of oil from the Persian Gulf area. A quarter of the world’s oil supply passes through this strait. 15.5 million barrels of oil a day pass throug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losely monitored by the U.S. military and its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onnects the Persian Gulf and the Arabian Sea (part of the Indian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3962520"/>
            <a:ext cx="49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59E5-8FB9-4FAB-812E-8E9F5204549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828800" y="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Strait of Hormu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9144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Tahoma"/>
              </a:rPr>
              <a:t>http://www.eia.doe.gov/emeu/cabs/choke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>
            <a:hlinkClick r:id="rId3" action="ppaction://hlinksldjump"/>
          </p:cNvPr>
          <p:cNvSpPr/>
          <p:nvPr/>
        </p:nvSpPr>
        <p:spPr>
          <a:xfrm>
            <a:off x="6705720" y="54864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7493"/>
                </a:moveTo>
                <a:lnTo>
                  <a:pt x="10899" y="7493"/>
                </a:lnTo>
                <a:lnTo>
                  <a:pt x="10899" y="12828"/>
                </a:lnTo>
                <a:cubicBezTo>
                  <a:pt x="10899" y="13751"/>
                  <a:pt x="11700" y="14482"/>
                  <a:pt x="12736" y="14482"/>
                </a:cubicBezTo>
                <a:lnTo>
                  <a:pt x="14398" y="14482"/>
                </a:lnTo>
                <a:cubicBezTo>
                  <a:pt x="15434" y="14482"/>
                  <a:pt x="16235" y="13751"/>
                  <a:pt x="16235" y="12828"/>
                </a:cubicBezTo>
                <a:lnTo>
                  <a:pt x="16235" y="7493"/>
                </a:lnTo>
                <a:lnTo>
                  <a:pt x="14398" y="7493"/>
                </a:lnTo>
                <a:lnTo>
                  <a:pt x="17906" y="3985"/>
                </a:lnTo>
                <a:lnTo>
                  <a:pt x="21579" y="7493"/>
                </a:lnTo>
                <a:lnTo>
                  <a:pt x="19742" y="7493"/>
                </a:lnTo>
                <a:lnTo>
                  <a:pt x="19742" y="12828"/>
                </a:lnTo>
                <a:cubicBezTo>
                  <a:pt x="19742" y="15596"/>
                  <a:pt x="17166" y="18155"/>
                  <a:pt x="14398" y="18155"/>
                </a:cubicBezTo>
                <a:lnTo>
                  <a:pt x="12736" y="18155"/>
                </a:lnTo>
                <a:cubicBezTo>
                  <a:pt x="9968" y="18155"/>
                  <a:pt x="7392" y="15596"/>
                  <a:pt x="7392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4572000"/>
            <a:ext cx="1828800" cy="82404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Click on button to return to 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EF8-8B10-4448-8FBE-CE878F0FAAC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752480" y="3200400"/>
            <a:ext cx="5029200" cy="3352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3520" y="0"/>
            <a:ext cx="815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9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THE BOSPORUS STRAI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143000"/>
            <a:ext cx="9144000" cy="244908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ff00"/>
              </a:buClr>
              <a:buFont typeface="Tahoma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Joins the Black Sea and the Sea of Marm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ff00"/>
              </a:buClr>
              <a:buFont typeface="Tahoma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Russians and Turks have fought many battles over this strait.  Turks are now citing environmental concerns as an excuse to restrict Russian access to the stra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655308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9B0-536B-4C84-8D1D-C4E39B0C0E3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4920" y="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ahoma"/>
              </a:rPr>
              <a:t>http://www.eia.doe.gov/emeu/cabs/choke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rId3" action="ppaction://hlinksldjump"/>
          </p:cNvPr>
          <p:cNvSpPr/>
          <p:nvPr/>
        </p:nvSpPr>
        <p:spPr>
          <a:xfrm>
            <a:off x="609480" y="4952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7493"/>
                </a:moveTo>
                <a:lnTo>
                  <a:pt x="8646" y="7493"/>
                </a:lnTo>
                <a:lnTo>
                  <a:pt x="8646" y="12828"/>
                </a:lnTo>
                <a:cubicBezTo>
                  <a:pt x="8646" y="13751"/>
                  <a:pt x="9446" y="14482"/>
                  <a:pt x="10482" y="14482"/>
                </a:cubicBezTo>
                <a:lnTo>
                  <a:pt x="12144" y="14482"/>
                </a:lnTo>
                <a:cubicBezTo>
                  <a:pt x="13180" y="14482"/>
                  <a:pt x="13981" y="13751"/>
                  <a:pt x="13981" y="12828"/>
                </a:cubicBezTo>
                <a:lnTo>
                  <a:pt x="13981" y="7493"/>
                </a:lnTo>
                <a:lnTo>
                  <a:pt x="12144" y="7493"/>
                </a:lnTo>
                <a:lnTo>
                  <a:pt x="15652" y="3985"/>
                </a:lnTo>
                <a:lnTo>
                  <a:pt x="19325" y="7493"/>
                </a:lnTo>
                <a:lnTo>
                  <a:pt x="17488" y="7493"/>
                </a:lnTo>
                <a:lnTo>
                  <a:pt x="17488" y="12828"/>
                </a:lnTo>
                <a:cubicBezTo>
                  <a:pt x="17488" y="15596"/>
                  <a:pt x="14912" y="18155"/>
                  <a:pt x="12144" y="18155"/>
                </a:cubicBezTo>
                <a:lnTo>
                  <a:pt x="10482" y="18155"/>
                </a:lnTo>
                <a:cubicBezTo>
                  <a:pt x="7714" y="18155"/>
                  <a:pt x="5138" y="15596"/>
                  <a:pt x="5138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403848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ick on button to return to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FF0-FE75-4542-81F8-4FD06834A42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Strait of Malacc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467840" cy="2738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80880" y="4114800"/>
            <a:ext cx="7162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Tankers pass through this strait bordered by Indonesia and Malaysi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Located in the Indian Ocean, this strait is a shortcut for oil tankers traveling between the Middle East and the oil-dependent nations of the Pacific Rim (especially Japan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More than 50,000 ships pass through this strait year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380988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8153280" y="41911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077320" y="4952880"/>
            <a:ext cx="838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ick button to return to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B4F-5BC3-4D32-9519-CD5FE6FF875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5333760" cy="3554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09480" y="2286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cc"/>
                </a:solidFill>
                <a:latin typeface="Tahoma"/>
              </a:rPr>
              <a:t>Panama Can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1295280"/>
            <a:ext cx="34290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Connects the Pacific Ocean with the Caribbean Sea and Atlantic Oc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0.5 million barrels of oil go through it da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Needs to be wide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55627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6400800" y="586728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7493"/>
                </a:moveTo>
                <a:lnTo>
                  <a:pt x="12100" y="7493"/>
                </a:lnTo>
                <a:lnTo>
                  <a:pt x="12100" y="12828"/>
                </a:lnTo>
                <a:cubicBezTo>
                  <a:pt x="12100" y="13751"/>
                  <a:pt x="12901" y="14482"/>
                  <a:pt x="13937" y="14482"/>
                </a:cubicBezTo>
                <a:lnTo>
                  <a:pt x="15599" y="14482"/>
                </a:lnTo>
                <a:cubicBezTo>
                  <a:pt x="16635" y="14482"/>
                  <a:pt x="17436" y="13751"/>
                  <a:pt x="17436" y="12828"/>
                </a:cubicBezTo>
                <a:lnTo>
                  <a:pt x="17436" y="7493"/>
                </a:lnTo>
                <a:lnTo>
                  <a:pt x="15599" y="7493"/>
                </a:lnTo>
                <a:lnTo>
                  <a:pt x="19107" y="3985"/>
                </a:lnTo>
                <a:lnTo>
                  <a:pt x="22780" y="7493"/>
                </a:lnTo>
                <a:lnTo>
                  <a:pt x="20943" y="7493"/>
                </a:lnTo>
                <a:lnTo>
                  <a:pt x="20943" y="12828"/>
                </a:lnTo>
                <a:cubicBezTo>
                  <a:pt x="20943" y="15596"/>
                  <a:pt x="18367" y="18155"/>
                  <a:pt x="15599" y="18155"/>
                </a:cubicBezTo>
                <a:lnTo>
                  <a:pt x="13937" y="18155"/>
                </a:lnTo>
                <a:cubicBezTo>
                  <a:pt x="11169" y="18155"/>
                  <a:pt x="8593" y="15596"/>
                  <a:pt x="8593" y="12828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601992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lick on button to return to ma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44D2-D219-4614-9A92-BB8C3D27C4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a491"/>
                </a:solidFill>
                <a:latin typeface="Tahoma"/>
              </a:rPr>
              <a:t>Barrels of Oil Transported through Chokepoints Dail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8915400" cy="472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85E8-EBF7-4339-BA0B-8A4FC0A8465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Tahoma"/>
              </a:rPr>
              <a:t>Let’s </a:t>
            </a:r>
            <a:r>
              <a:rPr b="1" i="1" lang="en-US" sz="4400" spc="-1" strike="noStrike" u="sng">
                <a:solidFill>
                  <a:srgbClr val="33cccc"/>
                </a:solidFill>
                <a:uFillTx/>
                <a:latin typeface="Tahoma"/>
              </a:rPr>
              <a:t>recap</a:t>
            </a:r>
            <a:r>
              <a:rPr b="1" lang="en-US" sz="4400" spc="-1" strike="noStrike">
                <a:solidFill>
                  <a:srgbClr val="33cccc"/>
                </a:solidFill>
                <a:latin typeface="Tahoma"/>
              </a:rPr>
              <a:t> what we know about chokepoint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495320" y="18288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 chokepoint is a strategic strait or canal which could be closed or blocked to stop sea traff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The Suez Canal and  the Straits of Hormuz (pictured on the map) are examples of chokepoi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4529160" cy="4572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rot="17711400">
            <a:off x="3428640" y="320004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9380600">
            <a:off x="1218960" y="274284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2971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Suez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2743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Tahoma"/>
              </a:rPr>
              <a:t>Strait of Horm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A8BB-783A-420F-B00F-71460D4B0CCD}" type="slidenum">
              <a:t>38</a:t>
            </a:fld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Now,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Tahoma"/>
              </a:rPr>
              <a:t>review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what else you know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If a chokepoint is closed, it affects world trade patterns, the economy and politic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That can lead to higher prices and/or wa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Keeping these straits or chokepoints open is very important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The control of these narrow passageways is critical. Whoever has the control is in pow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431-AA21-45A2-BAF6-3FA85232384E}" type="slidenum">
              <a:t>39</a:t>
            </a:fld>
          </a:p>
        </p:txBody>
      </p:sp>
    </p:spTree>
  </p:cSld>
  <p:transition>
    <p:checker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Chokepoints or bottleneck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 rot="2476800">
            <a:off x="914400" y="1676160"/>
            <a:ext cx="288432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14800" y="1523880"/>
            <a:ext cx="4800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ave you ever had trouble getting catsup out of the bottle? What caused the trouble?  Was it partially caused by trying to get something too thick through too small a plac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9243-6FC9-45D1-83B9-AA857B3FE47D}" type="slidenum">
              <a:t>4</a:t>
            </a:fld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omplete a flow chart showing these effect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2209680"/>
            <a:ext cx="3657600" cy="82548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he Strait of Hormuz gets clos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12408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90920" y="3809880"/>
            <a:ext cx="3581280" cy="119124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U.S. and China scramble to get enough o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4724280"/>
            <a:ext cx="9144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5715000"/>
            <a:ext cx="3200400" cy="82512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4267080"/>
            <a:ext cx="19814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#9 (sketch the cause and effect chart in your notebook and use the following slide for potential answer choic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B2A3-6C84-4C08-AB6E-FE893C733EE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ich best fits in the last box of the flow char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. Saudi Arabia pipes the oil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Red Se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B. The U.S. sends in troops and aircraft to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ake over the Strait of Hormu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C. Diplomatic pressure makes Turk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open the Stra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. The price of oil products goes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worldw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429E-DC11-4941-BE0D-77E4B6898D8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Yes, the correct answer is B.  The United States sends in troops to open the Strait of Hormuz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is incorrect.  Saudi Arabia might be able to pump more oil to the Red Sea but the quantity would not be suffici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C is incorrect.  Turkey controls the Bosporus Strait, not the Strait of Hormu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 is incorrect.  The price of oil products would go up significantly around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7A1-BDEB-483A-B6E9-2CB3415A3D2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ongratulation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, you have finished the tutorial on chokepoint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t your answers approved and finish the cut-away boxes on your map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550B-6589-4C48-91DE-CCD9FB6B304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9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hokepoint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or bottleneck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600"/>
                </a:solidFill>
                <a:latin typeface="Tahoma"/>
              </a:rPr>
              <a:t>Have you ever wondered how they got those ships into those bottles?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does something that big go through the narrow space at the top of the bottle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20409000">
            <a:off x="4419360" y="2209320"/>
            <a:ext cx="4724280" cy="1324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00600" y="5029200"/>
            <a:ext cx="3581280" cy="11912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slide 7, think about the shape of the bottle and write a description of a chokepoint on your pap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0B5E-8F29-45A4-8FFD-B2F1E29345DF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ahoma"/>
              </a:rPr>
              <a:t>Chokepoints or bottleneck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239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y do people choke?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ometimes it’s because something too large got stuck in their throat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421080" cy="42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193-50B5-4529-893E-9C16FAB83DA2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Chokepoint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It’s just the same when people try to transport goods around the wor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ometimes countries are trading one good for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Sometimes countries are transporting soldiers or armaments to battle si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control of these narrow passageways is critical. Whoever has the control is in po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0CD-312B-4BAF-8343-4C919260554E}" type="slidenum">
              <a:t>7</a:t>
            </a:fld>
          </a:p>
        </p:txBody>
      </p:sp>
    </p:spTree>
  </p:cSld>
  <p:transition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600"/>
                </a:solidFill>
                <a:latin typeface="Tahoma"/>
              </a:rPr>
              <a:t>Chokepoint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4038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 have the power.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 control the chokepoin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038480" cy="30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C27E-CF76-4F21-8E54-AE5969EB44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rinth Canal (Greece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638680" y="1447920"/>
            <a:ext cx="3124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approximately 200 straits ( narrow bodies of water connecting two larger bodies of water) around the world, but only a handful are known as choke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5257800"/>
            <a:ext cx="4343400" cy="7038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In your notebook, create a definition for “chokepoint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1722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www.bikeabout.otg/journal/notes_96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E26-85AF-494F-9031-FD0EDC3CD7DA}" type="slidenum">
              <a:t>9</a:t>
            </a:fld>
          </a:p>
        </p:txBody>
      </p:sp>
    </p:spTree>
  </p:cSld>
  <p:transition>
    <p:checke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21:17:30Z</dcterms:created>
  <dc:creator>Smith</dc:creator>
  <dc:description/>
  <dc:language>en-US</dc:language>
  <cp:lastModifiedBy>CFISD</cp:lastModifiedBy>
  <dcterms:modified xsi:type="dcterms:W3CDTF">2009-02-10T13:07:04Z</dcterms:modified>
  <cp:revision>41</cp:revision>
  <dc:subject/>
  <dc:title>CHOKEPOINTS</dc:title>
</cp:coreProperties>
</file>