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25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2.wmf" ContentType="image/x-wmf"/>
  <Override PartName="/ppt/media/image26.jpeg" ContentType="image/jpeg"/>
  <Override PartName="/ppt/media/image19.png" ContentType="image/png"/>
  <Override PartName="/ppt/media/image24.png" ContentType="image/png"/>
  <Override PartName="/ppt/media/image1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AC25-E56F-46FE-B64F-52DEC069C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he Suez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72F-E605-48E4-A321-B173F52D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7F9-8E16-4017-AF39-3E9CDA2B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CF6-5839-4967-AB49-71891DCB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F57-C46D-485B-89B6-CECC5C00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4CD89-EF7E-4333-9492-812860DC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D27CE-10E1-468C-8CC8-F1F0DD0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B42F8-D387-4171-A3DC-6BFD8C00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8B0EE-69C9-4E72-8753-B6B93A4D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E4CA0-61D6-42A6-8FAD-630912A7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4A502-C2DA-4A2E-9A35-EE321902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9EC05-0AD9-4A28-97F2-147BA0A5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B67-A9FD-49AE-A991-797B506F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7C8B3-E253-4D09-9647-72480E46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342F8-AB04-4A2F-BC66-68BA6C6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343D4-B70E-4B93-B6A7-39EEB3CC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80F8D-5D9D-48DE-986E-A2CFF5FA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2F290-152C-44C5-A09A-3FBECDAD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C72-75A0-415E-8E6E-B6490733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DB7-D2D7-40E5-BBD6-2EEB6B03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734-2BAB-4221-B7DB-C9A1B41A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2BD-5BCB-4421-8632-81B91DCF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252-8C87-4124-B54E-01B03231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C8A-D411-4B8B-BD4E-2FD36EC3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ABE-BDD1-4ADF-943B-0A9147F8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AD78-1503-40CF-B8EC-5CD3EBF75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2200-B32F-4130-9AB1-B940789FD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:/whs588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35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"/><Relationship Id="rId7" Type="http://schemas.openxmlformats.org/officeDocument/2006/relationships/slide" Target="slide29.xml"/><Relationship Id="rId8" Type="http://schemas.openxmlformats.org/officeDocument/2006/relationships/slide" Target=""/><Relationship Id="rId9" Type="http://schemas.openxmlformats.org/officeDocument/2006/relationships/slide" Target="slide37.xm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ot to get past ‘um, but 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B286E-4A15-4A6E-BA5B-6D712D908BD9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943600"/>
            <a:ext cx="3886200" cy="6426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Make any adjustments to your definition that are nee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D22-C19A-4743-9C88-DC194CE3D5EB}" type="slidenum">
              <a:t>10</a:t>
            </a:fld>
          </a:p>
        </p:txBody>
      </p:sp>
    </p:spTree>
  </p:cSld>
  <p:transition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600"/>
                </a:solidFill>
                <a:latin typeface="Tahoma"/>
              </a:rPr>
              <a:t>CHOKEPOINTS OR BOTTLENECKS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696080" cy="481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2520" y="3809880"/>
            <a:ext cx="4724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th the rise of industrial Europe and seaborne trade, entrepreneurs thought of building a canal to connect the Red Sea with the Mediterranean Sea directly, thus saving time either from sailing around Africa or transporting freight across the Suez Peninsul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00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standto.com/qor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EC4-6BF2-46D8-A463-2076579D0A1B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SUEZ CANA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954080"/>
            <a:ext cx="4038480" cy="401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57800" y="380880"/>
            <a:ext cx="3886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Suez Canal was completed in 1869 under the leadership of a French company under de Lesseps.  European capital (money) built it and operated i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722160" cy="44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3581280"/>
            <a:ext cx="3962520" cy="3124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3. Why would European companies be willing to fund the building of the canal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4. How would it make them more wealt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rite your answer in your noteboo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32448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people.hofstra.edu/geotrans/eng/ch1en/conc1en/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F0E-3662-4641-8822-9049C4D24F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2612 C -0.05955 0.02704 -0.06927 0.0275 -0.07882 0.02912 C -0.08802 0.03051 -0.09653 0.03837 -0.10556 0.04091 C -0.1184 0.04438 -0.13038 0.0497 -0.14323 0.0527 C -0.14983 0.06125 -0.1533 0.06958 -0.16111 0.07628 C -0.16753 0.08946 -0.16927 0.08576 -0.17882 0.09408 C -0.19097 0.11858 -0.175 0.08899 -0.18993 0.10887 C -0.20469 0.12852 -0.18368 0.10841 -0.20104 0.12367 C -0.21146 0.14447 -0.20538 0.13754 -0.21667 0.14748 C -0.22378 0.16181 -0.23038 0.16065 -0.24115 0.16504 C -0.25226 0.16296 -0.26163 0.16088 -0.27222 0.15626 C -0.27292 0.15326 -0.27326 0.15025 -0.27448 0.14748 C -0.27708 0.14124 -0.28333 0.12968 -0.28333 0.12968 C -0.28837 0.10887 -0.28611 0.11789 -0.28993 0.10309 C -0.29167 0.09639 -0.29705 0.092 -0.29878 0.08529 C -0.30365 0.06611 -0.31476 0.04877 -0.32326 0.0319 C -0.32778 0.02288 -0.3283 0.01456 -0.33212 0.00531 C -0.33472 -0.00093 -0.34115 -0.01249 -0.34115 -0.01249 C -0.34271 -0.01873 -0.34583 -0.03167 -0.34774 -0.03907 C -0.34844 -0.04208 -0.34931 -0.04485 -0.35 -0.04785 C -0.35069 -0.05086 -0.35226 -0.05687 -0.35226 -0.05687 C -0.35035 -0.07213 -0.34965 -0.07999 -0.34323 -0.09224 C -0.3401 -0.10564 -0.33542 -0.11766 -0.33212 -0.13084 C -0.33142 -0.13962 -0.33108 -0.14864 -0.33003 -0.15742 C -0.32969 -0.16043 -0.32951 -0.16413 -0.32778 -0.16621 C -0.32014 -0.17615 -0.31615 -0.1773 -0.30781 -0.181 C -0.30503 -0.19187 -0.30556 -0.18678 -0.30556 -0.1958 E">
                                      <p:cBhvr>
                                        <p:cTn id="9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1433 C -0.10035 0.00786 -0.12014 -0.00093 -0.13889 -0.00948 C -0.14132 -0.01064 -0.14306 -0.01364 -0.14549 -0.01526 C -0.14757 -0.01665 -0.15 -0.01734 -0.15226 -0.01827 C -0.16684 -0.01549 -0.16424 -0.01711 -0.17448 -0.01249 C -0.17882 -0.01064 -0.18767 -0.00648 -0.18767 -0.00648 C -0.20712 -0.01503 -0.20451 -0.04254 -0.21215 -0.06265 C -0.21337 -0.06588 -0.21563 -0.06843 -0.21667 -0.07166 C -0.21944 -0.08022 -0.22101 -0.08946 -0.22326 -0.09825 C -0.225 -0.10541 -0.22587 -0.1105 -0.23003 -0.11605 C -0.23194 -0.11859 -0.2342 -0.12021 -0.23663 -0.12183 C -0.23872 -0.12321 -0.24323 -0.12483 -0.24323 -0.12483 E">
                                      <p:cBhvr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617840"/>
            <a:ext cx="5334120" cy="52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695200">
            <a:off x="3047040" y="5790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60020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editerranean S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1240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828800"/>
            <a:ext cx="32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he Suez Canal brought a new era of European influence in Pacific Asia by reducing the journey from Asia to Europe by about 65,000 km.  The region became commercially accessible and colonial trade expan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AAD-55D4-45ED-A520-C4031900E399}" type="slidenum">
              <a:t>13</a:t>
            </a:fld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392040"/>
            <a:ext cx="8534160" cy="610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6858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he Suez Canal is only 101 miles long but was built across the Egyptian desert.  It is one of the most significant maritime “shortcuts” ever built by man.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7913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http://people.hofstra.edu/geotrans/eng/ch5en/conc5en/suezconstr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BBB-5A0D-4D16-9745-9AC4FF847269}" type="slidenum">
              <a:t>14</a:t>
            </a:fld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S Wisconsin goes through the Can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241280"/>
            <a:ext cx="838224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E90-AD35-4E31-A289-F657E701E024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ACT OF THE 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91C-9725-43BC-8F12-FF34A51F2960}" type="slidenum">
              <a:t>16</a:t>
            </a:fld>
          </a:p>
        </p:txBody>
      </p:sp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EAD-C28A-4B20-893A-556BFD3FED38}" type="slidenum">
              <a:t>17</a:t>
            </a:fld>
          </a:p>
        </p:txBody>
      </p:sp>
    </p:spTree>
  </p:cSld>
  <p:transition>
    <p:diamond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883-B57B-4712-80AF-864D28758D2D}" type="slidenum">
              <a:t>18</a:t>
            </a:fld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onnage shipped jumped from 500,000 tons to 3,500,000 tons in ten years after the Suez Canal ope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831-A9C7-4EA1-A3E0-6E98E1DC24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tle a page in your notebook “Chokepoin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list 1-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 not need to take any no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complete tasks numbered 1-9 in your notebook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164-EE27-47EE-B4DF-1DAA892AB8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s allowed the Europeans to take a greater interest in the Asian markets than ever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ritish control of the canal was viewed as the “Lifeline of the Empire” because it allowed the British quicker access to the colonies in Asia and Afric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4419720"/>
            <a:ext cx="4724640" cy="194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5. In your notebook, write down what you think is the most important impact of the Suez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6. Justify, or explain, your answ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2CE-CCBD-4BED-A985-E6B70338EB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Strait of Gibralta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029200" cy="267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86400" y="2209680"/>
            <a:ext cx="3429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long been fought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been held by the Phoenicians, Romans, Visigoths, and the Mos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British won the Battle of Trafalgar defeating Napole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BCD-B2E0-4267-A98A-791228C585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:\whs588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4190760" cy="192276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After viewing the animation of the Battle of Trafalgar, click on the X to close the animation.  That will return you to the PowerPoi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590920"/>
            <a:ext cx="4190760" cy="82548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Click first on the D: to go to the ani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A82-058E-410C-BC90-64E98E0245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7315200" cy="673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216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http://www.webcom.com/beacon/mapchokepoint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5720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02920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3244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52578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F63-2617-454A-9344-8E0FD88BA3C4}" type="slidenum">
              <a:t>23</a:t>
            </a:fld>
          </a:p>
        </p:txBody>
      </p:sp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912-A4B1-4F7A-8B77-4AC30754F2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past 50 years, one of the main sources of energy used by developed and developing nations has been 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nations with little of this resource,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disrup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availabil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il or a large price increase, causes economic or political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3581280" cy="1099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ahoma"/>
              </a:rPr>
              <a:t>7. In your notebook, write down two effects of closing a chokepoi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93E-45DE-4B88-ACAF-FF74CB113B70}" type="slidenum">
              <a:t>25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16670" r="35439" b="8669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A6D-08BD-47FA-9735-26EF68E312A8}" type="slidenum">
              <a:t>26</a:t>
            </a:fld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ECURING THE SUPPLY: STRATEGIC POINTS OF CONCER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centuries, straits such as Gibraltar have been protected by international la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82, the Law of Sea Conventions further protected the international access for nations to sail through straits and cana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5562720"/>
            <a:ext cx="525780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In your notebook, explain why straits would be protected by international 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7DE-AD0D-448D-A4B3-36BE646A9321}" type="slidenum">
              <a:t>27</a:t>
            </a:fld>
          </a:p>
        </p:txBody>
      </p:sp>
    </p:spTree>
  </p:cSld>
  <p:transition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001" t="17999" r="37002" b="1133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6553080" y="43434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5105520" y="4114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5410080" y="3733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419720" y="3200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4343400" y="35053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1295280" y="42670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943600"/>
            <a:ext cx="32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05520"/>
            <a:ext cx="1828800" cy="131076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fter you have visited each of the chokepoints, click on this but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304920" y="45720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4724280" cy="70380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Click on each of the tankers for information about the chokepoi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4A6-ECE7-4F57-841F-F574BAF52C16}" type="slidenum">
              <a:t>28</a:t>
            </a:fld>
          </a:p>
        </p:txBody>
      </p:sp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5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uez Ca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197600" cy="4419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00600" y="2057400"/>
            <a:ext cx="4114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It is the only sea route between the Red Sea and the Mediterranean S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With the Middle East tension, the Suez Canal is a prime target for many nations. In 1967, the Arab-Israeli War shut down the canal for 8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A third of the cargo is oi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3244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7493"/>
                </a:moveTo>
                <a:lnTo>
                  <a:pt x="18094" y="7493"/>
                </a:lnTo>
                <a:lnTo>
                  <a:pt x="18094" y="12828"/>
                </a:lnTo>
                <a:cubicBezTo>
                  <a:pt x="18094" y="13751"/>
                  <a:pt x="18895" y="14482"/>
                  <a:pt x="19930" y="14482"/>
                </a:cubicBezTo>
                <a:lnTo>
                  <a:pt x="21593" y="14482"/>
                </a:lnTo>
                <a:cubicBezTo>
                  <a:pt x="22628" y="14482"/>
                  <a:pt x="23429" y="13751"/>
                  <a:pt x="23429" y="12828"/>
                </a:cubicBezTo>
                <a:lnTo>
                  <a:pt x="23429" y="7493"/>
                </a:lnTo>
                <a:lnTo>
                  <a:pt x="21593" y="7493"/>
                </a:lnTo>
                <a:lnTo>
                  <a:pt x="25100" y="3985"/>
                </a:lnTo>
                <a:lnTo>
                  <a:pt x="28773" y="7493"/>
                </a:lnTo>
                <a:lnTo>
                  <a:pt x="26937" y="7493"/>
                </a:lnTo>
                <a:lnTo>
                  <a:pt x="26937" y="12828"/>
                </a:lnTo>
                <a:cubicBezTo>
                  <a:pt x="26937" y="15596"/>
                  <a:pt x="24360" y="18155"/>
                  <a:pt x="21593" y="18155"/>
                </a:cubicBezTo>
                <a:lnTo>
                  <a:pt x="19930" y="18155"/>
                </a:lnTo>
                <a:cubicBezTo>
                  <a:pt x="17163" y="18155"/>
                  <a:pt x="14586" y="15596"/>
                  <a:pt x="145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90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6C6-F59E-4777-A9E5-AF3237D275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chokepoint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nt: In your history class they might be called “bottlenecks.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geographers call them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“chokepoint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take a minute and imagine what a chokepoint or a bottleneck might look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085-056A-4BE0-9522-6357987B57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600"/>
                </a:solidFill>
                <a:latin typeface="Tahoma"/>
              </a:rPr>
              <a:t>BAB el MANDE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05040" cy="4267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114800" y="1905120"/>
            <a:ext cx="47242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Bottleneck for traffic between the Mediterranean Sea and the Indian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3.2 million barrels of oil daily move through this choke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All the nations along the Red Sea are Islamic and the rulers of Sudan are backed by I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24852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380880" y="9907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493"/>
                </a:moveTo>
                <a:lnTo>
                  <a:pt x="19894" y="7493"/>
                </a:lnTo>
                <a:lnTo>
                  <a:pt x="19894" y="12828"/>
                </a:lnTo>
                <a:cubicBezTo>
                  <a:pt x="19894" y="13751"/>
                  <a:pt x="20695" y="14482"/>
                  <a:pt x="21731" y="14482"/>
                </a:cubicBezTo>
                <a:lnTo>
                  <a:pt x="23393" y="14482"/>
                </a:lnTo>
                <a:cubicBezTo>
                  <a:pt x="24429" y="14482"/>
                  <a:pt x="25229" y="13751"/>
                  <a:pt x="25229" y="12828"/>
                </a:cubicBezTo>
                <a:lnTo>
                  <a:pt x="25229" y="7493"/>
                </a:lnTo>
                <a:lnTo>
                  <a:pt x="23393" y="7493"/>
                </a:lnTo>
                <a:lnTo>
                  <a:pt x="26901" y="3985"/>
                </a:lnTo>
                <a:lnTo>
                  <a:pt x="30573" y="7493"/>
                </a:lnTo>
                <a:lnTo>
                  <a:pt x="28737" y="7493"/>
                </a:lnTo>
                <a:lnTo>
                  <a:pt x="28737" y="12828"/>
                </a:lnTo>
                <a:cubicBezTo>
                  <a:pt x="28737" y="15596"/>
                  <a:pt x="26161" y="18155"/>
                  <a:pt x="23393" y="18155"/>
                </a:cubicBezTo>
                <a:lnTo>
                  <a:pt x="21731" y="18155"/>
                </a:lnTo>
                <a:cubicBezTo>
                  <a:pt x="18963" y="18155"/>
                  <a:pt x="16386" y="15596"/>
                  <a:pt x="16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447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Click button to 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277-117C-478E-B012-488A961CF8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TRAIT OF HORMUZ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447920" y="3828960"/>
            <a:ext cx="5943600" cy="302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990720"/>
            <a:ext cx="9144000" cy="3035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ritical point in the lifeline flow of oil from the Persian Gulf area. A quarter of the world’s oil supply passes through this strait. 15.5 million barrels of oil a day pass throug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losely monitored by the U.S. military and its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onnects the Persian Gulf and the Arabian Sea (part of the Indian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9625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0CF-17E0-47B7-9A97-03779FB312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28800" y="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Strait of Hormu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14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705720" y="54864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4572000"/>
            <a:ext cx="1828800" cy="82404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89F-A8E9-4DD6-9A36-666DE5724D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0"/>
            <a:ext cx="81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9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THE BOSPORUS STRA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43000"/>
            <a:ext cx="9144000" cy="24490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Joins the Black Sea and the Sea of Mar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Russians and Turks have fought many battles over this strait.  Turks are now citing environmental concerns as an excuse to restrict Russian access to the str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5530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D1A-2101-436C-85B0-0BA2372349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609480" y="4952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7493"/>
                </a:moveTo>
                <a:lnTo>
                  <a:pt x="8646" y="7493"/>
                </a:lnTo>
                <a:lnTo>
                  <a:pt x="8646" y="12828"/>
                </a:lnTo>
                <a:cubicBezTo>
                  <a:pt x="8646" y="13751"/>
                  <a:pt x="9446" y="14482"/>
                  <a:pt x="10482" y="14482"/>
                </a:cubicBezTo>
                <a:lnTo>
                  <a:pt x="12144" y="14482"/>
                </a:lnTo>
                <a:cubicBezTo>
                  <a:pt x="13180" y="14482"/>
                  <a:pt x="13981" y="13751"/>
                  <a:pt x="13981" y="12828"/>
                </a:cubicBezTo>
                <a:lnTo>
                  <a:pt x="13981" y="7493"/>
                </a:lnTo>
                <a:lnTo>
                  <a:pt x="12144" y="7493"/>
                </a:lnTo>
                <a:lnTo>
                  <a:pt x="15652" y="3985"/>
                </a:lnTo>
                <a:lnTo>
                  <a:pt x="19325" y="7493"/>
                </a:lnTo>
                <a:lnTo>
                  <a:pt x="17488" y="7493"/>
                </a:lnTo>
                <a:lnTo>
                  <a:pt x="17488" y="12828"/>
                </a:lnTo>
                <a:cubicBezTo>
                  <a:pt x="17488" y="15596"/>
                  <a:pt x="14912" y="18155"/>
                  <a:pt x="12144" y="18155"/>
                </a:cubicBezTo>
                <a:lnTo>
                  <a:pt x="10482" y="18155"/>
                </a:lnTo>
                <a:cubicBezTo>
                  <a:pt x="7714" y="18155"/>
                  <a:pt x="5138" y="15596"/>
                  <a:pt x="513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0384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on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B93-1DD1-4005-99BB-7F8F853C94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Strait of Malacc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2738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4114800"/>
            <a:ext cx="7162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ankers pass through this strait bordered by Indonesia and Malays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Located in the Indian Ocean, this strait is a shortcut for oil tankers traveling between the Middle East and the oil-dependent nations of the Pacific Rim (especially Japan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More than 50,000 ships pass through this strait yea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8153280" y="41911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4952880"/>
            <a:ext cx="838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68E-680A-4C7F-9543-B4F96BE84D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333760" cy="3554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228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Panama Ca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1295280"/>
            <a:ext cx="3429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onnects the Pacific Ocean with the Caribbean Sea and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0.5 million barrels of oil go through it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Needs to be wid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5627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6400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7493"/>
                </a:moveTo>
                <a:lnTo>
                  <a:pt x="12100" y="7493"/>
                </a:lnTo>
                <a:lnTo>
                  <a:pt x="12100" y="12828"/>
                </a:lnTo>
                <a:cubicBezTo>
                  <a:pt x="12100" y="13751"/>
                  <a:pt x="12901" y="14482"/>
                  <a:pt x="13937" y="14482"/>
                </a:cubicBezTo>
                <a:lnTo>
                  <a:pt x="15599" y="14482"/>
                </a:lnTo>
                <a:cubicBezTo>
                  <a:pt x="16635" y="14482"/>
                  <a:pt x="17436" y="13751"/>
                  <a:pt x="17436" y="12828"/>
                </a:cubicBezTo>
                <a:lnTo>
                  <a:pt x="17436" y="7493"/>
                </a:lnTo>
                <a:lnTo>
                  <a:pt x="15599" y="7493"/>
                </a:lnTo>
                <a:lnTo>
                  <a:pt x="19107" y="3985"/>
                </a:lnTo>
                <a:lnTo>
                  <a:pt x="22780" y="7493"/>
                </a:lnTo>
                <a:lnTo>
                  <a:pt x="20943" y="7493"/>
                </a:lnTo>
                <a:lnTo>
                  <a:pt x="20943" y="12828"/>
                </a:lnTo>
                <a:cubicBezTo>
                  <a:pt x="20943" y="15596"/>
                  <a:pt x="18367" y="18155"/>
                  <a:pt x="15599" y="18155"/>
                </a:cubicBezTo>
                <a:lnTo>
                  <a:pt x="13937" y="18155"/>
                </a:lnTo>
                <a:cubicBezTo>
                  <a:pt x="11169" y="18155"/>
                  <a:pt x="8593" y="15596"/>
                  <a:pt x="8593" y="12828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60199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ick on button to return to ma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D1F-9606-4E7E-B8D7-B16797582E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a491"/>
                </a:solidFill>
                <a:latin typeface="Tahoma"/>
              </a:rPr>
              <a:t>Barrels of Oil Transported through Chokepoints Dai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8915400" cy="47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CC5-B27C-49D8-9AF7-691B55E16F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Let’s </a:t>
            </a:r>
            <a:r>
              <a:rPr b="1" i="1" lang="en-US" sz="4400" spc="-1" strike="noStrike" u="sng">
                <a:solidFill>
                  <a:srgbClr val="33cccc"/>
                </a:solidFill>
                <a:uFillTx/>
                <a:latin typeface="Tahoma"/>
              </a:rPr>
              <a:t>recap</a:t>
            </a: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 what we know about chokepoin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9532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32D-5D80-434C-A7B3-729650AF76BD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ow,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review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what else you k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f a chokepoint is closed, it affects world trade patterns, the economy and politic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at can lead to higher prices and/or w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Keeping these straits or chokepoints open is very importan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392-7588-4F1E-A7E7-93889136F916}" type="slidenum">
              <a:t>39</a:t>
            </a:fld>
          </a:p>
        </p:txBody>
      </p:sp>
    </p:spTree>
  </p:cSld>
  <p:transition>
    <p:checke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476800">
            <a:off x="914400" y="1676160"/>
            <a:ext cx="288432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4800" y="1523880"/>
            <a:ext cx="4800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ave you ever had trouble getting catsup out of the bottle? What caused the trouble?  Was it partially caused by trying to get something too thick through too small a pla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947C-4989-46BC-823A-E1B672CF4AE7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mplete a flow chart showing these effec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209680"/>
            <a:ext cx="3657600" cy="8254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e Strait of Hormuz gets clos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12408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809880"/>
            <a:ext cx="3581280" cy="11912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.S. and China scramble to get enough o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72428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5715000"/>
            <a:ext cx="3200400" cy="8251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267080"/>
            <a:ext cx="19814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#9 (sketch the cause and effect chart in your notebook and use the following slide for potential answer cho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8B2-C076-4E50-BF34-41EB241242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ich best fits in the last box of the flow ch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. Saudi Arabia pipes the oil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Red S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. The U.S. sends in troops and aircraft t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ake over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. Diplomatic pressure makes Turk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open the S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. The price of oil products goe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orld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095-01DE-45FC-AA5F-0F5D4CD6559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Yes, the correct answer is B.  The United States sends in troops to open the Strait of Hormuz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is incorrect.  Saudi Arabia might be able to pump more oil to the Red Sea but the quantity would not be suffici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C is incorrect.  Turkey controls the Bosporus Strait, not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is incorrect.  The price of oil products would go up significantly around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ADD-51AD-4BB1-890D-6DB845AC8F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gratulatio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you have finished the tutorial on chokepoin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t your answers approved and finish the cut-away boxes on your map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E7A-048B-4396-B9BE-4A244ABD94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hokepoin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600"/>
                </a:solidFill>
                <a:latin typeface="Tahoma"/>
              </a:rPr>
              <a:t>Have you ever wondered how they got those ships into those bottles?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does something that big go through the narrow space at the top of the bott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0409000">
            <a:off x="4419360" y="2209320"/>
            <a:ext cx="4724280" cy="132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5029200"/>
            <a:ext cx="35812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slide 7, think about the shape of the bottle and write a description of a chokepoint on your pa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F45-ACE9-49B4-A938-58A3D9054E7F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do people choke?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metimes it’s because something too large got stuck in their throat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42108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008-E6DD-4D9D-9FF6-B030F33C5A92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It’s just the same when people try to transport goods around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ometimes countries are trading one good for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Sometimes countries are transporting soldiers or armaments to battle si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7B5-A1F8-4A40-825C-B94C1B549AED}" type="slidenum">
              <a:t>7</a:t>
            </a:fld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4038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have the power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control the chokepoin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D79-533C-4447-A7EE-A7D475BCEF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inth Canal (Greec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38680" y="1447920"/>
            <a:ext cx="312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approximately 200 straits ( narrow bodies of water connecting two larger bodies of water) around the world, but only a handful are known as choke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257800"/>
            <a:ext cx="4343400" cy="7038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In your notebook, create a definition for “chokepoin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172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www.bikeabout.otg/journal/notes_96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8F1-37C8-487D-A8B3-7B26AACE9D4A}" type="slidenum">
              <a:t>9</a:t>
            </a:fld>
          </a:p>
        </p:txBody>
      </p:sp>
    </p:spTree>
  </p:cSld>
  <p:transition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17:30Z</dcterms:created>
  <dc:creator>Smith</dc:creator>
  <dc:description/>
  <dc:language>en-US</dc:language>
  <cp:lastModifiedBy>CFISD</cp:lastModifiedBy>
  <dcterms:modified xsi:type="dcterms:W3CDTF">2009-02-10T13:07:04Z</dcterms:modified>
  <cp:revision>41</cp:revision>
  <dc:subject/>
  <dc:title>CHOKEPOINTS</dc:title>
</cp:coreProperties>
</file>