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D42C9-51AA-4641-B41D-DEC958833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19BD-32FB-41E9-AE39-20AF8801B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A1520-2145-4B74-94C2-F4906DE57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9A8B6-91E5-4ACC-BBC3-1174F5BD5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76D77-5BDD-4A95-A53E-555A18B58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34E55-25C3-46DD-993A-A4245C9D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7C798-0DEB-4761-867B-B0BA54E4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E740-8F64-462F-899B-5BD4822C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A157-8BF1-4812-8CF0-010B4885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F767-ECF8-4722-BDF6-FA463A716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0A1B-1EB5-4E4B-AD71-9171C9DE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E272-AB91-4277-87F3-62A9281F5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BC0D-F469-4202-8A37-F6B518F81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8100000"/>
        </a:gradFill>
      </p:bgPr>
    </p:bg>
    <p:spTree>
      <p:nvGrpSpPr>
        <p:cNvPr id="1" name=""/>
        <p:cNvGrpSpPr/>
        <p:nvPr/>
      </p:nvGrpSpPr>
      <p:grpSpPr>
        <a:xfrm>
          <a:off x="0" y="0"/>
          <a:ext cx="0" cy="0"/>
          <a:chOff x="0" y="0"/>
          <a:chExt cx="0" cy="0"/>
        </a:xfrm>
      </p:grpSpPr>
      <p:sp>
        <p:nvSpPr>
          <p:cNvPr id="41" name=""/>
          <p:cNvSpPr txBox="1"/>
          <p:nvPr/>
        </p:nvSpPr>
        <p:spPr>
          <a:xfrm rot="21258600">
            <a:off x="393840" y="1257120"/>
            <a:ext cx="8762760" cy="3581280"/>
          </a:xfrm>
          <a:prstGeom prst="rect">
            <a:avLst/>
          </a:prstGeom>
        </p:spPr>
        <p:txBody>
          <a:bodyPr wrap="none" lIns="90000" rIns="90000" tIns="46800" bIns="46800" anchor="t" anchorCtr="1">
            <a:prstTxWarp prst="textCascadeUp">
              <a:avLst>
                <a:gd name="adj" fmla="val 348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Location of Orso Universit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
          <p:cNvSpPr txBox="1"/>
          <p:nvPr/>
        </p:nvSpPr>
        <p:spPr>
          <a:xfrm>
            <a:off x="152280" y="152280"/>
            <a:ext cx="24386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Arial Narrow Special G1"/>
              </a:rPr>
              <a:t>5 A's Project</a:t>
            </a:r>
            <a:endParaRPr b="0" lang="en-US" sz="1800" spc="1" strike="noStrike">
              <a:ln w="9360">
                <a:solidFill>
                  <a:srgbClr val="000000"/>
                </a:solidFill>
                <a:miter/>
              </a:ln>
              <a:gradFill rotWithShape="0">
                <a:gsLst>
                  <a:gs pos="0">
                    <a:srgbClr val="ffffff"/>
                  </a:gs>
                  <a:gs pos="100000">
                    <a:srgbClr val="ffffff"/>
                  </a:gs>
                </a:gsLst>
                <a:lin ang="5400000"/>
              </a:gradFill>
              <a:latin typeface="Arial Narrow Special G1"/>
              <a:ea typeface="Arial Narrow Special G1"/>
            </a:endParaRPr>
          </a:p>
        </p:txBody>
      </p:sp>
      <p:sp>
        <p:nvSpPr>
          <p:cNvPr id="43" name=""/>
          <p:cNvSpPr txBox="1"/>
          <p:nvPr/>
        </p:nvSpPr>
        <p:spPr>
          <a:xfrm>
            <a:off x="6095880" y="5638680"/>
            <a:ext cx="3048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rPr>
              <a:t>Cameron Smith</a:t>
            </a:r>
            <a:endPar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3581280" y="0"/>
            <a:ext cx="15242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SK</a:t>
            </a:r>
            <a:endParaRPr b="0" lang="en-US" sz="1800" spc="1" strike="noStrike">
              <a:ln w="9360">
                <a:solidFill>
                  <a:srgbClr val="000000"/>
                </a:solidFill>
                <a:miter/>
              </a:ln>
              <a:solidFill>
                <a:srgbClr val="ff0000"/>
              </a:solidFill>
              <a:latin typeface="Arial Black"/>
              <a:ea typeface="Arial Black"/>
            </a:endParaRPr>
          </a:p>
        </p:txBody>
      </p:sp>
      <p:sp>
        <p:nvSpPr>
          <p:cNvPr id="45" name=""/>
          <p:cNvSpPr/>
          <p:nvPr/>
        </p:nvSpPr>
        <p:spPr>
          <a:xfrm>
            <a:off x="0" y="1371600"/>
            <a:ext cx="9144000" cy="4338000"/>
          </a:xfrm>
          <a:prstGeom prst="rect">
            <a:avLst/>
          </a:prstGeom>
          <a:solidFill>
            <a:srgbClr val="009999"/>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How close will it be to other Universities in the area?</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affected by the moving of plate tectonics at any tim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hat are the main physical features surrounding the location?</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flooded after heavy rains? </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Does the location lie on any fault lines that could cause an earthquake or any other damag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Is the location in a heavily populated area of Harris Cou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0" y="0"/>
            <a:ext cx="251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rPr>
              <a:t>Aquire</a:t>
            </a:r>
            <a:endPar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ea typeface="Times New Roman"/>
            </a:endParaRPr>
          </a:p>
        </p:txBody>
      </p:sp>
      <p:sp>
        <p:nvSpPr>
          <p:cNvPr id="47" name=""/>
          <p:cNvSpPr/>
          <p:nvPr/>
        </p:nvSpPr>
        <p:spPr>
          <a:xfrm>
            <a:off x="0" y="1143000"/>
            <a:ext cx="2666880" cy="519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loodplains-</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side-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M 1960-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Krug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ats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avis St- in the lowest risk of flooding area</a:t>
            </a:r>
            <a:endParaRPr b="0" lang="en-US" sz="1800" spc="-1" strike="noStrike">
              <a:solidFill>
                <a:srgbClr val="000000"/>
              </a:solidFill>
              <a:latin typeface="Arial"/>
            </a:endParaRPr>
          </a:p>
        </p:txBody>
      </p:sp>
      <p:graphicFrame>
        <p:nvGraphicFramePr>
          <p:cNvPr id="48" name=""/>
          <p:cNvGraphicFramePr/>
          <p:nvPr/>
        </p:nvGraphicFramePr>
        <p:xfrm>
          <a:off x="3429000" y="0"/>
          <a:ext cx="5715000" cy="4925880"/>
        </p:xfrm>
        <a:graphic>
          <a:graphicData uri="http://schemas.openxmlformats.org/drawingml/2006/table">
            <a:tbl>
              <a:tblPr/>
              <a:tblGrid>
                <a:gridCol w="1428840"/>
                <a:gridCol w="1428840"/>
                <a:gridCol w="1428480"/>
                <a:gridCol w="1428840"/>
              </a:tblGrid>
              <a:tr h="119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ley floodplain will begin flooding in one of the many creeks in the area and then will ri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 plain has a lot of creeks, so the flooding will be deep &amp; will last a couple of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 river floodplain is large and swift, and only happens in Harris county along the San Jacinto river in th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will last a week or more and it’s deep, strong, and swif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kes up most of the county’s floodplains, and could affect a lot of businesses and resid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s mos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when channel floods, and the effects last a few hours, rather than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lying structures will flood if the area is hit with a hurricane surge or if there is an unusually high ti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during a hurricane surge or unusually high tid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2819520" y="5105520"/>
            <a:ext cx="5181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types of flooding are 10yr flood, 100yr flood, &amp; 500yr flood. The 10yr flood is the strongest with a 10% chance of flooding, the 100yr flood has 1% chance of flooding, &amp; the 500yr flood has .2% chance of floo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75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0" name=""/>
          <p:cNvGraphicFramePr/>
          <p:nvPr/>
        </p:nvGraphicFramePr>
        <p:xfrm>
          <a:off x="2057400" y="1752480"/>
          <a:ext cx="4800240" cy="5104800"/>
        </p:xfrm>
        <a:graphic>
          <a:graphicData uri="http://schemas.openxmlformats.org/drawingml/2006/table">
            <a:tbl>
              <a:tblPr/>
              <a:tblGrid>
                <a:gridCol w="1199880"/>
                <a:gridCol w="1200240"/>
                <a:gridCol w="1200240"/>
                <a:gridCol w="1199880"/>
              </a:tblGrid>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35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ring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txBox="1"/>
          <p:nvPr/>
        </p:nvSpPr>
        <p:spPr>
          <a:xfrm>
            <a:off x="3048120" y="990720"/>
            <a:ext cx="257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2. Watershed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3124080" y="0"/>
            <a:ext cx="28288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urricane Dat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graphicFrame>
        <p:nvGraphicFramePr>
          <p:cNvPr id="53" name=""/>
          <p:cNvGraphicFramePr/>
          <p:nvPr/>
        </p:nvGraphicFramePr>
        <p:xfrm>
          <a:off x="4952880" y="685800"/>
          <a:ext cx="4190760" cy="5439960"/>
        </p:xfrm>
        <a:graphic>
          <a:graphicData uri="http://schemas.openxmlformats.org/drawingml/2006/table">
            <a:tbl>
              <a:tblPr/>
              <a:tblGrid>
                <a:gridCol w="1047600"/>
                <a:gridCol w="1047960"/>
                <a:gridCol w="1047600"/>
                <a:gridCol w="1047600"/>
              </a:tblGrid>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304920" y="609480"/>
            <a:ext cx="4572000" cy="35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 What is storm surge? A storm surge is a large wave, usually 50 to 100 miles wide, that sweeps across the coast in the area of a hurrica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 Why is storm surge such a huge problem in the Gulf of Mexico instead of places like the Atlantic Ocean? A storm surge is worse in the Gulf of Mexico because it naturally directs it in a certain dir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 Explain the three causes of storm surge. Three causes of a storm surge are the low pressure in the center of the storm sucks up the water, the high pressure in the back of the storm pushes the surge forward, and the stronger the hurricane and the shallower the offshore water, the stronger the su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 What makes storm surge so devastating? The strength of the hurricane, more waves, and the level of offshore water makes the storm surge so devastating</a:t>
            </a: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2:04Z</dcterms:created>
  <dc:creator>cfisd</dc:creator>
  <dc:description/>
  <dc:language>en-US</dc:language>
  <cp:lastModifiedBy>cfisd</cp:lastModifiedBy>
  <dcterms:modified xsi:type="dcterms:W3CDTF">2008-09-23T13:13:13Z</dcterms:modified>
  <cp:revision>5</cp:revision>
  <dc:subject/>
  <dc:title>Slide 1</dc:title>
</cp:coreProperties>
</file>