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8E2-9DD0-4E29-8C98-25C354BD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8F5-361A-4172-B70B-D81AF6F2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A10-483B-4F0A-B271-D10B096EB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DDC-4657-44E3-BD20-656FF6A7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A19-67A0-4A9D-9E97-891BA1BC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00D-C47E-4F97-B551-0A6A2A77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6A84-B342-4256-99DF-92F8ACFF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A17-53E3-4C70-B691-259E5567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1C5A-074E-407F-9665-A704BFE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070-C0B7-4067-B4A8-035BFC9E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DFA-0C08-49C7-B645-71855B6B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AE2-8278-4DD4-8B61-2AF62E1A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78C31-7ED5-4FC0-BEB0-E12CE4E55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hponline.org/members/2001/109p547-549small/small-full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2 –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The Aral S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Why is the Aral Sea drying 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is the shrinking of the Aral Sea affecting the people who live nearb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76312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orld War II the Soviet Union did not have enough food or industries for its popul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use farms to fix both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3726000"/>
            <a:ext cx="6172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they di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viet Union created collective farms to increase food production and clothing prod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w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 produc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row co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685800"/>
            <a:ext cx="6933960" cy="617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- Irrigation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3504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al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in the 1950’s, the government started diverting water from the Amu Dayra and Syr Dayra Rivers to irrigate wheat and cotton fiel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Dust Storm, Aral Sea, Kazakhstan"/>
          <p:cNvPicPr/>
          <p:nvPr/>
        </p:nvPicPr>
        <p:blipFill>
          <a:blip r:embed="rId1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- #1 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4038480" cy="43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rigating the rivers caused them to dry up, cutting off the sources to the Aral S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left behind massive salt resid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 blows the sand creating hazardous conditions for the peop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RTIFIC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read of the deser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does desertification affect the people living near the Aral Se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 #2 – 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ealth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link above to read the professional journal article.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health effects of the Aral Sea disas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water supply impacted by the situ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fix both effects, the health problems and the water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wiki access the google earth tou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viewing the images along the tour, explain write a paragraph answer the prompt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rapid industrialization of the Soviet Union was worth it.  Explain whether you agree or disagree with this state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1T13:49:26Z</dcterms:modified>
  <cp:revision>13</cp:revision>
  <dc:subject/>
  <dc:title>Volga River</dc:title>
</cp:coreProperties>
</file>