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B2BF-E2F5-4350-AEF4-299A5084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5E29-A058-48CC-9D27-650F4A44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5FC8-B65E-4BBE-AE7B-BF9D7762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BE64-5C7E-48B9-8170-FF719A10E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2719-80C9-4DCE-A999-E209241B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DA27-6084-4B63-89A7-D9546DCF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D39E-CDFD-46B7-8D46-FD6C4140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4229-07CD-4602-B9A0-D2BCA000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2312-B78E-4269-B910-C05F94CE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5FE0-F028-45C3-956E-657CB6F9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D11E-27EA-4845-AB77-F82B75B7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B3AB-C91C-4C99-9B25-08A75CFC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467C-1F6A-43DF-AA69-A29E4BE70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hponline.org/members/2001/109p547-549small/small-full.html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#2 – Aral S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143000"/>
          <a:ext cx="8229600" cy="5028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5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s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raw 3 picture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s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raw 3 picture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p – The Aral S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Why is the Aral Sea drying 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How is the shrinking of the Aral Sea affecting the people who live nearby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World War II the Soviet Union did not have enough food or industries for its popul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use farms to fix bot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7920" y="3726000"/>
            <a:ext cx="617220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hey di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viet Union created collective farms to increase food production and clothing produ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produc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ow w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thing produc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ow co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6933960" cy="6172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se - Irrigation 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350496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al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ing in the 1950’s, the government started diverting water from the Amu Dayra and Syr Dayra Rivers to irrigate wheat and cotton fiel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Dust Storm, Aral Sea, Kazakhstan"/>
          <p:cNvPicPr/>
          <p:nvPr/>
        </p:nvPicPr>
        <p:blipFill>
          <a:blip r:embed="rId1"/>
          <a:stretch/>
        </p:blipFill>
        <p:spPr>
          <a:xfrm>
            <a:off x="0" y="1200240"/>
            <a:ext cx="9144000" cy="5657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- #1 Deser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03848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rigating the rivers caused them to dry up, cutting off the sources to the Aral Se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left behind massive salt resid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 blows the sand creating hazardous conditions for the peopl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In your notebook, complete the Frayer Model below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280" y="1600200"/>
          <a:ext cx="8839080" cy="4724280"/>
        </p:xfrm>
        <a:graphic>
          <a:graphicData uri="http://schemas.openxmlformats.org/drawingml/2006/table">
            <a:tbl>
              <a:tblPr/>
              <a:tblGrid>
                <a:gridCol w="4620600"/>
                <a:gridCol w="4218480"/>
              </a:tblGrid>
              <a:tr h="18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RTIFICA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pread of the deser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How does desertification affect the people living near the Aral Sea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 #2 –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alth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he link above to read the professional journal article. Answer the questions bel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health effects of the Aral Sea disas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the water supply impacted by the situ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you fix both effects, the health problems and the water si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gle Earth T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wiki access the google earth tou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viewing the images along the tour, explain write a paragraph answer the prompt bel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 rapid industrialization of the Soviet Union was worth it.  Explain whether you agree or disagree with this state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6:38:07Z</dcterms:created>
  <dc:creator>CFISD</dc:creator>
  <dc:description/>
  <dc:language>en-US</dc:language>
  <cp:lastModifiedBy>CFISD</cp:lastModifiedBy>
  <dcterms:modified xsi:type="dcterms:W3CDTF">2008-12-11T13:49:26Z</dcterms:modified>
  <cp:revision>13</cp:revision>
  <dc:subject/>
  <dc:title>Volga River</dc:title>
</cp:coreProperties>
</file>