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B6C9-33C0-4A50-8BD5-51505CCA7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C985-3C7B-4C17-A207-01A817848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0684-7980-480A-8F86-5A2BA74F2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A569-231D-4E07-B42D-C83BA0B8D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DFBA-7B60-44E2-8C76-41D4BCD5C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A4F8-DA3D-4BDA-B26A-7DF193251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86AB-9B20-4096-9DDF-3A01DB7B6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FE95-822B-4586-B15D-3B8699239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2BC4-D5B4-4DFF-A23F-3761FBDD6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1C41-9F20-4F30-A330-C81FE833A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627D-F9B4-4431-840F-A864BCCB6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6C93-BCE2-4AB8-9CB2-80DE35931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3AA10-0A90-4A2E-B190-7E79B6FC63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hponline.org/members/2001/109p547-549small/small-full.html" TargetMode="Externa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se Study #2 – Aral S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457200" y="1143000"/>
          <a:ext cx="8229600" cy="50288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154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s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uses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draw 3 picture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ffects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draw 3 picture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uti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8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p – The Aral S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Ques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Why is the Aral Sea drying u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How is the shrinking of the Aral Sea affecting the people who live nearby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7631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World War II the Soviet Union did not have enough food or industries for its popula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would you use farms to fix both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447920" y="3726000"/>
            <a:ext cx="617220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they did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viet Union created collective farms to increase food production and clothing produc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od production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row whe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othing production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row cot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676520" y="685800"/>
            <a:ext cx="6933960" cy="61722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use - Irrigation Progr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3504960" cy="449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ral S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ing in the 1950’s, the government started diverting water from the Amu Dayra and Syr Dayra Rivers to irrigate wheat and cotton fiel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Dust Storm, Aral Sea, Kazakhstan"/>
          <p:cNvPicPr/>
          <p:nvPr/>
        </p:nvPicPr>
        <p:blipFill>
          <a:blip r:embed="rId1"/>
          <a:stretch/>
        </p:blipFill>
        <p:spPr>
          <a:xfrm>
            <a:off x="0" y="1200240"/>
            <a:ext cx="9144000" cy="565776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ffects - #1 Desert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4038480" cy="43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rrigating the rivers caused them to dry up, cutting off the sources to the Aral Se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left behind massive salt resid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nd blows the sand creating hazardous conditions for the people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irections: In your notebook, complete the Frayer Model below.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152280" y="1600200"/>
          <a:ext cx="8839080" cy="4724280"/>
        </p:xfrm>
        <a:graphic>
          <a:graphicData uri="http://schemas.openxmlformats.org/drawingml/2006/table">
            <a:tbl>
              <a:tblPr/>
              <a:tblGrid>
                <a:gridCol w="4620600"/>
                <a:gridCol w="4218480"/>
              </a:tblGrid>
              <a:tr h="188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ERTIFICATIO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Definition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spread of the deser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How does desertification affect the people living near the Aral Sea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Ske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ffect #2 – </a:t>
            </a: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ealth Effe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he link above to read the professional journal article. Answer the questions below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the health effects of the Aral Sea disast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is the water supply impacted by the situatio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would you fix both effects, the health problems and the water situ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ogle Earth To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wiki access the google earth tou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viewing the images along the tour, explain write a paragraph answer the prompt bel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The rapid industrialization of the Soviet Union was worth it.  Explain whether you agree or disagree with this stateme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5T16:38:07Z</dcterms:created>
  <dc:creator>CFISD</dc:creator>
  <dc:description/>
  <dc:language>en-US</dc:language>
  <cp:lastModifiedBy>CFISD</cp:lastModifiedBy>
  <dcterms:modified xsi:type="dcterms:W3CDTF">2008-12-11T13:49:26Z</dcterms:modified>
  <cp:revision>13</cp:revision>
  <dc:subject/>
  <dc:title>Volga River</dc:title>
</cp:coreProperties>
</file>