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AC63-4228-47CD-AB6B-06B94A7C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9D9-FDF1-478A-9565-D197215B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5C26-F549-46EE-B3AF-9B3ACBB2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D5D-0D77-41F8-82E2-952EB2A54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8722-3C63-4A71-8032-23080E96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1BC-BECB-4B79-A2C1-DA5B4CCA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07AF-B592-44DE-989D-C3126F90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30A0-3397-4CC8-A067-B9F8F04D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B87C-F006-4486-ACEC-C189F647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E7C-A777-4DC0-BC62-E24ABCF6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834C-227B-4938-9A87-96D5FE38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3EE7-1102-49F2-9019-6C20DE08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2309-1941-4FE7-9011-D832C6D02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hponline.org/members/2001/109p547-549small/small-full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#2 – Aral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143000"/>
          <a:ext cx="8229600" cy="5028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aw 3 pictur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aw 3 pictur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– The Aral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Why is the Aral Sea drying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How is the shrinking of the Aral Sea affecting the people who live nearby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World War II the Soviet Union did not have enough food or industries for its popul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use farms to fix bot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3726000"/>
            <a:ext cx="61722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y di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viet Union created collective farms to increase food production and clothing produ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produc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w w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thing produc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w co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6933960" cy="6172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- Irrigation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50496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al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in the 1950’s, the government started diverting water from the Amu Dayra and Syr Dayra Rivers to irrigate wheat and cotton 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Dust Storm, Aral Sea, Kazakhstan"/>
          <p:cNvPicPr/>
          <p:nvPr/>
        </p:nvPicPr>
        <p:blipFill>
          <a:blip r:embed="rId1"/>
          <a:stretch/>
        </p:blipFill>
        <p:spPr>
          <a:xfrm>
            <a:off x="0" y="1200240"/>
            <a:ext cx="9144000" cy="5657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- #1 Deser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03848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rigating the rivers caused them to dry up, cutting off the sources to the Aral S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left behind massive salt resid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 blows the sand creating hazardous conditions for the peopl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280" y="1600200"/>
          <a:ext cx="8839080" cy="4724280"/>
        </p:xfrm>
        <a:graphic>
          <a:graphicData uri="http://schemas.openxmlformats.org/drawingml/2006/table">
            <a:tbl>
              <a:tblPr/>
              <a:tblGrid>
                <a:gridCol w="4620600"/>
                <a:gridCol w="421848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RTIFIC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pread of the deser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How does desertification affect the people living near the Aral Se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 #2 –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alth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e link above to read the professional journal article. Answer the questions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health effects of the Aral Sea disas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the water supply impacted by the situ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fix both effects, the health problems and the water si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gle Earth T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wiki access the google earth tou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viewing the images along the tour, explain write a paragraph answer the prompt be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rapid industrialization of the Soviet Union was worth it.  Explain whether you agree or disagree with this stat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6:38:07Z</dcterms:created>
  <dc:creator>CFISD</dc:creator>
  <dc:description/>
  <dc:language>en-US</dc:language>
  <cp:lastModifiedBy>CFISD</cp:lastModifiedBy>
  <dcterms:modified xsi:type="dcterms:W3CDTF">2008-12-11T13:49:26Z</dcterms:modified>
  <cp:revision>13</cp:revision>
  <dc:subject/>
  <dc:title>Volga River</dc:title>
</cp:coreProperties>
</file>