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F9CA-93C1-4182-94CE-079E4F0E1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E121-9EFF-4566-ADC0-173C5254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DAB8-3635-4F58-A50B-35DD8C9CE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987E-DE19-4A07-8B80-E5F65DA31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1455-3204-4A94-9A2B-71629133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3024-F3BF-44ED-BCEA-AD74BDB6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6578-E9F0-43AE-A323-9B021487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E241-798B-4486-BBA0-6B2F9EA6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7CE1-BB09-4FCB-BEDB-DB64F77B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B5F3-84DA-47A5-B2B7-980ECE8E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8A5C-A994-4AA8-9817-F64DE5F9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3436-9891-4389-BF10-87FDA1C6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9D29-06B5-463A-87A9-7B8FFCED8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hponline.org/members/2001/109p547-549small/small-full.html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#2 – Aral S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143000"/>
          <a:ext cx="8229600" cy="50288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5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s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raw 3 picture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s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raw 3 picture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p – The Aral S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Why is the Aral Sea drying 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How is the shrinking of the Aral Sea affecting the people who live nearby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31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World War II the Soviet Union did not have enough food or industries for its popul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 use farms to fix both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47920" y="3726000"/>
            <a:ext cx="617220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hey di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viet Union created collective farms to increase food production and clothing produc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produc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ow w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thing produc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ow co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76520" y="685800"/>
            <a:ext cx="6933960" cy="6172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use - Irrigation Pro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350496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ral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ing in the 1950’s, the government started diverting water from the Amu Dayra and Syr Dayra Rivers to irrigate wheat and cotton fiel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Dust Storm, Aral Sea, Kazakhstan"/>
          <p:cNvPicPr/>
          <p:nvPr/>
        </p:nvPicPr>
        <p:blipFill>
          <a:blip r:embed="rId1"/>
          <a:stretch/>
        </p:blipFill>
        <p:spPr>
          <a:xfrm>
            <a:off x="0" y="1200240"/>
            <a:ext cx="9144000" cy="56577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- #1 Deser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038480" cy="43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rrigating the rivers caused them to dry up, cutting off the sources to the Aral Se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left behind massive salt resid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 blows the sand creating hazardous conditions for the peopl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rections: In your notebook, complete the Frayer Model below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52280" y="1600200"/>
          <a:ext cx="8839080" cy="4724280"/>
        </p:xfrm>
        <a:graphic>
          <a:graphicData uri="http://schemas.openxmlformats.org/drawingml/2006/table">
            <a:tbl>
              <a:tblPr/>
              <a:tblGrid>
                <a:gridCol w="4620600"/>
                <a:gridCol w="4218480"/>
              </a:tblGrid>
              <a:tr h="18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ERTIFICATI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pread of the deser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How does desertification affect the people living near the Aral Sea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ect #2 –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ealth 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he link above to read the professional journal article. Answer the questions bel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health effects of the Aral Sea disas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the water supply impacted by the situ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ould you fix both effects, the health problems and the water sit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gle Earth T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wiki access the google earth tou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viewing the images along the tour, explain write a paragraph answer the prompt bel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he rapid industrialization of the Soviet Union was worth it.  Explain whether you agree or disagree with this state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6:38:07Z</dcterms:created>
  <dc:creator>CFISD</dc:creator>
  <dc:description/>
  <dc:language>en-US</dc:language>
  <cp:lastModifiedBy>CFISD</cp:lastModifiedBy>
  <dcterms:modified xsi:type="dcterms:W3CDTF">2008-12-11T13:49:26Z</dcterms:modified>
  <cp:revision>13</cp:revision>
  <dc:subject/>
  <dc:title>Volga River</dc:title>
</cp:coreProperties>
</file>