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07C-27E1-4803-ACD4-56BA5071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EA9-0630-48A9-ABD4-4C65CBF8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0C9-18F5-4D33-9FE9-ED6FE57B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1F5-61A8-46A4-9BFA-9DEA6AEE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1F0-2818-4B08-8FA9-F775D0D5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C7D-2973-4EFB-898E-55955C88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B02-51D6-4BE2-B061-8D65FF68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13F-A29F-4A5D-94F1-0AA8E81E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703-B61A-411C-AC22-9DFE29C4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C4B-D854-494F-9592-942EB408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E5E-B3A5-4C8A-B700-5314BFC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5D3-37FC-4E75-95CA-611A80CF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8B7B-FDAA-4CAB-BEDC-7F2B6975B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hponline.org/members/2001/109p547-549small/small-full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2 –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The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Why is the Aral Sea drying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ow is the shrinking of the Aral Sea affecting the people who live nearb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orld War II the Soviet Union did not have enough food or industries for its pop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use farms to fix bo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3726000"/>
            <a:ext cx="61722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y d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 created collective farms to increase food production and clothing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ing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93396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- Irrigation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504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in the 1950’s, the government started diverting water from the Amu Dayra and Syr Dayra Rivers to irrigate wheat and cotton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Dust Storm, Aral Sea, Kazakhstan"/>
          <p:cNvPicPr/>
          <p:nvPr/>
        </p:nvPicPr>
        <p:blipFill>
          <a:blip r:embed="rId1"/>
          <a:stretch/>
        </p:blipFill>
        <p:spPr>
          <a:xfrm>
            <a:off x="0" y="120024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- #1 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igating the rivers caused them to dry up, cutting off the sources to the Aral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eft behind massive salt resid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 blows the sand creating hazardous conditions for the peop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pread of the deser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desertification affect the people living near the Aral Se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#2 –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alth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link above to read the professional journal article.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health effects of the Aral Sea disas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water supply impacted by the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fix both effects, the health problems and the water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wiki access the google earth to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viewing the images along the tour, explain write a paragraph answer the prompt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apid industrialization of the Soviet Union was worth it.  Explain whether you agree or disagree with this stat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1T13:49:26Z</dcterms:modified>
  <cp:revision>13</cp:revision>
  <dc:subject/>
  <dc:title>Volga River</dc:title>
</cp:coreProperties>
</file>