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DF7EC7-F01E-456F-A6C1-21381F67C02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D0B740-EB52-4CA1-9A3C-5DE2F8A1A1C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4019EEBB-F410-41C6-9449-BE7A7787345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4"/>
          </p:nvPr>
        </p:nvSpPr>
        <p:spPr/>
        <p:txBody>
          <a:bodyPr/>
          <a:p>
            <a:fld id="{85FF44EE-418D-47D6-BF97-15393D40E68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CD5A2991-7A33-437A-A553-46FFE08330C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A825DAA3-80F1-4EB5-9ACC-FD259F51CF6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6E1A0D1-33FC-4306-A65F-5238EF6DE8F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42BCA0F0-7F41-4590-9AFE-D209302E709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9C887B88-EF2E-46F7-BE67-DC62FEDB8FA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5E31821F-9AD6-48B4-9409-CABF0CA678C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CBF6E2DA-2A3E-4698-8648-DDEC64EE604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330138F-5A3E-46B5-875C-AF0B1266C9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4E9D01-2362-4619-A3E3-75D98B9979D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917A2CC3-FB45-4DBC-9664-2FDEDDBCD1E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4E7D903C-D97C-4EBF-927D-F310B77729F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3B461DE-879C-42BE-A710-B51A08FDE1F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6"/>
          </p:nvPr>
        </p:nvSpPr>
        <p:spPr/>
        <p:txBody>
          <a:bodyPr/>
          <a:p>
            <a:fld id="{D803B647-0C6D-43A9-BFB6-CB5B5D4B98B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F650CF74-87BD-4F02-870B-7A6FF7E4ADF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8B18277C-6528-4AB7-A04B-63D1AEA45D8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40375249-B08C-4B81-BAED-9F395DB1413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E824F8EC-FC50-496D-BE2E-CF32BDACCE2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A3FF9BB8-E220-4F6E-95ED-829C5F9917F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2BDA1961-E49A-41E6-8985-8D779F6464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D7C1F6-E6C4-4B7D-97C7-98D5D5212B7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5A433260-E8D2-4365-8F81-FF20F70B303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281326F-BFB1-4138-9509-5BAAC515818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36A086A3-B07E-4A42-9EA8-36A28442B4B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C22D6FD7-C124-4E5F-A028-8A6F5BA43B7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43A62D03-D72B-4CC2-8A82-9BEEE558B53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8"/>
          </p:nvPr>
        </p:nvSpPr>
        <p:spPr/>
        <p:txBody>
          <a:bodyPr/>
          <a:p>
            <a:fld id="{D5D86DBC-EDB6-4EA1-9777-3FB711BB3AC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C01C8CD0-89CA-4D07-AB4A-608731C67FD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7D2DD49-BB80-44CA-9A44-DD02351668E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ADDAAF2B-3E24-4E7D-80A7-B50771546CB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054D3201-9394-4C1A-B285-3753C90147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52429EF-C17A-4BE1-8E71-CC4974C5745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CE1ACC9F-7249-41E2-96A6-C8D5D58A153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01826950-ADC7-4D2F-AE28-7C748587731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D906F2B3-9340-44FB-B9CD-4CF1B2F0367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6917D09-7DE5-4896-A0FD-B54BF560269A}"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C474A2B7-1425-4606-AE00-D639527EFD9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7FA679CF-38DA-4209-8AF7-7A880F88DA8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A5C0B095-EB6B-462F-9238-4A3FFA55EE5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0"/>
          </p:nvPr>
        </p:nvSpPr>
        <p:spPr/>
        <p:txBody>
          <a:bodyPr/>
          <a:p>
            <a:fld id="{CB3EC8C1-2460-4B1A-8A10-F2A010AD8C8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00094389-8B5F-4F90-AED3-5D2DCE15430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A6A008FC-8379-4E9B-8496-A1964F55A1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4381FE7-AA5F-4A7F-8F2F-EA03DDE0A707}"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77EF8D84-F290-4718-9E88-FA8D5470AB7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88295021-34E8-481C-976A-6EEB930BF97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2262C21D-5597-4AB5-B249-1ECD9B51757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5B699CC9-98DF-488E-8701-6F9DCDAA137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8BB43FF2-8F4A-4BDA-A8D2-E8B426D845B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1C76E0F2-32DF-4A34-A0BE-2DD61ADB200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571C77ED-E1F7-4CBD-BAD9-B02C0B1CA94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017BC651-205F-4F8D-9B1B-81ABF1F7DDFC}"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0D30D7CD-7032-4476-93E4-71B26E3CF6B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2"/>
          </p:nvPr>
        </p:nvSpPr>
        <p:spPr/>
        <p:txBody>
          <a:bodyPr/>
          <a:p>
            <a:fld id="{77F7EC33-1ACF-43E6-B7F2-BE5293A7BC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046EFBB-C50D-4C3E-BC1C-DD0D976C415F}"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A537205B-A523-43C4-B1F0-F1B0BA35F58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B9075FC3-CE30-4B5D-9BB6-CD0401BB2E0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93D19566-EEA4-4659-A267-85CCEFEFD03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8AEF3972-AFC1-4C7F-BE98-60738B25505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141A80E5-F4B4-4659-9AE6-F74964CE13A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D1062A2C-2A47-4A57-9D6E-B90203F9109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EE348302-29BE-4C76-A170-BC80D0357A3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B875FA7F-FBD7-4256-8520-35BEE31DE56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E9A117E9-B98E-45DF-A14F-5D42BF6C794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82B577CF-5D51-4630-B1C0-0493698967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DB9EB8C3-2D05-4458-8AD2-A0D898ED88E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72139C6D-462D-4D68-8710-6287A436B83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4"/>
          </p:nvPr>
        </p:nvSpPr>
        <p:spPr/>
        <p:txBody>
          <a:bodyPr/>
          <a:p>
            <a:fld id="{867C0EFA-07B8-435A-BF4E-227933C1E80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E2BE64B6-4EAD-469D-A0CC-1E0DD5F67D7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BA1545B7-F709-46E1-A1EB-E0779ACA37E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719017F5-97BF-4623-811E-A68338D7C60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370D14EC-E109-4DF1-B5DE-7644DA2982B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C8F7127F-1FC3-422D-A3E7-958AF90D873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21A3B4AE-798F-4578-BD1C-462E2F3C4BC6}"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9233BB1E-1915-431D-9740-6348FB192C7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395E9757-E2BA-4304-B518-E9445D997DB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367176B-9D00-49F5-92DC-81B32BC5411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7D26E409-72E8-48FC-AC8F-42011FFE1C3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975D0A9B-5274-45A7-828A-920DFE41110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225ADF9F-68A7-4CBC-B2F0-347EF557458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6"/>
          </p:nvPr>
        </p:nvSpPr>
        <p:spPr/>
        <p:txBody>
          <a:bodyPr/>
          <a:p>
            <a:fld id="{5769985B-A480-4AA6-91BC-82917ED4D81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6FE7B77D-038D-45A5-A67A-8FBFC44888F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164633A8-17E4-41E1-9C04-59157DE4626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0CCF6C6B-55FC-46A6-BA22-FC9F8A607B2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7F94864-5EED-40CF-BED8-BBF50DD0356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E7619EE5-56CE-4CD8-B73B-B45A23D19142}"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CE2D2E56-7DDB-4B49-934B-F6A6272252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56C5E37-1888-455A-AF64-8D55F5865DDE}"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2D4DC2DD-E637-420C-A60B-D14C4D91BC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4D49D0C-2738-4674-9AFC-3D8761B848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FA462-9204-4C1D-A6C7-5BA317BF39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E101308-261C-428C-92EF-354DFD1727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73EF79A-864F-4BA8-B196-D12A1ECF10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76C509B-1988-400D-BAB1-8D20D92694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37485B16-0526-46C2-946D-FDCAD56378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2CEED690-F417-4DCC-9A91-EDF23A54849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E808A5-7187-40A2-A079-46B643E1846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E0AE6C-F2AF-4D1A-B2C5-34AFFBA583A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3735E9-9E5F-41C0-BE88-07706B15448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13CCCF-EB6D-4E9D-ADF0-D38382ADF67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6882C7-BC00-400A-BE1F-B705E54808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B0354-D556-457C-9D6B-5A3B8D623A5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66291048-5832-4CC7-B074-A1BDB79EB75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B86602-7760-416E-84BA-E829E93A245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D102F1-A4DB-41D7-B87A-689AEDA9428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788448-3AC2-48AA-8094-99C94061165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B3DAE4-9902-402A-B33E-A2749FD46CF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91764F0-2BA7-4524-8328-C3AC87E119A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DB16D7-EDFD-4D6C-852A-DF8639C0D14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B3F0693-E477-4E98-A51F-BA8999E4D75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3E336A8F-9797-42C1-B0F7-5D058851DF9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968B7ACD-BE1A-4CAD-8B23-2B8D4EA34B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E3566E-6F75-4C21-8A0B-A88CF4BA411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7BD38936-B518-4F14-915C-3FE8A9B3750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AE81A108-1FAD-4C8D-A06D-8751E6AE7A5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A43D45FC-B3E0-4034-B3C9-38DB6012D25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683559B7-7CAA-4D9A-A223-F94320B25BB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32FC7BBB-9B0B-4170-BE10-8E27C63B7CA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A3F057DC-68D9-432E-AB3A-FA0D53EA891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ACF26D55-D842-4B41-91EC-7C177A76B88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6F840B41-E0AB-4F89-92F0-FA6EB340AD8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4FD87007-DADA-4F94-AD33-E251CE10A62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932CD71-C2AF-4FF0-A614-E36A7FD999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95C191-07CC-4D18-A5E2-044B76DA2AC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DA6C43D-B704-47D3-9717-C9B820E9CAB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90BD288A-6BDE-4D0E-81CB-F6215553C38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CF91301E-0028-441F-97CC-3E42BCFBBA2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6"/>
          </p:nvPr>
        </p:nvSpPr>
        <p:spPr/>
        <p:txBody>
          <a:bodyPr/>
          <a:p>
            <a:fld id="{216E6F7A-D735-4208-BFD2-FB15EE44558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07E140B0-D194-4DC8-957C-7DF5D85DE97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7208D071-E4A4-42C6-B279-447064DDB6B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E9D32D35-8FC6-4607-807B-3E0508C8426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155F9DC-4B4D-4F9D-9AE6-14EBC5874F5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8A5BEA71-B157-43B6-AAE5-5DA797894B6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D3F461F7-76F5-44BC-89AE-A7197D516E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87B092F-6211-4789-BA6E-65A7D6CA772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50C136FC-449A-4E3F-AAD8-342D34BEB66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C375FD5-510D-4DCF-AA15-EDB72C5E2A4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C7928736-C068-47E6-BA68-8211913030A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6F9701A0-2946-4188-8647-0331F5BC661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D1A93856-869B-47D2-B3C8-C08A112ABF1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8"/>
          </p:nvPr>
        </p:nvSpPr>
        <p:spPr/>
        <p:txBody>
          <a:bodyPr/>
          <a:p>
            <a:fld id="{B2E25741-251F-45E5-9F6C-8B26504380B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7487369B-887B-444E-8DBD-B513105B40B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C89CE58-0A95-48AE-8132-A95D1977C2E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9A778479-28EF-4038-9D44-946F1B04418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4A9010E1-B950-4443-B17B-D97198B4F4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ACB930-D07F-494F-AEFC-3890E4EF66F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07107873-5399-4D5D-8D1E-A90AB33B2BD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50DD69FD-D52A-4D5F-AFE2-453CFF22CB5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419574B7-D813-42D2-8347-3B46DB675F4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C64F1513-AAB2-44BB-962D-26AF33651B8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4970A2CD-F906-43D3-9D23-523689DF82A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C0D6708F-866A-4D07-AEDF-9A65DF56E11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F9D1A168-C1AE-4353-B0CD-3D532A0D615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0"/>
          </p:nvPr>
        </p:nvSpPr>
        <p:spPr/>
        <p:txBody>
          <a:bodyPr/>
          <a:p>
            <a:fld id="{71B8AFB0-C06C-4335-B865-4EC19703635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CC752DF3-A85D-4022-BE54-A1963AFCFBA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E3007851-D272-45BA-AE51-1B4D05F5CA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0E81FC-2177-4892-B536-57DC0B956BB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929E1E7-7833-401F-A8EC-40E53648B0A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BEBAB5F0-CC93-4A2F-BC30-7672CB87981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671A13E8-6D53-4B07-B87F-7B6A33F363D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333DD475-792E-45D9-AD36-01782132370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0982A3A2-F0A7-408A-8B18-C5A201BBDBE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B5094ED6-4E5E-4D76-AB66-BF28A1AA41F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60C397E6-0BA7-4220-905D-A6576DC33D6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8FBAA2C7-40F8-48B1-B137-86049728081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06AC6832-02C8-46BA-BB08-BC4B09820E6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2"/>
          </p:nvPr>
        </p:nvSpPr>
        <p:spPr/>
        <p:txBody>
          <a:bodyPr/>
          <a:p>
            <a:fld id="{99A5BBAF-FFD7-4D6C-9237-7EF2B401FF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4814CF-D778-4100-AFE9-B0F7F82F04F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8C13B67B-1100-4CC4-A913-3909E927629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A1424554-10D4-4D97-8C0F-7E3008E0F5D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5543578A-8493-4B12-AC0E-E4FEC2E255F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1D1E2E4A-25C7-486C-9BAE-25A3D4B5B5C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5C571027-CA2F-4525-A7DA-22E5033D826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44451954-0E0E-4E7D-AEBD-062D327ED06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0995460E-680F-488C-BDD3-BDECB573F2F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70F83F04-A2C8-4FFB-BFE7-0993AE62211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2F750477-07D5-4CDA-B3CB-AC414689771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42905A8F-4292-40F8-8638-6723FE1B98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E154F-35AB-4308-AC07-1B332B237B89}"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8257A-EC99-4C0C-AF41-B09762EA85A8}"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35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59" name="PlaceHolder 3"/>
          <p:cNvSpPr>
            <a:spLocks noGrp="1"/>
          </p:cNvSpPr>
          <p:nvPr>
            <p:ph type="sldNum" idx="16"/>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03ABF-EC59-48A4-BDCA-B9371B5EEA5F}"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360" name="PlaceHolder 4"/>
          <p:cNvSpPr>
            <a:spLocks noGrp="1"/>
          </p:cNvSpPr>
          <p:nvPr>
            <p:ph type="sldNum" idx="17"/>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349AF-5A86-467E-B680-9EACE923866E}"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39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99" name="PlaceHolder 3"/>
          <p:cNvSpPr>
            <a:spLocks noGrp="1"/>
          </p:cNvSpPr>
          <p:nvPr>
            <p:ph type="sldNum" idx="18"/>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1D3BC-FEB8-4853-8202-1CA00956134D}"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400" name="PlaceHolder 4"/>
          <p:cNvSpPr>
            <a:spLocks noGrp="1"/>
          </p:cNvSpPr>
          <p:nvPr>
            <p:ph type="sldNum" idx="19"/>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B99BF-2E48-4ED1-A569-30BA7ED82DB7}"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43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9" name="PlaceHolder 3"/>
          <p:cNvSpPr>
            <a:spLocks noGrp="1"/>
          </p:cNvSpPr>
          <p:nvPr>
            <p:ph type="sldNum" idx="20"/>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8DC68-0F17-46FB-A41A-9E23F8D3A883}"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440" name="PlaceHolder 4"/>
          <p:cNvSpPr>
            <a:spLocks noGrp="1"/>
          </p:cNvSpPr>
          <p:nvPr>
            <p:ph type="sldNum" idx="21"/>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71CDD-53A1-47CD-8C8B-5D292D769F68}"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47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9" name="PlaceHolder 3"/>
          <p:cNvSpPr>
            <a:spLocks noGrp="1"/>
          </p:cNvSpPr>
          <p:nvPr>
            <p:ph type="sldNum" idx="22"/>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61124-A303-4F0E-AEA4-6E7C97691732}"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480" name="PlaceHolder 4"/>
          <p:cNvSpPr>
            <a:spLocks noGrp="1"/>
          </p:cNvSpPr>
          <p:nvPr>
            <p:ph type="sldNum" idx="23"/>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BA180-35C5-4B68-9CC3-AAFE7F8413B0}"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51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19" name="PlaceHolder 3"/>
          <p:cNvSpPr>
            <a:spLocks noGrp="1"/>
          </p:cNvSpPr>
          <p:nvPr>
            <p:ph type="sldNum" idx="24"/>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6E3DE-0481-4D64-B0B2-2C5982D2FEE2}"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520" name="PlaceHolder 4"/>
          <p:cNvSpPr>
            <a:spLocks noGrp="1"/>
          </p:cNvSpPr>
          <p:nvPr>
            <p:ph type="sldNum" idx="25"/>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5F3AC-F758-4101-9DED-8B40C86D78F9}"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55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59" name="PlaceHolder 3"/>
          <p:cNvSpPr>
            <a:spLocks noGrp="1"/>
          </p:cNvSpPr>
          <p:nvPr>
            <p:ph type="sldNum" idx="26"/>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6D25E-BECE-452B-9B6F-A5868AB12257}"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560" name="PlaceHolder 4"/>
          <p:cNvSpPr>
            <a:spLocks noGrp="1"/>
          </p:cNvSpPr>
          <p:nvPr>
            <p:ph type="sldNum" idx="27"/>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CF32D-867A-4AD7-9BBB-E0D1A5ECFBF1}"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11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10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82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sldNum" idx="3"/>
          </p:nvPr>
        </p:nvSpPr>
        <p:spPr>
          <a:xfrm>
            <a:off x="7462800" y="6244920"/>
            <a:ext cx="3110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825B5-01B1-49E4-B802-C3A7021F70A8}"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sldNum" idx="4"/>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856AE-FC1E-4A8B-9940-8547E7A8EB7C}"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80" name="PlaceHolder 2"/>
          <p:cNvSpPr>
            <a:spLocks noGrp="1"/>
          </p:cNvSpPr>
          <p:nvPr>
            <p:ph type="title"/>
          </p:nvPr>
        </p:nvSpPr>
        <p:spPr>
          <a:xfrm>
            <a:off x="457200" y="15840"/>
            <a:ext cx="8385120" cy="1889280"/>
          </a:xfrm>
          <a:prstGeom prst="rect">
            <a:avLst/>
          </a:prstGeom>
          <a:noFill/>
          <a:ln w="0">
            <a:noFill/>
          </a:ln>
        </p:spPr>
        <p:txBody>
          <a:bodyPr lIns="50760" rIns="9000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lick to edit the title text format</a:t>
            </a:r>
            <a:endParaRPr b="0" lang="en-US" sz="4400" spc="-1" strike="noStrike">
              <a:solidFill>
                <a:srgbClr val="ffffb7"/>
              </a:solidFill>
              <a:latin typeface="Arial Black"/>
            </a:endParaRPr>
          </a:p>
        </p:txBody>
      </p:sp>
      <p:sp>
        <p:nvSpPr>
          <p:cNvPr id="81" name="PlaceHolder 3"/>
          <p:cNvSpPr>
            <a:spLocks noGrp="1"/>
          </p:cNvSpPr>
          <p:nvPr>
            <p:ph type="body"/>
          </p:nvPr>
        </p:nvSpPr>
        <p:spPr>
          <a:xfrm>
            <a:off x="837720" y="1905120"/>
            <a:ext cx="8007480" cy="4952880"/>
          </a:xfrm>
          <a:prstGeom prst="rect">
            <a:avLst/>
          </a:prstGeom>
          <a:noFill/>
          <a:ln w="0">
            <a:noFill/>
          </a:ln>
        </p:spPr>
        <p:txBody>
          <a:bodyPr lIns="50760" rIns="9000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112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8108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3828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9"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0" name="PlaceHolder 3"/>
          <p:cNvSpPr>
            <a:spLocks noGrp="1"/>
          </p:cNvSpPr>
          <p:nvPr>
            <p:ph type="sldNum" idx="5"/>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8135F-F6E3-40F8-A8AE-BD750831D5C3}"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5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9" name="PlaceHolder 3"/>
          <p:cNvSpPr>
            <a:spLocks noGrp="1"/>
          </p:cNvSpPr>
          <p:nvPr>
            <p:ph type="sldNum" idx="6"/>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EB4B3-CF6B-4267-A408-6BF762233CAE}"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160" name="PlaceHolder 4"/>
          <p:cNvSpPr>
            <a:spLocks noGrp="1"/>
          </p:cNvSpPr>
          <p:nvPr>
            <p:ph type="sldNum" idx="7"/>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3618-43F4-416F-A5E6-791D008C1259}"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9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99" name="PlaceHolder 3"/>
          <p:cNvSpPr>
            <a:spLocks noGrp="1"/>
          </p:cNvSpPr>
          <p:nvPr>
            <p:ph type="sldNum" idx="8"/>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176C4-AA56-4645-98D6-038C9FED621A}"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200" name="PlaceHolder 4"/>
          <p:cNvSpPr>
            <a:spLocks noGrp="1"/>
          </p:cNvSpPr>
          <p:nvPr>
            <p:ph type="sldNum" idx="9"/>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72993-3D7F-46E7-96E3-F359B14D721C}"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23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39" name="PlaceHolder 3"/>
          <p:cNvSpPr>
            <a:spLocks noGrp="1"/>
          </p:cNvSpPr>
          <p:nvPr>
            <p:ph type="sldNum" idx="10"/>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AAAA7-96ED-4AF1-8AB7-12679AF32D8B}"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240" name="PlaceHolder 4"/>
          <p:cNvSpPr>
            <a:spLocks noGrp="1"/>
          </p:cNvSpPr>
          <p:nvPr>
            <p:ph type="sldNum" idx="11"/>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B5313-B12A-4770-8EA2-6EEFDFF7E19F}"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27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79" name="PlaceHolder 3"/>
          <p:cNvSpPr>
            <a:spLocks noGrp="1"/>
          </p:cNvSpPr>
          <p:nvPr>
            <p:ph type="sldNum" idx="12"/>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1283F-A981-4F06-BFBE-F80281AD56DF}"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280" name="PlaceHolder 4"/>
          <p:cNvSpPr>
            <a:spLocks noGrp="1"/>
          </p:cNvSpPr>
          <p:nvPr>
            <p:ph type="sldNum" idx="13"/>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DDFDA-4313-4BEA-870B-0337DEA66EC1}"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31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9" name="PlaceHolder 3"/>
          <p:cNvSpPr>
            <a:spLocks noGrp="1"/>
          </p:cNvSpPr>
          <p:nvPr>
            <p:ph type="sldNum" idx="14"/>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771F8-E864-44E4-B4E2-4FAF5BA765CC}"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320" name="PlaceHolder 4"/>
          <p:cNvSpPr>
            <a:spLocks noGrp="1"/>
          </p:cNvSpPr>
          <p:nvPr>
            <p:ph type="sldNum" idx="15"/>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38BA9-4AA9-4279-9900-B776C0660D17}"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97" name="Group 1"/>
          <p:cNvGrpSpPr/>
          <p:nvPr/>
        </p:nvGrpSpPr>
        <p:grpSpPr>
          <a:xfrm>
            <a:off x="318960" y="1752480"/>
            <a:ext cx="8825040" cy="5129280"/>
            <a:chOff x="318960" y="1752480"/>
            <a:chExt cx="8825040" cy="5129280"/>
          </a:xfrm>
        </p:grpSpPr>
        <p:grpSp>
          <p:nvGrpSpPr>
            <p:cNvPr id="598" name="Group 2"/>
            <p:cNvGrpSpPr/>
            <p:nvPr/>
          </p:nvGrpSpPr>
          <p:grpSpPr>
            <a:xfrm>
              <a:off x="333360" y="1752480"/>
              <a:ext cx="8810640" cy="5105520"/>
              <a:chOff x="333360" y="1752480"/>
              <a:chExt cx="8810640" cy="5105520"/>
            </a:xfrm>
          </p:grpSpPr>
          <p:sp>
            <p:nvSpPr>
              <p:cNvPr id="599" name="AutoShape 3"/>
              <p:cNvSpPr/>
              <p:nvPr/>
            </p:nvSpPr>
            <p:spPr>
              <a:xfrm>
                <a:off x="333360" y="1752480"/>
                <a:ext cx="8810640" cy="5105520"/>
              </a:xfrm>
              <a:prstGeom prst="pie">
                <a:avLst/>
              </a:prstGeom>
              <a:solidFill>
                <a:srgbClr val="006600">
                  <a:alpha val="3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00" name="Rectangle 4"/>
              <p:cNvSpPr/>
              <p:nvPr/>
            </p:nvSpPr>
            <p:spPr>
              <a:xfrm>
                <a:off x="333360" y="1752480"/>
                <a:ext cx="8810640" cy="510552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01" name="Group 5"/>
            <p:cNvGrpSpPr/>
            <p:nvPr/>
          </p:nvGrpSpPr>
          <p:grpSpPr>
            <a:xfrm>
              <a:off x="838080" y="3809880"/>
              <a:ext cx="8305920" cy="3048120"/>
              <a:chOff x="838080" y="3809880"/>
              <a:chExt cx="8305920" cy="3048120"/>
            </a:xfrm>
          </p:grpSpPr>
          <p:sp>
            <p:nvSpPr>
              <p:cNvPr id="602" name="AutoShape 6"/>
              <p:cNvSpPr/>
              <p:nvPr/>
            </p:nvSpPr>
            <p:spPr>
              <a:xfrm>
                <a:off x="838080" y="3809880"/>
                <a:ext cx="8305920" cy="30481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03" name="Rectangle 7"/>
              <p:cNvSpPr/>
              <p:nvPr/>
            </p:nvSpPr>
            <p:spPr>
              <a:xfrm>
                <a:off x="838080" y="3809880"/>
                <a:ext cx="8305920" cy="304812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04" name="Group 8"/>
            <p:cNvGrpSpPr/>
            <p:nvPr/>
          </p:nvGrpSpPr>
          <p:grpSpPr>
            <a:xfrm>
              <a:off x="318960" y="3773520"/>
              <a:ext cx="5484960" cy="45720"/>
              <a:chOff x="318960" y="3773520"/>
              <a:chExt cx="5484960" cy="45720"/>
            </a:xfrm>
          </p:grpSpPr>
          <p:sp>
            <p:nvSpPr>
              <p:cNvPr id="605" name="AutoShape 9"/>
              <p:cNvSpPr/>
              <p:nvPr/>
            </p:nvSpPr>
            <p:spPr>
              <a:xfrm>
                <a:off x="318960" y="3773520"/>
                <a:ext cx="5484960" cy="4572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06" name="Rectangle 10"/>
              <p:cNvSpPr/>
              <p:nvPr/>
            </p:nvSpPr>
            <p:spPr>
              <a:xfrm>
                <a:off x="318960" y="3773520"/>
                <a:ext cx="5484960" cy="4572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07" name="Group 11"/>
            <p:cNvGrpSpPr/>
            <p:nvPr/>
          </p:nvGrpSpPr>
          <p:grpSpPr>
            <a:xfrm>
              <a:off x="838080" y="1752480"/>
              <a:ext cx="7769160" cy="46080"/>
              <a:chOff x="838080" y="1752480"/>
              <a:chExt cx="7769160" cy="46080"/>
            </a:xfrm>
          </p:grpSpPr>
          <p:sp>
            <p:nvSpPr>
              <p:cNvPr id="608" name="AutoShape 12"/>
              <p:cNvSpPr/>
              <p:nvPr/>
            </p:nvSpPr>
            <p:spPr>
              <a:xfrm>
                <a:off x="838080" y="1752480"/>
                <a:ext cx="77691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09" name="Rectangle 13"/>
              <p:cNvSpPr/>
              <p:nvPr/>
            </p:nvSpPr>
            <p:spPr>
              <a:xfrm>
                <a:off x="838080" y="1752480"/>
                <a:ext cx="77691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10" name="Group 14"/>
            <p:cNvGrpSpPr/>
            <p:nvPr/>
          </p:nvGrpSpPr>
          <p:grpSpPr>
            <a:xfrm>
              <a:off x="318960" y="3773520"/>
              <a:ext cx="47520" cy="3108240"/>
              <a:chOff x="318960" y="3773520"/>
              <a:chExt cx="47520" cy="3108240"/>
            </a:xfrm>
          </p:grpSpPr>
          <p:sp>
            <p:nvSpPr>
              <p:cNvPr id="611" name="AutoShape 15"/>
              <p:cNvSpPr/>
              <p:nvPr/>
            </p:nvSpPr>
            <p:spPr>
              <a:xfrm>
                <a:off x="318960" y="3773520"/>
                <a:ext cx="47520" cy="310680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12" name="Rectangle 16"/>
              <p:cNvSpPr/>
              <p:nvPr/>
            </p:nvSpPr>
            <p:spPr>
              <a:xfrm>
                <a:off x="318960" y="3773520"/>
                <a:ext cx="47520" cy="31082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13" name="Group 17"/>
            <p:cNvGrpSpPr/>
            <p:nvPr/>
          </p:nvGrpSpPr>
          <p:grpSpPr>
            <a:xfrm>
              <a:off x="838080" y="1752480"/>
              <a:ext cx="46080" cy="5119560"/>
              <a:chOff x="838080" y="1752480"/>
              <a:chExt cx="46080" cy="5119560"/>
            </a:xfrm>
          </p:grpSpPr>
          <p:sp>
            <p:nvSpPr>
              <p:cNvPr id="614" name="AutoShape 18"/>
              <p:cNvSpPr/>
              <p:nvPr/>
            </p:nvSpPr>
            <p:spPr>
              <a:xfrm>
                <a:off x="838080" y="1752480"/>
                <a:ext cx="46080" cy="511956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15" name="Rectangle 19"/>
              <p:cNvSpPr/>
              <p:nvPr/>
            </p:nvSpPr>
            <p:spPr>
              <a:xfrm>
                <a:off x="838080" y="1752480"/>
                <a:ext cx="46080" cy="5119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sp>
        <p:nvSpPr>
          <p:cNvPr id="616" name="PlaceHolder 1"/>
          <p:cNvSpPr>
            <a:spLocks noGrp="1"/>
          </p:cNvSpPr>
          <p:nvPr>
            <p:ph type="title"/>
          </p:nvPr>
        </p:nvSpPr>
        <p:spPr>
          <a:xfrm>
            <a:off x="990720" y="1904760"/>
            <a:ext cx="7772400" cy="1981080"/>
          </a:xfrm>
          <a:prstGeom prst="rect">
            <a:avLst/>
          </a:prstGeom>
          <a:noFill/>
          <a:ln w="0">
            <a:noFill/>
          </a:ln>
        </p:spPr>
        <p:txBody>
          <a:bodyPr lIns="50760" rIns="81360" tIns="50760" bIns="50760" anchor="t">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Native Peoples</a:t>
            </a:r>
            <a:endParaRPr b="0" lang="en-US" sz="5400" spc="-1" strike="noStrike">
              <a:solidFill>
                <a:srgbClr val="ffffb7"/>
              </a:solidFill>
              <a:latin typeface="Arial Black"/>
            </a:endParaRPr>
          </a:p>
        </p:txBody>
      </p:sp>
      <p:sp>
        <p:nvSpPr>
          <p:cNvPr id="617" name="PlaceHolder 2"/>
          <p:cNvSpPr>
            <a:spLocks noGrp="1"/>
          </p:cNvSpPr>
          <p:nvPr>
            <p:ph/>
          </p:nvPr>
        </p:nvSpPr>
        <p:spPr>
          <a:xfrm>
            <a:off x="1600200" y="3885840"/>
            <a:ext cx="6781680" cy="2971800"/>
          </a:xfrm>
          <a:prstGeom prst="rect">
            <a:avLst/>
          </a:prstGeom>
          <a:noFill/>
          <a:ln w="0">
            <a:noFill/>
          </a:ln>
        </p:spPr>
        <p:txBody>
          <a:bodyPr lIns="50760" rIns="8136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emair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90360"/>
            <a:ext cx="8229600" cy="150984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619" name="PlaceHolder 2"/>
          <p:cNvSpPr>
            <a:spLocks noGrp="1"/>
          </p:cNvSpPr>
          <p:nvPr>
            <p:ph/>
          </p:nvPr>
        </p:nvSpPr>
        <p:spPr>
          <a:xfrm>
            <a:off x="457200" y="1599840"/>
            <a:ext cx="8229600" cy="5257800"/>
          </a:xfrm>
          <a:prstGeom prst="rect">
            <a:avLst/>
          </a:prstGeom>
          <a:noFill/>
          <a:ln w="0">
            <a:noFill/>
          </a:ln>
        </p:spPr>
        <p:txBody>
          <a:bodyPr lIns="50760" rIns="81360" tIns="50760" bIns="50760" anchor="t">
            <a:normAutofit/>
          </a:bodyPr>
          <a:p>
            <a:pPr marL="382680" indent="-343080">
              <a:spcBef>
                <a:spcPts val="700"/>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0" lang="en-US" sz="3200" spc="-1" strike="noStrike">
                <a:solidFill>
                  <a:srgbClr val="ff0000"/>
                </a:solidFill>
                <a:latin typeface="Arial Bold"/>
                <a:ea typeface="Arial Bold"/>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20" name="Group 1"/>
          <p:cNvGrpSpPr/>
          <p:nvPr/>
        </p:nvGrpSpPr>
        <p:grpSpPr>
          <a:xfrm>
            <a:off x="318960" y="1828800"/>
            <a:ext cx="8825040" cy="5029200"/>
            <a:chOff x="318960" y="1828800"/>
            <a:chExt cx="8825040" cy="5029200"/>
          </a:xfrm>
        </p:grpSpPr>
        <p:grpSp>
          <p:nvGrpSpPr>
            <p:cNvPr id="621" name="Group 2"/>
            <p:cNvGrpSpPr/>
            <p:nvPr/>
          </p:nvGrpSpPr>
          <p:grpSpPr>
            <a:xfrm>
              <a:off x="838080" y="4618080"/>
              <a:ext cx="8305920" cy="2239920"/>
              <a:chOff x="838080" y="4618080"/>
              <a:chExt cx="8305920" cy="2239920"/>
            </a:xfrm>
          </p:grpSpPr>
          <p:sp>
            <p:nvSpPr>
              <p:cNvPr id="622" name="AutoShape 3"/>
              <p:cNvSpPr/>
              <p:nvPr/>
            </p:nvSpPr>
            <p:spPr>
              <a:xfrm>
                <a:off x="838080" y="4618080"/>
                <a:ext cx="8305920" cy="22399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23" name="Rectangle 4"/>
              <p:cNvSpPr/>
              <p:nvPr/>
            </p:nvSpPr>
            <p:spPr>
              <a:xfrm>
                <a:off x="838080" y="4618080"/>
                <a:ext cx="8305920" cy="223992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24" name="Group 5"/>
            <p:cNvGrpSpPr/>
            <p:nvPr/>
          </p:nvGrpSpPr>
          <p:grpSpPr>
            <a:xfrm>
              <a:off x="333360" y="1828800"/>
              <a:ext cx="8810640" cy="5028840"/>
              <a:chOff x="333360" y="1828800"/>
              <a:chExt cx="8810640" cy="5028840"/>
            </a:xfrm>
          </p:grpSpPr>
          <p:sp>
            <p:nvSpPr>
              <p:cNvPr id="625" name="AutoShape 6"/>
              <p:cNvSpPr/>
              <p:nvPr/>
            </p:nvSpPr>
            <p:spPr>
              <a:xfrm>
                <a:off x="333360" y="1828800"/>
                <a:ext cx="8810640" cy="502884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26" name="Rectangle 7"/>
              <p:cNvSpPr/>
              <p:nvPr/>
            </p:nvSpPr>
            <p:spPr>
              <a:xfrm>
                <a:off x="333360" y="1828800"/>
                <a:ext cx="8810640" cy="5028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27" name="Group 8"/>
            <p:cNvGrpSpPr/>
            <p:nvPr/>
          </p:nvGrpSpPr>
          <p:grpSpPr>
            <a:xfrm>
              <a:off x="838080" y="4654440"/>
              <a:ext cx="8305920" cy="2203560"/>
              <a:chOff x="838080" y="4654440"/>
              <a:chExt cx="8305920" cy="2203560"/>
            </a:xfrm>
          </p:grpSpPr>
          <p:sp>
            <p:nvSpPr>
              <p:cNvPr id="628" name="AutoShape 9"/>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29" name="Rectangle 10"/>
              <p:cNvSpPr/>
              <p:nvPr/>
            </p:nvSpPr>
            <p:spPr>
              <a:xfrm>
                <a:off x="838080" y="4654440"/>
                <a:ext cx="8305920" cy="2203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30" name="Group 11"/>
            <p:cNvGrpSpPr/>
            <p:nvPr/>
          </p:nvGrpSpPr>
          <p:grpSpPr>
            <a:xfrm>
              <a:off x="838080" y="1828800"/>
              <a:ext cx="7313760" cy="46080"/>
              <a:chOff x="838080" y="1828800"/>
              <a:chExt cx="7313760" cy="46080"/>
            </a:xfrm>
          </p:grpSpPr>
          <p:sp>
            <p:nvSpPr>
              <p:cNvPr id="631" name="AutoShape 12"/>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32" name="Rectangle 13"/>
              <p:cNvSpPr/>
              <p:nvPr/>
            </p:nvSpPr>
            <p:spPr>
              <a:xfrm>
                <a:off x="838080" y="1828800"/>
                <a:ext cx="73137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33" name="Group 14"/>
            <p:cNvGrpSpPr/>
            <p:nvPr/>
          </p:nvGrpSpPr>
          <p:grpSpPr>
            <a:xfrm>
              <a:off x="838080" y="1828800"/>
              <a:ext cx="46080" cy="2833560"/>
              <a:chOff x="838080" y="1828800"/>
              <a:chExt cx="46080" cy="2833560"/>
            </a:xfrm>
          </p:grpSpPr>
          <p:sp>
            <p:nvSpPr>
              <p:cNvPr id="634" name="AutoShape 15"/>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35" name="Rectangle 16"/>
              <p:cNvSpPr/>
              <p:nvPr/>
            </p:nvSpPr>
            <p:spPr>
              <a:xfrm>
                <a:off x="838080" y="1828800"/>
                <a:ext cx="46080" cy="2833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36" name="Group 17"/>
            <p:cNvGrpSpPr/>
            <p:nvPr/>
          </p:nvGrpSpPr>
          <p:grpSpPr>
            <a:xfrm>
              <a:off x="836640" y="4610160"/>
              <a:ext cx="45720" cy="2247840"/>
              <a:chOff x="836640" y="4610160"/>
              <a:chExt cx="45720" cy="2247840"/>
            </a:xfrm>
          </p:grpSpPr>
          <p:sp>
            <p:nvSpPr>
              <p:cNvPr id="637" name="AutoShape 18"/>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38" name="Rectangle 19"/>
              <p:cNvSpPr/>
              <p:nvPr/>
            </p:nvSpPr>
            <p:spPr>
              <a:xfrm>
                <a:off x="836640" y="4610160"/>
                <a:ext cx="45720" cy="2247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39" name="Group 20"/>
            <p:cNvGrpSpPr/>
            <p:nvPr/>
          </p:nvGrpSpPr>
          <p:grpSpPr>
            <a:xfrm>
              <a:off x="318960" y="4610160"/>
              <a:ext cx="4570560" cy="46080"/>
              <a:chOff x="318960" y="4610160"/>
              <a:chExt cx="4570560" cy="46080"/>
            </a:xfrm>
          </p:grpSpPr>
          <p:sp>
            <p:nvSpPr>
              <p:cNvPr id="640" name="AutoShape 21"/>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41" name="Rectangle 22"/>
              <p:cNvSpPr/>
              <p:nvPr/>
            </p:nvSpPr>
            <p:spPr>
              <a:xfrm>
                <a:off x="318960" y="4610160"/>
                <a:ext cx="45705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42" name="Group 23"/>
            <p:cNvGrpSpPr/>
            <p:nvPr/>
          </p:nvGrpSpPr>
          <p:grpSpPr>
            <a:xfrm>
              <a:off x="318960" y="4610160"/>
              <a:ext cx="47520" cy="2247840"/>
              <a:chOff x="318960" y="4610160"/>
              <a:chExt cx="47520" cy="2247840"/>
            </a:xfrm>
          </p:grpSpPr>
          <p:sp>
            <p:nvSpPr>
              <p:cNvPr id="643" name="AutoShape 24"/>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44" name="Rectangle 25"/>
              <p:cNvSpPr/>
              <p:nvPr/>
            </p:nvSpPr>
            <p:spPr>
              <a:xfrm>
                <a:off x="318960" y="4610160"/>
                <a:ext cx="47520" cy="2247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sp>
        <p:nvSpPr>
          <p:cNvPr id="645" name="PlaceHolder 1"/>
          <p:cNvSpPr>
            <a:spLocks noGrp="1"/>
          </p:cNvSpPr>
          <p:nvPr>
            <p:ph type="title"/>
          </p:nvPr>
        </p:nvSpPr>
        <p:spPr>
          <a:xfrm>
            <a:off x="457200" y="15840"/>
            <a:ext cx="8385120" cy="188928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1: Entitlement</a:t>
            </a:r>
            <a:endParaRPr b="0" lang="en-US" sz="4400" spc="-1" strike="noStrike">
              <a:solidFill>
                <a:srgbClr val="ffffb7"/>
              </a:solidFill>
              <a:latin typeface="Arial Black"/>
            </a:endParaRPr>
          </a:p>
        </p:txBody>
      </p:sp>
      <p:sp>
        <p:nvSpPr>
          <p:cNvPr id="646" name="PlaceHolder 2"/>
          <p:cNvSpPr>
            <a:spLocks noGrp="1"/>
          </p:cNvSpPr>
          <p:nvPr>
            <p:ph/>
          </p:nvPr>
        </p:nvSpPr>
        <p:spPr>
          <a:xfrm>
            <a:off x="837720" y="1905120"/>
            <a:ext cx="8007480" cy="4952880"/>
          </a:xfrm>
          <a:prstGeom prst="rect">
            <a:avLst/>
          </a:prstGeom>
          <a:noFill/>
          <a:ln w="0">
            <a:noFill/>
          </a:ln>
        </p:spPr>
        <p:txBody>
          <a:bodyPr lIns="50760" rIns="81360" tIns="50760" bIns="50760" anchor="t">
            <a:normAutofit/>
          </a:bodyPr>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ny of you people of the outer world have become so infatuated with yourselves that you have failed to take into consideration anybody but yourselves. The Amazon is not only our living place, it is our birthright. Just like you people have your holy land, we have ours. And it is this land here. You have condescendingly forgotten about more than 50 uncontacted tribes. This forest not only shelters us, but it provides us our daily exultation.   </a:t>
            </a:r>
            <a:endParaRPr b="0" lang="en-US" sz="1800" spc="-1" strike="noStrike">
              <a:solidFill>
                <a:srgbClr val="ffffff"/>
              </a:solidFill>
              <a:latin typeface="Arial"/>
            </a:endParaRPr>
          </a:p>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only do you people have to take action now to help us, you must take action now to help yourselves. At least 60-80% of all logging in the Amazon is ILLEGAL. But that doesn’t seem to stop you people from further harming our sacred land. Statistics have reported that at the rate of deforestation we are currently going at, by the year of 2030 of your peoples time, our holy land will be destroyed beyond repair. That means less holy air that you call oxygen that provides your lungs with the wind it needs. The fabric of this world will continue to tear if we keep at it. So please, for our sake and the sake of the world, please, please stop destroying the forest.”                                             </a:t>
            </a:r>
            <a:endParaRPr b="0" lang="en-US" sz="1800" spc="-1" strike="noStrike">
              <a:solidFill>
                <a:srgbClr val="ffffff"/>
              </a:solidFill>
              <a:latin typeface="Arial"/>
            </a:endParaRPr>
          </a:p>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hief Jaguar</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47" name="Group 1"/>
          <p:cNvGrpSpPr/>
          <p:nvPr/>
        </p:nvGrpSpPr>
        <p:grpSpPr>
          <a:xfrm>
            <a:off x="318960" y="1828800"/>
            <a:ext cx="8825040" cy="5029200"/>
            <a:chOff x="318960" y="1828800"/>
            <a:chExt cx="8825040" cy="5029200"/>
          </a:xfrm>
        </p:grpSpPr>
        <p:grpSp>
          <p:nvGrpSpPr>
            <p:cNvPr id="648" name="Group 2"/>
            <p:cNvGrpSpPr/>
            <p:nvPr/>
          </p:nvGrpSpPr>
          <p:grpSpPr>
            <a:xfrm>
              <a:off x="838080" y="4618080"/>
              <a:ext cx="8305920" cy="2239920"/>
              <a:chOff x="838080" y="4618080"/>
              <a:chExt cx="8305920" cy="2239920"/>
            </a:xfrm>
          </p:grpSpPr>
          <p:sp>
            <p:nvSpPr>
              <p:cNvPr id="649" name="AutoShape 3"/>
              <p:cNvSpPr/>
              <p:nvPr/>
            </p:nvSpPr>
            <p:spPr>
              <a:xfrm>
                <a:off x="838080" y="4618080"/>
                <a:ext cx="8305920" cy="22399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50" name="Rectangle 4"/>
              <p:cNvSpPr/>
              <p:nvPr/>
            </p:nvSpPr>
            <p:spPr>
              <a:xfrm>
                <a:off x="838080" y="4618080"/>
                <a:ext cx="8305920" cy="223992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51" name="Group 5"/>
            <p:cNvGrpSpPr/>
            <p:nvPr/>
          </p:nvGrpSpPr>
          <p:grpSpPr>
            <a:xfrm>
              <a:off x="333360" y="1828800"/>
              <a:ext cx="8810640" cy="5028840"/>
              <a:chOff x="333360" y="1828800"/>
              <a:chExt cx="8810640" cy="5028840"/>
            </a:xfrm>
          </p:grpSpPr>
          <p:sp>
            <p:nvSpPr>
              <p:cNvPr id="652" name="AutoShape 6"/>
              <p:cNvSpPr/>
              <p:nvPr/>
            </p:nvSpPr>
            <p:spPr>
              <a:xfrm>
                <a:off x="333360" y="1828800"/>
                <a:ext cx="8810640" cy="502884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53" name="Rectangle 7"/>
              <p:cNvSpPr/>
              <p:nvPr/>
            </p:nvSpPr>
            <p:spPr>
              <a:xfrm>
                <a:off x="333360" y="1828800"/>
                <a:ext cx="8810640" cy="5028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54" name="Group 8"/>
            <p:cNvGrpSpPr/>
            <p:nvPr/>
          </p:nvGrpSpPr>
          <p:grpSpPr>
            <a:xfrm>
              <a:off x="838080" y="4654440"/>
              <a:ext cx="8305920" cy="2203560"/>
              <a:chOff x="838080" y="4654440"/>
              <a:chExt cx="8305920" cy="2203560"/>
            </a:xfrm>
          </p:grpSpPr>
          <p:sp>
            <p:nvSpPr>
              <p:cNvPr id="655" name="AutoShape 9"/>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56" name="Rectangle 10"/>
              <p:cNvSpPr/>
              <p:nvPr/>
            </p:nvSpPr>
            <p:spPr>
              <a:xfrm>
                <a:off x="838080" y="4654440"/>
                <a:ext cx="8305920" cy="2203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57" name="Group 11"/>
            <p:cNvGrpSpPr/>
            <p:nvPr/>
          </p:nvGrpSpPr>
          <p:grpSpPr>
            <a:xfrm>
              <a:off x="838080" y="1828800"/>
              <a:ext cx="7313760" cy="46080"/>
              <a:chOff x="838080" y="1828800"/>
              <a:chExt cx="7313760" cy="46080"/>
            </a:xfrm>
          </p:grpSpPr>
          <p:sp>
            <p:nvSpPr>
              <p:cNvPr id="658" name="AutoShape 12"/>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59" name="Rectangle 13"/>
              <p:cNvSpPr/>
              <p:nvPr/>
            </p:nvSpPr>
            <p:spPr>
              <a:xfrm>
                <a:off x="838080" y="1828800"/>
                <a:ext cx="73137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60" name="Group 14"/>
            <p:cNvGrpSpPr/>
            <p:nvPr/>
          </p:nvGrpSpPr>
          <p:grpSpPr>
            <a:xfrm>
              <a:off x="838080" y="1828800"/>
              <a:ext cx="46080" cy="2833560"/>
              <a:chOff x="838080" y="1828800"/>
              <a:chExt cx="46080" cy="2833560"/>
            </a:xfrm>
          </p:grpSpPr>
          <p:sp>
            <p:nvSpPr>
              <p:cNvPr id="661" name="AutoShape 15"/>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62" name="Rectangle 16"/>
              <p:cNvSpPr/>
              <p:nvPr/>
            </p:nvSpPr>
            <p:spPr>
              <a:xfrm>
                <a:off x="838080" y="1828800"/>
                <a:ext cx="46080" cy="2833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63" name="Group 17"/>
            <p:cNvGrpSpPr/>
            <p:nvPr/>
          </p:nvGrpSpPr>
          <p:grpSpPr>
            <a:xfrm>
              <a:off x="836640" y="4610160"/>
              <a:ext cx="45720" cy="2247840"/>
              <a:chOff x="836640" y="4610160"/>
              <a:chExt cx="45720" cy="2247840"/>
            </a:xfrm>
          </p:grpSpPr>
          <p:sp>
            <p:nvSpPr>
              <p:cNvPr id="664" name="AutoShape 18"/>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65" name="Rectangle 19"/>
              <p:cNvSpPr/>
              <p:nvPr/>
            </p:nvSpPr>
            <p:spPr>
              <a:xfrm>
                <a:off x="836640" y="4610160"/>
                <a:ext cx="45720" cy="2247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66" name="Group 20"/>
            <p:cNvGrpSpPr/>
            <p:nvPr/>
          </p:nvGrpSpPr>
          <p:grpSpPr>
            <a:xfrm>
              <a:off x="318960" y="4610160"/>
              <a:ext cx="4570560" cy="46080"/>
              <a:chOff x="318960" y="4610160"/>
              <a:chExt cx="4570560" cy="46080"/>
            </a:xfrm>
          </p:grpSpPr>
          <p:sp>
            <p:nvSpPr>
              <p:cNvPr id="667" name="AutoShape 21"/>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68" name="Rectangle 22"/>
              <p:cNvSpPr/>
              <p:nvPr/>
            </p:nvSpPr>
            <p:spPr>
              <a:xfrm>
                <a:off x="318960" y="4610160"/>
                <a:ext cx="45705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69" name="Group 23"/>
            <p:cNvGrpSpPr/>
            <p:nvPr/>
          </p:nvGrpSpPr>
          <p:grpSpPr>
            <a:xfrm>
              <a:off x="318960" y="4610160"/>
              <a:ext cx="47520" cy="2247840"/>
              <a:chOff x="318960" y="4610160"/>
              <a:chExt cx="47520" cy="2247840"/>
            </a:xfrm>
          </p:grpSpPr>
          <p:sp>
            <p:nvSpPr>
              <p:cNvPr id="670" name="AutoShape 24"/>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71" name="Rectangle 25"/>
              <p:cNvSpPr/>
              <p:nvPr/>
            </p:nvSpPr>
            <p:spPr>
              <a:xfrm>
                <a:off x="318960" y="4610160"/>
                <a:ext cx="47520" cy="2247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sp>
        <p:nvSpPr>
          <p:cNvPr id="672" name="PlaceHolder 1"/>
          <p:cNvSpPr>
            <a:spLocks noGrp="1"/>
          </p:cNvSpPr>
          <p:nvPr>
            <p:ph type="title"/>
          </p:nvPr>
        </p:nvSpPr>
        <p:spPr>
          <a:xfrm>
            <a:off x="457200" y="15840"/>
            <a:ext cx="8385120" cy="188928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 2 Abuse</a:t>
            </a:r>
            <a:endParaRPr b="0" lang="en-US" sz="4400" spc="-1" strike="noStrike">
              <a:solidFill>
                <a:srgbClr val="ffffb7"/>
              </a:solidFill>
              <a:latin typeface="Arial Black"/>
            </a:endParaRPr>
          </a:p>
        </p:txBody>
      </p:sp>
      <p:sp>
        <p:nvSpPr>
          <p:cNvPr id="673" name="PlaceHolder 2"/>
          <p:cNvSpPr>
            <a:spLocks noGrp="1"/>
          </p:cNvSpPr>
          <p:nvPr>
            <p:ph/>
          </p:nvPr>
        </p:nvSpPr>
        <p:spPr>
          <a:xfrm>
            <a:off x="837720" y="1905120"/>
            <a:ext cx="8007480" cy="4952880"/>
          </a:xfrm>
          <a:prstGeom prst="rect">
            <a:avLst/>
          </a:prstGeom>
          <a:noFill/>
          <a:ln w="0">
            <a:noFill/>
          </a:ln>
        </p:spPr>
        <p:txBody>
          <a:bodyPr lIns="50760" rIns="8136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ny tribes have been driven off and even killed by settlers wanting their land for ranching, farming, timber and oil. Some natives were forced to work in sugar plantations or mines. Between 1900 and 1967, an around 98 tribes were wiped out, simply because of the greed of settlers. </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ound the year 1967 agency officials and land speculators of the Indian Protection Service slaughtered our people by purposely giving them disease-laced clothing.</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in 1967, construction began on a transcontinental highway which cleared thousands of miles of forests. Our reservations suffered massive deforestation and flooding. Migrants from the project brought new diseases like small-pox, measles and even the common cold, which devastated our population. </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ft, forced labor, mass murder, and mistreatment are no way to handle the situation.</a:t>
            </a:r>
            <a:endParaRPr b="0" lang="en-US" sz="1800" spc="-1" strike="noStrike">
              <a:solidFill>
                <a:srgbClr val="ffffff"/>
              </a:solidFill>
              <a:latin typeface="Arial"/>
            </a:endParaRPr>
          </a:p>
          <a:p>
            <a:pPr marL="3826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    </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74" name="Group 1"/>
          <p:cNvGrpSpPr/>
          <p:nvPr/>
        </p:nvGrpSpPr>
        <p:grpSpPr>
          <a:xfrm>
            <a:off x="318960" y="1828800"/>
            <a:ext cx="8825040" cy="5029200"/>
            <a:chOff x="318960" y="1828800"/>
            <a:chExt cx="8825040" cy="5029200"/>
          </a:xfrm>
        </p:grpSpPr>
        <p:grpSp>
          <p:nvGrpSpPr>
            <p:cNvPr id="675" name="Group 2"/>
            <p:cNvGrpSpPr/>
            <p:nvPr/>
          </p:nvGrpSpPr>
          <p:grpSpPr>
            <a:xfrm>
              <a:off x="838080" y="4618080"/>
              <a:ext cx="8305920" cy="2239920"/>
              <a:chOff x="838080" y="4618080"/>
              <a:chExt cx="8305920" cy="2239920"/>
            </a:xfrm>
          </p:grpSpPr>
          <p:sp>
            <p:nvSpPr>
              <p:cNvPr id="676" name="AutoShape 3"/>
              <p:cNvSpPr/>
              <p:nvPr/>
            </p:nvSpPr>
            <p:spPr>
              <a:xfrm>
                <a:off x="838080" y="4618080"/>
                <a:ext cx="8305920" cy="22399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77" name="Rectangle 4"/>
              <p:cNvSpPr/>
              <p:nvPr/>
            </p:nvSpPr>
            <p:spPr>
              <a:xfrm>
                <a:off x="838080" y="4618080"/>
                <a:ext cx="8305920" cy="223992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78" name="Group 5"/>
            <p:cNvGrpSpPr/>
            <p:nvPr/>
          </p:nvGrpSpPr>
          <p:grpSpPr>
            <a:xfrm>
              <a:off x="333360" y="1828800"/>
              <a:ext cx="8810640" cy="5028840"/>
              <a:chOff x="333360" y="1828800"/>
              <a:chExt cx="8810640" cy="5028840"/>
            </a:xfrm>
          </p:grpSpPr>
          <p:sp>
            <p:nvSpPr>
              <p:cNvPr id="679" name="AutoShape 6"/>
              <p:cNvSpPr/>
              <p:nvPr/>
            </p:nvSpPr>
            <p:spPr>
              <a:xfrm>
                <a:off x="333360" y="1828800"/>
                <a:ext cx="8810640" cy="502884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80" name="Rectangle 7"/>
              <p:cNvSpPr/>
              <p:nvPr/>
            </p:nvSpPr>
            <p:spPr>
              <a:xfrm>
                <a:off x="333360" y="1828800"/>
                <a:ext cx="8810640" cy="5028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81" name="Group 8"/>
            <p:cNvGrpSpPr/>
            <p:nvPr/>
          </p:nvGrpSpPr>
          <p:grpSpPr>
            <a:xfrm>
              <a:off x="838080" y="4654440"/>
              <a:ext cx="8305920" cy="2203560"/>
              <a:chOff x="838080" y="4654440"/>
              <a:chExt cx="8305920" cy="2203560"/>
            </a:xfrm>
          </p:grpSpPr>
          <p:sp>
            <p:nvSpPr>
              <p:cNvPr id="682" name="AutoShape 9"/>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83" name="Rectangle 10"/>
              <p:cNvSpPr/>
              <p:nvPr/>
            </p:nvSpPr>
            <p:spPr>
              <a:xfrm>
                <a:off x="838080" y="4654440"/>
                <a:ext cx="8305920" cy="2203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84" name="Group 11"/>
            <p:cNvGrpSpPr/>
            <p:nvPr/>
          </p:nvGrpSpPr>
          <p:grpSpPr>
            <a:xfrm>
              <a:off x="838080" y="1828800"/>
              <a:ext cx="7313760" cy="46080"/>
              <a:chOff x="838080" y="1828800"/>
              <a:chExt cx="7313760" cy="46080"/>
            </a:xfrm>
          </p:grpSpPr>
          <p:sp>
            <p:nvSpPr>
              <p:cNvPr id="685" name="AutoShape 12"/>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86" name="Rectangle 13"/>
              <p:cNvSpPr/>
              <p:nvPr/>
            </p:nvSpPr>
            <p:spPr>
              <a:xfrm>
                <a:off x="838080" y="1828800"/>
                <a:ext cx="73137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87" name="Group 14"/>
            <p:cNvGrpSpPr/>
            <p:nvPr/>
          </p:nvGrpSpPr>
          <p:grpSpPr>
            <a:xfrm>
              <a:off x="838080" y="1828800"/>
              <a:ext cx="46080" cy="2833560"/>
              <a:chOff x="838080" y="1828800"/>
              <a:chExt cx="46080" cy="2833560"/>
            </a:xfrm>
          </p:grpSpPr>
          <p:sp>
            <p:nvSpPr>
              <p:cNvPr id="688" name="AutoShape 15"/>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89" name="Rectangle 16"/>
              <p:cNvSpPr/>
              <p:nvPr/>
            </p:nvSpPr>
            <p:spPr>
              <a:xfrm>
                <a:off x="838080" y="1828800"/>
                <a:ext cx="46080" cy="2833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90" name="Group 17"/>
            <p:cNvGrpSpPr/>
            <p:nvPr/>
          </p:nvGrpSpPr>
          <p:grpSpPr>
            <a:xfrm>
              <a:off x="836640" y="4610160"/>
              <a:ext cx="45720" cy="2247840"/>
              <a:chOff x="836640" y="4610160"/>
              <a:chExt cx="45720" cy="2247840"/>
            </a:xfrm>
          </p:grpSpPr>
          <p:sp>
            <p:nvSpPr>
              <p:cNvPr id="691" name="AutoShape 18"/>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92" name="Rectangle 19"/>
              <p:cNvSpPr/>
              <p:nvPr/>
            </p:nvSpPr>
            <p:spPr>
              <a:xfrm>
                <a:off x="836640" y="4610160"/>
                <a:ext cx="45720" cy="2247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93" name="Group 20"/>
            <p:cNvGrpSpPr/>
            <p:nvPr/>
          </p:nvGrpSpPr>
          <p:grpSpPr>
            <a:xfrm>
              <a:off x="318960" y="4610160"/>
              <a:ext cx="4570560" cy="46080"/>
              <a:chOff x="318960" y="4610160"/>
              <a:chExt cx="4570560" cy="46080"/>
            </a:xfrm>
          </p:grpSpPr>
          <p:sp>
            <p:nvSpPr>
              <p:cNvPr id="694" name="AutoShape 21"/>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95" name="Rectangle 22"/>
              <p:cNvSpPr/>
              <p:nvPr/>
            </p:nvSpPr>
            <p:spPr>
              <a:xfrm>
                <a:off x="318960" y="4610160"/>
                <a:ext cx="45705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96" name="Group 23"/>
            <p:cNvGrpSpPr/>
            <p:nvPr/>
          </p:nvGrpSpPr>
          <p:grpSpPr>
            <a:xfrm>
              <a:off x="318960" y="4610160"/>
              <a:ext cx="47520" cy="2247840"/>
              <a:chOff x="318960" y="4610160"/>
              <a:chExt cx="47520" cy="2247840"/>
            </a:xfrm>
          </p:grpSpPr>
          <p:sp>
            <p:nvSpPr>
              <p:cNvPr id="697" name="AutoShape 24"/>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98" name="Rectangle 25"/>
              <p:cNvSpPr/>
              <p:nvPr/>
            </p:nvSpPr>
            <p:spPr>
              <a:xfrm>
                <a:off x="318960" y="4610160"/>
                <a:ext cx="47520" cy="2247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sp>
        <p:nvSpPr>
          <p:cNvPr id="699" name="PlaceHolder 1"/>
          <p:cNvSpPr>
            <a:spLocks noGrp="1"/>
          </p:cNvSpPr>
          <p:nvPr>
            <p:ph type="title"/>
          </p:nvPr>
        </p:nvSpPr>
        <p:spPr>
          <a:xfrm>
            <a:off x="457200" y="15840"/>
            <a:ext cx="8385120" cy="188928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3: Dependence</a:t>
            </a:r>
            <a:endParaRPr b="0" lang="en-US" sz="4400" spc="-1" strike="noStrike">
              <a:solidFill>
                <a:srgbClr val="ffffb7"/>
              </a:solidFill>
              <a:latin typeface="Arial Black"/>
            </a:endParaRPr>
          </a:p>
        </p:txBody>
      </p:sp>
      <p:sp>
        <p:nvSpPr>
          <p:cNvPr id="700" name="PlaceHolder 2"/>
          <p:cNvSpPr>
            <a:spLocks noGrp="1"/>
          </p:cNvSpPr>
          <p:nvPr>
            <p:ph/>
          </p:nvPr>
        </p:nvSpPr>
        <p:spPr>
          <a:xfrm>
            <a:off x="837720" y="1905120"/>
            <a:ext cx="8007480" cy="4952880"/>
          </a:xfrm>
          <a:prstGeom prst="rect">
            <a:avLst/>
          </a:prstGeom>
          <a:noFill/>
          <a:ln w="0">
            <a:noFill/>
          </a:ln>
        </p:spPr>
        <p:txBody>
          <a:bodyPr lIns="50760" rIns="81360" tIns="50760" bIns="50760" anchor="t">
            <a:normAutofit/>
          </a:bodyPr>
          <a:p>
            <a:pPr marL="3826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rainforest is the most species rich land in the world. Us natives depend on these animals for food, clothing and other purposes. With the destruction of the rainforest we have lost many of our animal brethren. We must preserve our environment and the sacred life on it. To deprive us of our home and necessities by cutting and destroying the rainforest would be of equivalence to having your modes of infrastructure destroyed. We depend on these plants and animals for our native people and tribes to survive.</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cc32"/>
            </a:gs>
            <a:gs pos="100000">
              <a:srgbClr val="65ff65"/>
            </a:gs>
          </a:gsLst>
          <a:lin ang="5400000"/>
        </a:gradFill>
      </p:bgPr>
    </p:bg>
    <p:spTree>
      <p:nvGrpSpPr>
        <p:cNvPr id="1" name=""/>
        <p:cNvGrpSpPr/>
        <p:nvPr/>
      </p:nvGrpSpPr>
      <p:grpSpPr>
        <a:xfrm>
          <a:off x="0" y="0"/>
          <a:ext cx="0" cy="0"/>
          <a:chOff x="0" y="0"/>
          <a:chExt cx="0" cy="0"/>
        </a:xfrm>
      </p:grpSpPr>
      <p:pic>
        <p:nvPicPr>
          <p:cNvPr id="701" name="Picture 1" descr=""/>
          <p:cNvPicPr/>
          <p:nvPr/>
        </p:nvPicPr>
        <p:blipFill>
          <a:blip r:embed="rId1"/>
          <a:stretch/>
        </p:blipFill>
        <p:spPr>
          <a:xfrm>
            <a:off x="380880" y="1371600"/>
            <a:ext cx="3706920" cy="4800600"/>
          </a:xfrm>
          <a:prstGeom prst="rect">
            <a:avLst/>
          </a:prstGeom>
          <a:ln w="0">
            <a:noFill/>
          </a:ln>
        </p:spPr>
      </p:pic>
      <p:sp>
        <p:nvSpPr>
          <p:cNvPr id="70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ândido Rondon </a:t>
            </a:r>
            <a:endParaRPr b="0" lang="en-US" sz="4400" spc="-1" strike="noStrike">
              <a:solidFill>
                <a:srgbClr val="000000"/>
              </a:solidFill>
              <a:latin typeface="Arial"/>
            </a:endParaRPr>
          </a:p>
        </p:txBody>
      </p:sp>
      <p:sp>
        <p:nvSpPr>
          <p:cNvPr id="703" name="Rectangle 3"/>
          <p:cNvSpPr/>
          <p:nvPr/>
        </p:nvSpPr>
        <p:spPr>
          <a:xfrm>
            <a:off x="5105520" y="1371600"/>
            <a:ext cx="3809880" cy="14223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Cândido Rondon helped establish the National Foundation for Indians, which was the first federal agency charged with protecting Indians and preserving their culture. </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After his death, the foundation corrupted due to the money and influence of big industry and ended up harming natives.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4" name="Line 1"/>
          <p:cNvSpPr/>
          <p:nvPr/>
        </p:nvSpPr>
        <p:spPr>
          <a:xfrm flipV="1">
            <a:off x="1981080" y="1828800"/>
            <a:ext cx="1067040" cy="3808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Line 2"/>
          <p:cNvSpPr/>
          <p:nvPr/>
        </p:nvSpPr>
        <p:spPr>
          <a:xfrm flipH="1">
            <a:off x="4876560" y="380880"/>
            <a:ext cx="685800" cy="6858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Line 3"/>
          <p:cNvSpPr/>
          <p:nvPr/>
        </p:nvSpPr>
        <p:spPr>
          <a:xfrm flipH="1" flipV="1">
            <a:off x="5105520" y="4038120"/>
            <a:ext cx="1676160" cy="6858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Rectangle 4"/>
          <p:cNvSpPr/>
          <p:nvPr/>
        </p:nvSpPr>
        <p:spPr>
          <a:xfrm>
            <a:off x="5851440" y="228600"/>
            <a:ext cx="1859400" cy="670680"/>
          </a:xfrm>
          <a:prstGeom prst="rect">
            <a:avLst/>
          </a:prstGeom>
          <a:noFill/>
          <a:ln w="0">
            <a:noFill/>
          </a:ln>
        </p:spPr>
        <p:style>
          <a:lnRef idx="0"/>
          <a:fillRef idx="0"/>
          <a:effectRef idx="0"/>
          <a:fontRef idx="minor"/>
        </p:style>
        <p:txBody>
          <a:bodyPr wrap="none" lIns="0" rIns="40680" tIns="0" bIns="0" anchor="t" anchorCtr="1">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Tri Nguyen</a:t>
            </a:r>
            <a:endParaRPr b="0" lang="en-US" sz="2200" spc="-1" strike="noStrike">
              <a:solidFill>
                <a:srgbClr val="ffffff"/>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Jaguar Tribe]</a:t>
            </a:r>
            <a:endParaRPr b="0" lang="en-US" sz="2200" spc="-1" strike="noStrike">
              <a:solidFill>
                <a:srgbClr val="ffffff"/>
              </a:solidFill>
              <a:latin typeface="Arial"/>
            </a:endParaRPr>
          </a:p>
        </p:txBody>
      </p:sp>
      <p:sp>
        <p:nvSpPr>
          <p:cNvPr id="708" name="Rectangle 5"/>
          <p:cNvSpPr/>
          <p:nvPr/>
        </p:nvSpPr>
        <p:spPr>
          <a:xfrm>
            <a:off x="6477120" y="4572000"/>
            <a:ext cx="2666880" cy="1333440"/>
          </a:xfrm>
          <a:prstGeom prst="rect">
            <a:avLst/>
          </a:prstGeom>
          <a:noFill/>
          <a:ln w="0">
            <a:noFill/>
          </a:ln>
        </p:spPr>
        <p:style>
          <a:lnRef idx="0"/>
          <a:fillRef idx="0"/>
          <a:effectRef idx="0"/>
          <a:fontRef idx="minor"/>
        </p:style>
        <p:txBody>
          <a:bodyPr lIns="0" rIns="40680" tIns="0" bIns="0" anchor="t" anchorCtr="1">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lias Osio</a:t>
            </a:r>
            <a:endParaRPr b="0" lang="en-US" sz="2400" spc="-1" strike="noStrike">
              <a:solidFill>
                <a:srgbClr val="ffffff"/>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Korubos Tribe]</a:t>
            </a:r>
            <a:endParaRPr b="0" lang="en-US" sz="2400" spc="-1" strike="noStrike">
              <a:solidFill>
                <a:srgbClr val="ffffff"/>
              </a:solidFill>
              <a:latin typeface="Arial"/>
            </a:endParaRPr>
          </a:p>
        </p:txBody>
      </p:sp>
      <p:sp>
        <p:nvSpPr>
          <p:cNvPr id="709" name="Rectangle 6"/>
          <p:cNvSpPr/>
          <p:nvPr/>
        </p:nvSpPr>
        <p:spPr>
          <a:xfrm>
            <a:off x="405360" y="2286000"/>
            <a:ext cx="1778760" cy="610200"/>
          </a:xfrm>
          <a:prstGeom prst="rect">
            <a:avLst/>
          </a:prstGeom>
          <a:noFill/>
          <a:ln w="0">
            <a:noFill/>
          </a:ln>
        </p:spPr>
        <p:style>
          <a:lnRef idx="0"/>
          <a:fillRef idx="0"/>
          <a:effectRef idx="0"/>
          <a:fontRef idx="minor"/>
        </p:style>
        <p:txBody>
          <a:bodyPr wrap="none" lIns="0" rIns="40680" tIns="0" bIns="0" anchor="t" anchorCtr="1">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lex Lemaire </a:t>
            </a:r>
            <a:endParaRPr b="0" lang="en-US" sz="2000" spc="-1" strike="noStrike">
              <a:solidFill>
                <a:srgbClr val="ffffff"/>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tsés Tribe]</a:t>
            </a:r>
            <a:endParaRPr b="0" lang="en-US" sz="2000" spc="-1" strike="noStrike">
              <a:solidFill>
                <a:srgbClr val="ffffff"/>
              </a:solidFill>
              <a:latin typeface="Arial"/>
            </a:endParaRPr>
          </a:p>
        </p:txBody>
      </p:sp>
      <p:sp>
        <p:nvSpPr>
          <p:cNvPr id="710" name="Line 7"/>
          <p:cNvSpPr/>
          <p:nvPr/>
        </p:nvSpPr>
        <p:spPr>
          <a:xfrm flipV="1">
            <a:off x="1370880" y="4343040"/>
            <a:ext cx="1219320" cy="30492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Rectangle 8"/>
          <p:cNvSpPr/>
          <p:nvPr/>
        </p:nvSpPr>
        <p:spPr>
          <a:xfrm>
            <a:off x="417960" y="4724280"/>
            <a:ext cx="1638360" cy="259560"/>
          </a:xfrm>
          <a:prstGeom prst="rect">
            <a:avLst/>
          </a:prstGeom>
          <a:noFill/>
          <a:ln w="0">
            <a:noFill/>
          </a:ln>
        </p:spPr>
        <p:style>
          <a:lnRef idx="0"/>
          <a:fillRef idx="0"/>
          <a:effectRef idx="0"/>
          <a:fontRef idx="minor"/>
        </p:style>
        <p:txBody>
          <a:bodyPr wrap="none" lIns="0" rIns="40680" tIns="0" bIns="0" anchor="t" anchorCtr="1">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Black"/>
              </a:rPr>
              <a:t>ALIEN DEVICE?!</a:t>
            </a:r>
            <a:endParaRPr b="0" lang="en-US" sz="17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calUser</dc:creator>
  <dc:description/>
  <cp:keywords/>
  <dc:language>en-US</dc:language>
  <cp:lastModifiedBy>cfisd</cp:lastModifiedBy>
  <dcterms:modified xsi:type="dcterms:W3CDTF">2009-01-27T13:18:16Z</dcterms:modified>
  <cp:revision>7</cp:revision>
  <dc:subject/>
  <dc:title>Native Peoples</dc:title>
</cp:coreProperties>
</file>