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E6038-B9DB-4601-9087-C46E9B656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9F605-526E-4C93-9A2E-F46607EF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C95E4-5270-4CEB-980A-DD575E4F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4E374-B3C5-4102-A54E-32BF49E4F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E3F76-3ADD-4892-998F-7CEDE9C0B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3359C-BE5C-43C4-9129-D8E840AE9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134E0-DA81-4B1B-A05F-5D5F51A59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4BBB6-899C-4A70-A74B-2BA0DFBD8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2A79E-6667-4360-9FE6-442C22488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A681A-36C7-45C6-A691-572656214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58E7-34C0-4274-B298-FF788684F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3EA16-43D6-4300-84E8-302E9769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935FE-B207-4D73-BF09-492CEEC85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E96F6-0367-45C7-B318-565C7E01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6A76D-7ABC-43AB-8669-71E7EF534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61BF0-80D2-459A-A9CA-A860F1EEA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B85B8-6B7E-42F9-9948-4DDA485D0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20276-64C2-4524-ABF0-2C5CCBE52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E80BB-5154-4BFB-8DB8-203B4A5EA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FDB2B-2C41-4D1A-A76C-544E08626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2A2AA-326F-44F1-9F00-FC457941B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89752-BB3F-4C87-BF8E-76A8505B1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EA766-B415-404B-A66B-4D9D603A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15E8DA-8A9C-4CA4-976B-5F35BD115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6C614-C062-483C-9F1C-60ECF02DE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533BF-93D3-4961-A2E8-0C1161C37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8FDDA-E01D-4C7F-B31A-1B98AC892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6DAA0-3879-474E-9E10-193996111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DC19E-3D88-4853-970D-0B48256D7A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DF1D17-45A2-426A-BC1A-FFB4088F0B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8F1E-17C6-4C80-B5DE-F9AF143AB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54B34-7981-4ABE-A47F-7B646B0AE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E02C-6855-487A-8001-E3B3648C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F59E-06FD-4666-AFB8-DDD99CD6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AB2D-A790-422A-8BBA-5201FC9D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ECB0-43B9-45DF-BB85-4086DEB2B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52E6-996A-4C05-9709-D8DB3E8AA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7368-4C88-4A21-928F-55B836472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69CE-4C7E-4CC8-B6BF-4DD02EBB7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Native Peoples</a:t>
            </a:r>
            <a:endParaRPr b="1" lang="en-US" sz="5400" spc="-1" strike="noStrike">
              <a:solidFill>
                <a:srgbClr val="ffffb7"/>
              </a:solidFill>
              <a:latin typeface="Arial Black"/>
            </a:endParaRPr>
          </a:p>
        </p:txBody>
      </p:sp>
      <p:sp>
        <p:nvSpPr>
          <p:cNvPr id="140" name="PlaceHolder 2"/>
          <p:cNvSpPr>
            <a:spLocks noGrp="1"/>
          </p:cNvSpPr>
          <p:nvPr>
            <p:ph type="subTitle"/>
          </p:nvPr>
        </p:nvSpPr>
        <p:spPr>
          <a:xfrm>
            <a:off x="16002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a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1" lang="en-US" sz="3200" spc="-1" strike="noStrike">
                <a:solidFill>
                  <a:srgbClr val="ff0000"/>
                </a:solidFill>
                <a:latin typeface="Arial"/>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itlement</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Beauty</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92 square miles of rainforest was destroyed in August 2008. That's a 228 percent increase over August 2007. </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ainforest is a lush, species-rich paradise with more than 75,000 types of trees and 150,000 species of higher plants</a:t>
            </a:r>
            <a:r>
              <a:rPr b="0" lang="en-US" sz="1800" spc="-1" strike="noStrike">
                <a:solidFill>
                  <a:srgbClr val="ffffff"/>
                </a:solidFill>
                <a:latin typeface="Arial"/>
              </a:rPr>
              <a:t>. </a:t>
            </a:r>
            <a:r>
              <a:rPr b="1" lang="en-US" sz="1800" spc="-1" strike="noStrike">
                <a:solidFill>
                  <a:srgbClr val="ffffff"/>
                </a:solidFill>
                <a:latin typeface="Arial"/>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Habitats</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slide Alex.</a:t>
            </a:r>
            <a:br>
              <a:rPr sz="3200"/>
            </a:br>
            <a:br>
              <a:rPr sz="3200"/>
            </a:br>
            <a:r>
              <a:rPr b="0" lang="en-US" sz="3200" spc="-1" strike="noStrike">
                <a:solidFill>
                  <a:srgbClr val="ffffff"/>
                </a:solidFill>
                <a:latin typeface="Arial"/>
              </a:rPr>
              <a:t>PSB ALL THE W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 explain why destruction of natural habitats is a important reason to save the rainfo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1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2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48:09Z</dcterms:created>
  <dc:creator>LocalUser</dc:creator>
  <dc:description/>
  <dc:language>en-US</dc:language>
  <cp:lastModifiedBy>LocalUser</cp:lastModifiedBy>
  <dcterms:modified xsi:type="dcterms:W3CDTF">2009-01-26T00:32:25Z</dcterms:modified>
  <cp:revision>12</cp:revision>
  <dc:subject/>
  <dc:title>Native Peoples</dc:title>
</cp:coreProperties>
</file>