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B1D74D-A26D-41D7-A047-6F4DA92FA3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CA2519-41E7-4F91-90BC-ACFD6F67FC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13EDB1-0248-4E02-A2F1-05E3B94BD4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40F761-A81C-4AD0-8948-C70ECBF900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BB5C57-B930-4B54-A1D8-78680FD7F7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193BC6-380F-48CF-AE6C-82A69E505B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7CB41B-5F6D-4B71-9D4A-FFA722A482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344C60-C77E-4E10-9F6A-B9F966710A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79066A-7854-47C0-B3C2-27728B4BDE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5CE0B5-AB1C-406D-B928-1CBD85D662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40D3E6-D88E-4130-9B00-2650BAA9B2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C6AED1-4E9D-4A99-838B-18C78DBD57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41FEED-3623-495B-968F-FC4DCA88E3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8873AD-0555-4C31-886E-E30B0EDD21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5B51C9-AE67-45C7-9C72-073C93593E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E7BE61-ACB5-410F-8A83-83E2190FC8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E36278-FB51-4B3D-99E3-8C1255E072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4B6206F-AE3C-433E-A5BE-AEF82046C2D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17745F-CCD8-4DCD-BD3D-86C63CE05A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9C245B-B638-47F6-ADFA-CC294D141A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6F34EC-C345-4CF3-948E-C0672457E7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C64C9F-F800-445E-96AD-48F44758B2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6845FF-446D-4E41-8E25-4067507850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ADFACF-1C25-47E6-A5AA-013DFC2E07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D6B774-2410-497F-BB50-637CF6F03A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DA4489-9229-478B-A33A-94EDA487DB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1CA9D4-816E-4344-90B1-B462EE544C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B7ADE2-C2DA-4DF1-8636-B425F4CB42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30DBAC2-584C-47B3-B620-7E3387F41F8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F8D02D0-8F5F-415B-8902-143BF593589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951DF1-D19F-405F-B2E0-54E2EFA96C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B012CC-73A5-4B40-BE1E-DD38A90139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7F8DC8-FB62-4F8E-81B6-9444C60D33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391151-0DFC-40AE-9A6F-B45D9BC802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AF80BB-8AD2-4531-ADDC-D9F8F7A6CC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DADCC-FBAE-4E1B-B856-82F2AB5B4B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F10FA-DEDC-4B41-A149-9B12B73C3C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F1B93-296D-41AD-821B-89716A7CE2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0"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1"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2"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6D98C-847B-43C4-95F9-6F26BDA248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Native Peoples</a:t>
            </a:r>
            <a:endParaRPr b="1" lang="en-US" sz="5400" spc="-1" strike="noStrike">
              <a:solidFill>
                <a:srgbClr val="ffffb7"/>
              </a:solidFill>
              <a:latin typeface="Arial Black"/>
            </a:endParaRPr>
          </a:p>
        </p:txBody>
      </p:sp>
      <p:sp>
        <p:nvSpPr>
          <p:cNvPr id="140" name="PlaceHolder 2"/>
          <p:cNvSpPr>
            <a:spLocks noGrp="1"/>
          </p:cNvSpPr>
          <p:nvPr>
            <p:ph type="subTitle"/>
          </p:nvPr>
        </p:nvSpPr>
        <p:spPr>
          <a:xfrm>
            <a:off x="1600200" y="3886200"/>
            <a:ext cx="67816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ias Osio, Tri Nguyen, Alex Lam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ffffb7"/>
                </a:solidFill>
                <a:latin typeface="Arial"/>
              </a:rPr>
              <a:t>Our Position</a:t>
            </a: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b7"/>
                </a:solidFill>
                <a:latin typeface="Arial"/>
              </a:rPr>
              <a:t>We are</a:t>
            </a:r>
            <a:r>
              <a:rPr b="0" lang="en-US" sz="3200" spc="-1" strike="noStrike">
                <a:solidFill>
                  <a:srgbClr val="000000"/>
                </a:solidFill>
                <a:latin typeface="Arial"/>
              </a:rPr>
              <a:t> </a:t>
            </a:r>
            <a:r>
              <a:rPr b="1" lang="en-US" sz="3200" spc="-1" strike="noStrike">
                <a:solidFill>
                  <a:srgbClr val="ff0000"/>
                </a:solidFill>
                <a:latin typeface="Arial"/>
              </a:rPr>
              <a:t>against</a:t>
            </a:r>
            <a:r>
              <a:rPr b="0" lang="en-US" sz="3200" spc="-1" strike="noStrike">
                <a:solidFill>
                  <a:srgbClr val="000000"/>
                </a:solidFill>
                <a:latin typeface="Arial"/>
              </a:rPr>
              <a:t> </a:t>
            </a:r>
            <a:r>
              <a:rPr b="0" lang="en-US" sz="3200" spc="-1" strike="noStrike">
                <a:solidFill>
                  <a:srgbClr val="ffffb7"/>
                </a:solidFill>
                <a:latin typeface="Arial"/>
              </a:rPr>
              <a:t>rainforest destru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ntitlement</a:t>
            </a:r>
            <a:endParaRPr b="1" lang="en-US" sz="4400" spc="-1" strike="noStrike">
              <a:solidFill>
                <a:srgbClr val="ffffb7"/>
              </a:solidFill>
              <a:latin typeface="Arial Black"/>
            </a:endParaRPr>
          </a:p>
        </p:txBody>
      </p:sp>
      <p:sp>
        <p:nvSpPr>
          <p:cNvPr id="14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is land has been handed down unto us by our forefathers long before the corporations and government attempted to corrupt it of its natural resources and beauty.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f there is anybody that should have control over the fate of this land, it is us, not government plans like Avanca Brasi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Natural Beauty</a:t>
            </a:r>
            <a:endParaRPr b="1" lang="en-US" sz="4400" spc="-1" strike="noStrike">
              <a:solidFill>
                <a:srgbClr val="ffffb7"/>
              </a:solidFill>
              <a:latin typeface="Arial Black"/>
            </a:endParaRPr>
          </a:p>
        </p:txBody>
      </p:sp>
      <p:sp>
        <p:nvSpPr>
          <p:cNvPr id="146"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292 square miles of rainforest was destroyed in August 2008. That's a 228 percent increase over August 2007. </a:t>
            </a:r>
            <a:endParaRPr b="0" lang="en-US" sz="1800" spc="-1" strike="noStrike">
              <a:solidFill>
                <a:srgbClr val="ffffff"/>
              </a:solidFill>
              <a:latin typeface="Arial"/>
            </a:endParaRPr>
          </a:p>
          <a:p>
            <a:pPr marL="343080" indent="-343080">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Slash and Burn farming has caused extensive environmental damage. This causes soil to lose its fertility and weeds to invade the area, which severely harms the natural beauty of the land.</a:t>
            </a:r>
            <a:endParaRPr b="0" lang="en-US" sz="1800" spc="-1" strike="noStrike">
              <a:solidFill>
                <a:srgbClr val="ffffff"/>
              </a:solidFill>
              <a:latin typeface="Arial"/>
            </a:endParaRPr>
          </a:p>
          <a:p>
            <a:pPr marL="343080" indent="-343080">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6,000 sq km, or one fifth of the entire Amazon has already been cleared. If this alarming rate of deforestation increases, the rainforest will be no more.</a:t>
            </a:r>
            <a:endParaRPr b="0" lang="en-US" sz="1800" spc="-1" strike="noStrike">
              <a:solidFill>
                <a:srgbClr val="ffffff"/>
              </a:solidFill>
              <a:latin typeface="Arial"/>
            </a:endParaRPr>
          </a:p>
          <a:p>
            <a:pPr marL="343080" indent="-343080">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rainforest is a lush, species-rich paradise with more than 75,000 types of trees and 150,000 species of higher plants</a:t>
            </a:r>
            <a:r>
              <a:rPr b="0" lang="en-US" sz="1800" spc="-1" strike="noStrike">
                <a:solidFill>
                  <a:srgbClr val="ffffff"/>
                </a:solidFill>
                <a:latin typeface="Arial"/>
              </a:rPr>
              <a:t>. </a:t>
            </a:r>
            <a:r>
              <a:rPr b="1" lang="en-US" sz="1800" spc="-1" strike="noStrike">
                <a:solidFill>
                  <a:srgbClr val="ffffff"/>
                </a:solidFill>
                <a:latin typeface="Arial"/>
              </a:rPr>
              <a:t>One in ten known species in the world live in the Amazon Rainforest. If we keep allowing people to destroy this wonderful forest, it will never be as beautiful of a place as it is right now.</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Natural Habitats</a:t>
            </a:r>
            <a:endParaRPr b="1" lang="en-US" sz="4400" spc="-1" strike="noStrike">
              <a:solidFill>
                <a:srgbClr val="ffffb7"/>
              </a:solidFill>
              <a:latin typeface="Arial Black"/>
            </a:endParaRPr>
          </a:p>
        </p:txBody>
      </p:sp>
      <p:sp>
        <p:nvSpPr>
          <p:cNvPr id="148"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this slide Alex.</a:t>
            </a:r>
            <a:br>
              <a:rPr sz="3200"/>
            </a:br>
            <a:br>
              <a:rPr sz="3200"/>
            </a:br>
            <a:r>
              <a:rPr b="0" lang="en-US" sz="3200" spc="-1" strike="noStrike">
                <a:solidFill>
                  <a:srgbClr val="ffffff"/>
                </a:solidFill>
                <a:latin typeface="Arial"/>
              </a:rPr>
              <a:t>PSB ALL THE WA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member to explain why destruction of natural habitats is a important reason to save the rainfores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icture #1 goes her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icture #2 goes her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5T20:48:09Z</dcterms:created>
  <dc:creator>LocalUser</dc:creator>
  <dc:description/>
  <dc:language>en-US</dc:language>
  <cp:lastModifiedBy>LocalUser</cp:lastModifiedBy>
  <dcterms:modified xsi:type="dcterms:W3CDTF">2009-01-26T00:32:25Z</dcterms:modified>
  <cp:revision>12</cp:revision>
  <dc:subject/>
  <dc:title>Native Peoples</dc:title>
</cp:coreProperties>
</file>