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313DD-3493-446A-941E-E9B199357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383D0-C6B8-459E-8707-F19A569F8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8BD6C4-0C51-4466-BAFF-E651EC7AF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C8708-7E24-4FF8-9D2C-B12B6C7E2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B6F710-8BD4-4CC6-B9A7-A224932063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2F7D2-1509-4A7C-B5B0-053BAF120A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E7B88-EFCF-4698-A199-16AA768B6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22FDAF-6CCD-479F-AA32-71AF017F8D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63FA8-5448-4FF1-987F-3805E57D33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B8DF7-C0D4-4FC4-A940-2CA284787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81435-8653-4961-9972-28B94103A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C5F3-9290-4706-AB0F-5B6033B02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B28D1-0F0E-4ADF-998D-C1409808F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BDDFD-EA44-45CF-A797-B9DD47716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2FB29-68FE-4C6E-9E0A-0D48D7DF1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5F741-44A2-4DCB-BE01-F96D763E6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5DB19-299C-4A52-9810-3986CE641A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A3CB25-9499-4CC5-A41E-3500D95623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F781D-D57C-4B9E-BAF1-86830D37E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FDD92-6B0A-4053-A51F-B7F29BA9D7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A085E7-643B-450A-A5C7-2BF86A677D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3E620D-60DD-4162-ADC0-97AC55AB0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E6D1E-E978-45C0-B931-3A6E70D76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D53B2-59DB-42BA-BD2A-3B4D7BD775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BEFCF-2A94-4768-97DA-45E0B2C3F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DFDAB6-2259-4407-A773-B27E15D84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DF5BB-746C-4CBD-85FE-B49E7DB1E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5E32B1-AE43-4C38-839E-4C54617FCD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E7B30B-53E0-41F4-B6E4-5CC7A1A8E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98E7F2-14A6-4E50-82A2-0764A852FD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4D945-AED7-41A2-8C00-9C170492E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3EED3-D059-4A30-A768-59ECBF1E6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E207-748E-4D05-86AB-80C4C4EEC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D9594-7CB8-4068-B770-5B9859438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C4D1B-605E-4A8A-8CFD-4950BAD76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979E9-D268-43E3-8EF4-887C4814A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5333-1FE8-4017-9CC3-629171158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08390-68EF-4CAB-87DB-ABFAB762EC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330F-25C1-443A-92AE-2996236BF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Native Peoples</a:t>
            </a:r>
            <a:endParaRPr b="1" lang="en-US" sz="5400" spc="-1" strike="noStrike">
              <a:solidFill>
                <a:srgbClr val="ffffb7"/>
              </a:solidFill>
              <a:latin typeface="Arial Black"/>
            </a:endParaRPr>
          </a:p>
        </p:txBody>
      </p:sp>
      <p:sp>
        <p:nvSpPr>
          <p:cNvPr id="140" name="PlaceHolder 2"/>
          <p:cNvSpPr>
            <a:spLocks noGrp="1"/>
          </p:cNvSpPr>
          <p:nvPr>
            <p:ph type="subTitle"/>
          </p:nvPr>
        </p:nvSpPr>
        <p:spPr>
          <a:xfrm>
            <a:off x="1600200" y="388620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a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b7"/>
                </a:solidFill>
                <a:latin typeface="Arial"/>
              </a:rPr>
              <a:t>Our Positio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1" lang="en-US" sz="3200" spc="-1" strike="noStrike">
                <a:solidFill>
                  <a:srgbClr val="ff0000"/>
                </a:solidFill>
                <a:latin typeface="Arial"/>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titlement</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tural Beauty</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92 square miles of rainforest was destroyed in August 2008. That's a 228 percent increase over August 2007. </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ainforest is a lush, species-rich paradise with more than 75,000 types of trees and 150,000 species of higher plants</a:t>
            </a:r>
            <a:r>
              <a:rPr b="0" lang="en-US" sz="1800" spc="-1" strike="noStrike">
                <a:solidFill>
                  <a:srgbClr val="ffffff"/>
                </a:solidFill>
                <a:latin typeface="Arial"/>
              </a:rPr>
              <a:t>. </a:t>
            </a:r>
            <a:r>
              <a:rPr b="1" lang="en-US" sz="1800" spc="-1" strike="noStrike">
                <a:solidFill>
                  <a:srgbClr val="ffffff"/>
                </a:solidFill>
                <a:latin typeface="Arial"/>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tural Habitats</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slide Alex.</a:t>
            </a:r>
            <a:br>
              <a:rPr sz="3200"/>
            </a:br>
            <a:br>
              <a:rPr sz="3200"/>
            </a:br>
            <a:r>
              <a:rPr b="0" lang="en-US" sz="3200" spc="-1" strike="noStrike">
                <a:solidFill>
                  <a:srgbClr val="ffffff"/>
                </a:solidFill>
                <a:latin typeface="Arial"/>
              </a:rPr>
              <a:t>PSB ALL THE WA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o explain why destruction of natural habitats is a important reason to save the rainfo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1 goes 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2 goes 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48:09Z</dcterms:created>
  <dc:creator>LocalUser</dc:creator>
  <dc:description/>
  <dc:language>en-US</dc:language>
  <cp:lastModifiedBy>LocalUser</cp:lastModifiedBy>
  <dcterms:modified xsi:type="dcterms:W3CDTF">2009-01-26T00:32:25Z</dcterms:modified>
  <cp:revision>12</cp:revision>
  <dc:subject/>
  <dc:title>Native Peoples</dc:title>
</cp:coreProperties>
</file>