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1F72-7154-46C8-94D4-466904B2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1F9-13C2-42FF-9178-D22EE5C3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C10B-EAB5-45F8-B169-E4D3B205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14B4-50CF-421C-B6C7-D0F8DA9B4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12B-0259-4BB4-8BAE-0FFD2E51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6B39-1691-4740-9524-614CC80F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D311-D8FE-41EC-B486-05D9A1D4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3FF-0059-4211-8E1A-E4E09C5A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C17-53EC-42FA-9CE7-224BB616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5636-7BF7-4BEB-AE72-06F96915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1EA9-7648-4F8E-85C7-7705BDA1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8F2F-2EA8-4F71-94AB-52B6FE58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3F0A-E709-4AC5-B459-DE6C0218A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warnercamp.com/assets/images/Sun_Clipart.jpg&amp;imgrefurl=http://www.warnercamp.com/html/contact.html&amp;h=562&amp;w=594&amp;sz=35&amp;hl=en&amp;start=3&amp;usg=__-Ba0p_waxz2m4qq8CgEAVuslOmM=&amp;tbnid=4TRnGKj8FYM6UM:&amp;tbnh=128&amp;tbnw=135&amp;prev=/images%3Fq%3Dsun%2Bclip%2Bart%26gbv%3D2%26hl%3Den%26safe%3Dactive" TargetMode="External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lasszone.com/books/earth_science/terc/content/visualizations/es1201/es1201page01.cfm?chapter_no=visualization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rnal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os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432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15000" y="2133720"/>
            <a:ext cx="9144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2670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“Slide Show” then “View Show” to view the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all notes and complete all task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age doesn’t have a directions box like this, just get the no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mechanical weathering like a ham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weathering wonderlan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landscape that includes examples of weathering resulting from each of the 6 causes.  (3 mechanical, 3 chemic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a sample on the next slide to help you begin.  You can steal my example for thermal expansion if you wa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wonderland can have multiple rock form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10280" y="533520"/>
            <a:ext cx="1285920" cy="12189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715000" y="4114800"/>
            <a:ext cx="3200400" cy="2124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91320" y="33526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cks that have split apart due to thermal expans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391160" y="1905120"/>
            <a:ext cx="228600" cy="129528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ath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forces that are changing rocks and land over time, even day to 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5486400" cy="3654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1371600"/>
            <a:ext cx="28958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when a force breaks a rock into smaller pieces by forcing them apar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ing large rocks into smaller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696080" y="0"/>
            <a:ext cx="14479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use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growing through rocks 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 gets into rocks, expands the space it inhabit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st wed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mal expan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rocks in deserts get heated and expand, breaking them into pie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257800" y="3962520"/>
            <a:ext cx="3124080" cy="2743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334120" y="1371600"/>
            <a:ext cx="3657600" cy="232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23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uses/Effects of Mechanical Weath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85800" y="1371600"/>
            <a:ext cx="3048120" cy="1808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838080" y="3429000"/>
            <a:ext cx="2743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one Mountain, GA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6267600" y="1371600"/>
            <a:ext cx="2622240" cy="3581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6324480" y="5181480"/>
            <a:ext cx="2619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rand Cany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4038480"/>
            <a:ext cx="4343400" cy="244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headline to bring up the web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on the pictures to make them larger. Read the cap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 the examples of mechanical weathering that could occur in Houst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cal we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when something "eats away" at a rock rather than breaking it a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Idea**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HAVE A CHEMICAL CHANGE IN THE ROCK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648320" y="210024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cid Ra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04920" y="2057400"/>
            <a:ext cx="8458200" cy="4800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629400" y="3962520"/>
            <a:ext cx="171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657600"/>
            <a:ext cx="12952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7080" y="2362320"/>
            <a:ext cx="228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362320" y="3886200"/>
            <a:ext cx="237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76520" y="5943600"/>
            <a:ext cx="22860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29400" y="5486400"/>
            <a:ext cx="247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3809880" y="4419720"/>
            <a:ext cx="12193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762120"/>
            <a:ext cx="4419720" cy="147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he mouse to bring up the 5 step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efly explain each step of the Acid Rain process in your noteboo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reates a chemical reaction in certain 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ca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resulting from pollution or interna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22585" b="0"/>
          <a:stretch/>
        </p:blipFill>
        <p:spPr>
          <a:xfrm>
            <a:off x="4952880" y="1600200"/>
            <a:ext cx="3670560" cy="4114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105520" y="5867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aming pollution on rock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Chemical Weath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3276720" cy="2186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86400" y="3809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PH1, this New Zealand lake is pure hydrochloric aci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343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ked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3505320" y="4495680"/>
            <a:ext cx="2514600" cy="18860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172200" y="5867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00:45:37Z</dcterms:created>
  <dc:creator>cfisd</dc:creator>
  <dc:description/>
  <dc:language>en-US</dc:language>
  <cp:lastModifiedBy>CFISD</cp:lastModifiedBy>
  <dcterms:modified xsi:type="dcterms:W3CDTF">2008-09-05T11:51:24Z</dcterms:modified>
  <cp:revision>23</cp:revision>
  <dc:subject/>
  <dc:title>External Processes</dc:title>
</cp:coreProperties>
</file>