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0B2-DB15-4F3F-AD5E-6F169A98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ED7-A147-4C73-9329-077CCC0E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6B6-BEF4-49FD-93C6-5FB02F38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C95-A093-4384-AB33-B1D35F73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E2E-BE23-4567-B13C-A1C59382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F51-5E94-4BDD-A111-2F113353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99D-34B0-42BA-B0DB-FD68BD49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7FF-6845-40D0-A559-E8EB1950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C54-BB8D-4126-A89D-9D626C17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26E-7ABD-4F9E-ABFB-B07C5B68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17F-81FB-4886-B8CD-D0B29075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1E8-0BF5-46A6-9341-4B23E035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AFA1-E68B-4694-ADEF-22A1B45B6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warnercamp.com/assets/images/Sun_Clipart.jpg&amp;imgrefurl=http://www.warnercamp.com/html/contact.html&amp;h=562&amp;w=594&amp;sz=35&amp;hl=en&amp;start=3&amp;usg=__-Ba0p_waxz2m4qq8CgEAVuslOmM=&amp;tbnid=4TRnGKj8FYM6UM:&amp;tbnh=128&amp;tbnw=135&amp;prev=/images%3Fq%3Dsun%2Bclip%2Bart%26gbv%3D2%26hl%3Den%26safe%3Dactive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asszone.com/books/earth_science/terc/content/visualizations/es1201/es1201page01.cfm?chapter_no=visualization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5053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o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43200" y="21337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1337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26708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“Slide Show” then “View Show” to view the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notes and complete all task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doesn’t have a directions box like this, just get th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mechanical weathering like a ha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eathering wonderla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landscape that includes examples of weathering resulting from each of the 6 causes.  (3 mechanical, 3 chem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a sample on the next slide to help you begin.  You can steal my example for thermal expansion if you w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onderland can have multiple rock form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533520"/>
            <a:ext cx="128592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3200400" cy="212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791320" y="3352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s that have split apart due to thermal expa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391160" y="1905120"/>
            <a:ext cx="228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th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ces that are changing rocks and land over time, even day to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5486400" cy="365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371600"/>
            <a:ext cx="28958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weath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hen a force breaks a rock into smaller pieces by forcing them ap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ing large rocks into smaller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Mechanical We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growing through rocks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we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gets into rocks, expands the space it inhabits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st we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xpa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ocks in deserts get heated and expand, breaking them into pie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3657600" cy="232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238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uses/Effects of Mechanical We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3048120" cy="180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838080" y="342900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one Mountain, G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267600" y="1371600"/>
            <a:ext cx="262224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324480" y="5181480"/>
            <a:ext cx="2619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and Cany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03848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headline to bring up the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pictures to make them larger. Read the ca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the examples of mechanical weathering that could occur in Hous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weath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when something "eats away" at a rock rather than breaking it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dea**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HAVE A CHEMICAL CHANGE IN THE ROC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10024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id 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845820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629400" y="39625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6576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7080" y="2362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38862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76520" y="5943600"/>
            <a:ext cx="2286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29400" y="54864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441972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762120"/>
            <a:ext cx="441972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mouse to bring up the 5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efly explain each step of the Acid Rain proces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reates a chemical reaction in certain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sulting from pollution or intern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0" r="22585" b="0"/>
          <a:stretch/>
        </p:blipFill>
        <p:spPr>
          <a:xfrm>
            <a:off x="4952880" y="1600200"/>
            <a:ext cx="3670560" cy="4114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05520" y="5867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aming pollution on r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3276720" cy="218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86400" y="3809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H1, this New Zealand lake is pure hydrochloric ac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343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ked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505320" y="44956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7220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0:45:37Z</dcterms:created>
  <dc:creator>cfisd</dc:creator>
  <dc:description/>
  <dc:language>en-US</dc:language>
  <cp:lastModifiedBy>CFISD</cp:lastModifiedBy>
  <dcterms:modified xsi:type="dcterms:W3CDTF">2008-09-05T11:51:24Z</dcterms:modified>
  <cp:revision>23</cp:revision>
  <dc:subject/>
  <dc:title>External Processes</dc:title>
</cp:coreProperties>
</file>