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9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13.png" ContentType="image/png"/>
  <Override PartName="/ppt/media/image18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1.jpeg" ContentType="image/jpeg"/>
  <Override PartName="/ppt/media/image5.png" ContentType="image/png"/>
  <Override PartName="/ppt/media/image2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10.png" ContentType="image/png"/>
  <Override PartName="/ppt/media/image6.jpeg" ContentType="image/jpe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F3652-0BE7-4E4E-B9D5-66B86158A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0587C-DC00-4069-A2BE-66BD957C9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CA43E-13FD-4A81-A776-4A8C79907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C3227-4EE6-476C-A06C-A8E34596B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C74AF-83C4-4DFB-80E7-87BB1B20A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7411B-A7D6-4B83-9AC4-0F44C8FEF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0801F-72E7-4D11-A729-1EC518220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1EC0B-2AAE-4B86-AF8B-D4736E09F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F72A6-2E5D-4120-82D4-B48BD91C9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CD633-935D-4583-989E-48DA4208A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9C9FD-FD3D-40F3-A7DE-856EB1CE9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B1DA3-4AB9-4011-A8F6-0B9C11328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6B96E-4D0E-47CB-B75D-CEF979FAEB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om/imgres?imgurl=http://www.warnercamp.com/assets/images/Sun_Clipart.jpg&amp;imgrefurl=http://www.warnercamp.com/html/contact.html&amp;h=562&amp;w=594&amp;sz=35&amp;hl=en&amp;start=3&amp;usg=__-Ba0p_waxz2m4qq8CgEAVuslOmM=&amp;tbnid=4TRnGKj8FYM6UM:&amp;tbnh=128&amp;tbnw=135&amp;prev=/images%3Fq%3Dsun%2Bclip%2Bart%26gbv%3D2%26hl%3Den%26safe%3Dactive" TargetMode="External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classzone.com/books/earth_science/terc/content/visualizations/es1201/es1201page01.cfm?chapter_no=visualization" TargetMode="External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ernal Proces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14400" y="3505320"/>
            <a:ext cx="7696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rosio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athe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743200" y="2133720"/>
            <a:ext cx="914400" cy="1143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715000" y="2133720"/>
            <a:ext cx="914400" cy="1143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4267080"/>
            <a:ext cx="4343400" cy="2442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Click “Slide Show” then “View Show” to view the power poi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rd all notes and complete all tasks in your notebook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a page doesn’t have a directions box like this, just get the no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is mechanical weathering like a hamm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a weathering wonderland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ketch a landscape that includes examples of weathering resulting from each of the 6 causes.  (3 mechanical, 3 chemic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el each ca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e a sample on the next slide to help you begin.  You can steal my example for thermal expansion if you wa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r wonderland can have multiple rock formation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010280" y="533520"/>
            <a:ext cx="1285920" cy="12189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5715000" y="4114800"/>
            <a:ext cx="3200400" cy="21240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5791320" y="335268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cks that have split apart due to thermal expans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7391160" y="1905120"/>
            <a:ext cx="228600" cy="1295280"/>
          </a:xfrm>
          <a:prstGeom prst="line">
            <a:avLst/>
          </a:prstGeom>
          <a:ln w="38160">
            <a:solidFill>
              <a:srgbClr val="ffff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athe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ather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- forces that are changing rocks and land over time, even day to da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chanical Weathe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429000" y="1828800"/>
            <a:ext cx="5486400" cy="36543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80880" y="1371600"/>
            <a:ext cx="2895840" cy="41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chanical weather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when a force breaks a rock into smaller pieces by forcing them apar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eaking large rocks into smaller on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7696080" y="0"/>
            <a:ext cx="144792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3880" y="-36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uses of Mechanical Weather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s growing through rocks -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 wed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ce gets into rocks, expands the space it inhabits –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ost wed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rmal expans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rocks in deserts get heated and expand, breaking them into piec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5257800" y="3962520"/>
            <a:ext cx="3124080" cy="2743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5334120" y="1371600"/>
            <a:ext cx="3657600" cy="23223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523880" cy="14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Causes/Effects of Mechanical Weather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685800" y="1371600"/>
            <a:ext cx="3048120" cy="18082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 txBox="1"/>
          <p:nvPr/>
        </p:nvSpPr>
        <p:spPr>
          <a:xfrm>
            <a:off x="838080" y="3429000"/>
            <a:ext cx="27432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Stone Mountain, GA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6267600" y="1371600"/>
            <a:ext cx="2622240" cy="35812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 txBox="1"/>
          <p:nvPr/>
        </p:nvSpPr>
        <p:spPr>
          <a:xfrm>
            <a:off x="6324480" y="5181480"/>
            <a:ext cx="261936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Grand Canyon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85800" y="4038480"/>
            <a:ext cx="4343400" cy="2442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on the headline to bring up the websi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on the pictures to make them larger. Read the cap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rd the examples of mechanical weathering that could occur in Houst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emical Weathe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emical weather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when something "eats away" at a rock rather than breaking it apa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y Idea***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UST HAVE A CHEMICAL CHANGE IN THE ROCK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4648320" y="2100240"/>
            <a:ext cx="4038480" cy="35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uses of Chemical Weathe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153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Acid Ra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304920" y="2057400"/>
            <a:ext cx="8458200" cy="48006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 txBox="1"/>
          <p:nvPr/>
        </p:nvSpPr>
        <p:spPr>
          <a:xfrm>
            <a:off x="6629400" y="3962520"/>
            <a:ext cx="1713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1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1" name=""/>
          <p:cNvSpPr/>
          <p:nvPr/>
        </p:nvSpPr>
        <p:spPr>
          <a:xfrm>
            <a:off x="5105520" y="3657600"/>
            <a:ext cx="129528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267080" y="2362320"/>
            <a:ext cx="2286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2</a:t>
            </a:r>
            <a:endParaRPr b="0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2362320" y="3886200"/>
            <a:ext cx="2379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3</a:t>
            </a:r>
            <a:endParaRPr b="0" lang="en-US" sz="1800" spc="1" strike="noStrike">
              <a:ln w="0">
                <a:noFill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1676520" y="5943600"/>
            <a:ext cx="228600" cy="3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9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4</a:t>
            </a:r>
            <a:endParaRPr b="0" lang="en-US" sz="1800" spc="1" strike="noStrike">
              <a:ln w="0">
                <a:noFill/>
              </a:ln>
              <a:blipFill rotWithShape="0">
                <a:blip r:embed="rId10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6629400" y="5486400"/>
            <a:ext cx="2476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5</a:t>
            </a:r>
            <a:endParaRPr b="0" lang="en-US" sz="1800" spc="1" strike="noStrike">
              <a:ln w="0">
                <a:noFill/>
              </a:ln>
              <a:blipFill rotWithShape="0">
                <a:blip r:embed="rId1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6" name=""/>
          <p:cNvSpPr/>
          <p:nvPr/>
        </p:nvSpPr>
        <p:spPr>
          <a:xfrm>
            <a:off x="3809880" y="4419720"/>
            <a:ext cx="121932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343400" y="762120"/>
            <a:ext cx="4419720" cy="147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he mouse to bring up the 5 step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iefly explain each step of the Acid Rain process in your notebook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uses of Chemical Weathe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at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creates a chemical reaction in certain ro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mical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resulting from pollution or internal pro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rcRect l="0" t="0" r="22585" b="0"/>
          <a:stretch/>
        </p:blipFill>
        <p:spPr>
          <a:xfrm>
            <a:off x="4952880" y="1600200"/>
            <a:ext cx="3670560" cy="41148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5105520" y="586728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aming pollution on rock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ffects of Chemical Weathe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304920" y="114300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5486400" y="1523880"/>
            <a:ext cx="3276720" cy="21862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5486400" y="3809880"/>
            <a:ext cx="32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 PH1, this New Zealand lake is pure hydrochloric aci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38080" y="434340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ked tre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4"/>
          <a:stretch/>
        </p:blipFill>
        <p:spPr>
          <a:xfrm>
            <a:off x="3505320" y="4495680"/>
            <a:ext cx="2514600" cy="18860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6172200" y="58672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4T00:45:37Z</dcterms:created>
  <dc:creator>cfisd</dc:creator>
  <dc:description/>
  <dc:language>en-US</dc:language>
  <cp:lastModifiedBy>CFISD</cp:lastModifiedBy>
  <dcterms:modified xsi:type="dcterms:W3CDTF">2008-09-05T11:51:24Z</dcterms:modified>
  <cp:revision>23</cp:revision>
  <dc:subject/>
  <dc:title>External Processes</dc:title>
</cp:coreProperties>
</file>