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81F-FFCD-4CA4-B278-9D575ED2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322-78C1-40A9-8CA0-15EB873E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8B0-6A5C-4CAC-8D21-5ADC171D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1B1-C9C8-450B-A025-1462FEF2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749-B947-4E02-8DFB-CEFFF33D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2F2-EA5D-4C29-903C-2BFF460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D07-EC9F-4CA4-BE81-C0E14A94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B81-537E-4ACD-9933-B976F62B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11A-6538-44A9-8C9D-5169B9F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C21-28B2-4488-9BEE-191E335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BED-156D-4678-B3F4-617F338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B34-4863-42A3-BF9E-CE1C56D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F57F-41B5-40B3-9673-5E3B1628F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arnercamp.com/assets/images/Sun_Clipart.jpg&amp;imgrefurl=http://www.warnercamp.com/html/contact.html&amp;h=562&amp;w=594&amp;sz=35&amp;hl=en&amp;start=3&amp;usg=__-Ba0p_waxz2m4qq8CgEAVuslOmM=&amp;tbnid=4TRnGKj8FYM6UM:&amp;tbnh=128&amp;tbnw=135&amp;prev=/images%3Fq%3Dsun%2Bclip%2Bart%26gbv%3D2%26hl%3Den%26safe%3Dactiv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asszone.com/books/earth_science/terc/content/visualizations/es1201/es1201page01.cfm?chapter_no=visualizatio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053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432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2670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mechanical weathering like a ha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eathering wonderl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landscape that includes examples of weathering resulting from each of the 6 causes.  (3 mechanical, 3 chem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 sample on the next slide to help you begin.  You can steal my example for thermal expansion if you w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nderland can have multiple rock form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33520"/>
            <a:ext cx="128592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3200400" cy="21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9132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s that have split apart due to thermal expa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1905120"/>
            <a:ext cx="228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ces that are changing rocks and land over time, even day to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548640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371600"/>
            <a:ext cx="28958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en a force breaks a rock into smaller pieces by forcing them ap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large rocks into smaller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growing through rock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gets into rocks, expands the space it inhabit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s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xpa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ocks in deserts get heated and expand, breaking them into pie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3657600" cy="23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uses/Effect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048120" cy="18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838080" y="342900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one Mountain, G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67600" y="1371600"/>
            <a:ext cx="262224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324480" y="5181480"/>
            <a:ext cx="261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and Cany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0384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headline to bring up the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pictures to make them larger. Read the ca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the examples of mechanical weathering that could occur in Hous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hen something "eats away" at a rock rather than breaking it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**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HAVE A CHEMICAL CHANGE IN THE 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10024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id 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6576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7080" y="2362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38862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76520" y="5943600"/>
            <a:ext cx="2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4197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762120"/>
            <a:ext cx="441972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mouse to bring up the 5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efly explain each step of the Acid Rain proces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s a chemical reaction in certain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sulting from pollution or inter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22585" b="0"/>
          <a:stretch/>
        </p:blipFill>
        <p:spPr>
          <a:xfrm>
            <a:off x="4952880" y="1600200"/>
            <a:ext cx="3670560" cy="411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aming pollution on r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3276720" cy="218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86400" y="3809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H1, this New Zealand lake is pure hydrochlor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343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ed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220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0:45:37Z</dcterms:created>
  <dc:creator>cfisd</dc:creator>
  <dc:description/>
  <dc:language>en-US</dc:language>
  <cp:lastModifiedBy>CFISD</cp:lastModifiedBy>
  <dcterms:modified xsi:type="dcterms:W3CDTF">2008-09-05T11:51:24Z</dcterms:modified>
  <cp:revision>23</cp:revision>
  <dc:subject/>
  <dc:title>External Processes</dc:title>
</cp:coreProperties>
</file>