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C42-2F6A-4858-9A84-59223159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0DA-C2E9-4488-9CA7-E4E68425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1E8-02EF-457F-8A70-C64C079A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5BC-3553-46C3-ACD5-54DEC069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184-F386-4D0D-8767-6789542F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353-922C-4710-BF29-42B72B86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73A-72E2-443E-96AB-C3440ED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9DD-D7FD-46CC-9FE1-DB71ED1F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3D5-1205-413C-BD8A-3A49EEFF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32-9B13-4D02-9C0E-8DA5E85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9B8-AEF6-4F5B-8350-4468BC9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FB4-F276-4652-9D82-DFE24C21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5AF4-4D0F-4108-A49E-F6AE9783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 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wate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17T14:07:39Z</dcterms:modified>
  <cp:revision>32</cp:revision>
  <dc:subject/>
  <dc:title>Slide 1</dc:title>
</cp:coreProperties>
</file>