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2.png" ContentType="image/png"/>
  <Override PartName="/ppt/media/image25.jpeg" ContentType="image/jpeg"/>
  <Override PartName="/ppt/media/image5.wmf" ContentType="image/x-wmf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6EBE-CC90-4060-B161-3E7F66857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44EA-75CF-475B-84C6-3CA88D64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956-3DFA-4F26-879A-B6E27841D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979-9D82-476E-B08C-3D70A07F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17AB-AAF9-4E3E-839E-6C1538D6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CD6-E749-4D2A-A69F-42C6F7BC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8FC-0324-422F-8813-6A4A00A8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1E65-3CE6-48CF-9081-590AC023D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698-06F3-426F-BD28-6D371D39B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80F-7F42-418C-A288-4684562E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CA80-FF9E-4C10-B7F8-A1AF2FEE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52F-4F6B-4C69-A167-48BB62F8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C147-3E78-42E7-B2E4-9FCBF4A6B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Saudi_arabia_irrigati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pload.wikimedia.org/wikipedia/commons/1/17/PivotIrrigationOnCotton.jpg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upload.wikimedia.org/wikipedia/commons/6/6e/Irrigation_in_the_Heart_of_the_Sahara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Center-pivot_irrigation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wm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ds.yahoo.com/_ylt=A0geu.DBE5pHk70AJ9ZXNyoA;_ylu=X3oDMTBscWN2ZnBjBHNlYwNzYwRjb2xvA2FjMgR2dGlkAw--/SIG=1fc1q8ug2/EXP=1201366337/**http%3A//images.search.yahoo.com/images/view%3Fback=http%253A%252F%252Fsearch.yahoo.com%252Fsearch%253Fei%253DUTF-8%2526p%253Dpictures%252Bof%252Bdesalinization%252Bplants%2526y%253DSearch%26w=268%26h=190%26imgurl=www.aquapura.com%252Fimages%252FPackage_Plants.jpg%26size=12.8%26name=Package_Plants.jpg%26rcurl=http%253A%252F%252Fwww.aquapura.com%252Fplants.htm%26rurl=http%253A%252F%252Fwww.aquapura.com%252Fplants.htm%26p=desalinization%2Bplants%26type=jpeg%26no=3%26tt=21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t-travel.org/kibbutz/sites_list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1905120"/>
            <a:ext cx="792468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ere is the water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in Southwest Asia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22860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437920" y="5181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 flipH="1">
            <a:off x="1066320" y="266688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89640" y="209376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173560" y="1600200"/>
            <a:ext cx="3818160" cy="40384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er is so valuable that countries will fight for its control and us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518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controversy over Turkey building a series of dams on the Euphrates River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 the controver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p. 495.  Read the section titled “Dams and Irrigation System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the REASON FOR THE CONTROVERSY to your ch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16800" y="5943600"/>
            <a:ext cx="301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ban Dam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phrates River in Tur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8197920" y="1143000"/>
            <a:ext cx="1890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89017E-006 C -0.09219 0.00162 -0.18455 0.00324 -0.2349 0.05503 C -0.28507 0.10682 -0.26198 0.27352 -0.30157 0.31075 C -0.34098 0.34798 -0.37431 0.22728 -0.47119 0.27907 C -0.56823 0.33087 -0.81372 0.56416 -0.8823 0.6215 E">
                                      <p:cBhvr>
                                        <p:cTn id="5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m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27432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RIA and IRAQ think it will take away precious water supplies that THEY need for drinking, irrigation, and hydroelectric power p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rcRect l="15186" t="16128" r="40527" b="50540"/>
          <a:stretch/>
        </p:blipFill>
        <p:spPr>
          <a:xfrm>
            <a:off x="3048120" y="1108080"/>
            <a:ext cx="54864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an above ground system of watering crops that forms circles of arable la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Circles of green irrigated vegetation in Saudi Arabia, April 199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520" y="1981080"/>
            <a:ext cx="7734240" cy="4367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24880" y="6460200"/>
            <a:ext cx="78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rcles of green irrigated vegetation in Saudi Arabia, April 19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33720" y="5029200"/>
            <a:ext cx="685800" cy="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920" y="4800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able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514600" y="3200400"/>
            <a:ext cx="457200" cy="76320"/>
          </a:xfrm>
          <a:prstGeom prst="line">
            <a:avLst/>
          </a:prstGeom>
          <a:ln w="507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312408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ert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Image:PivotIrrigationOnCotton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371600"/>
            <a:ext cx="4572000" cy="5181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systems 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Image:Irrigation in the Heart of the Sahara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371600"/>
            <a:ext cx="44956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vot Irr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ivot Irrigation Explanation/Sk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to someone near you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Pivot Irr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n example of Pivot Irrigation on your concept map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The hub of a center-pivot irrigation system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990720"/>
            <a:ext cx="3962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re water treatment plants that remove salt from ocean wat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28600" y="3048120"/>
            <a:ext cx="3048120" cy="2743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9880" y="3505320"/>
            <a:ext cx="99072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6172200" y="3124080"/>
            <a:ext cx="2798640" cy="2590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8160" y="3429000"/>
            <a:ext cx="51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0000"/>
                </a:solidFill>
                <a:latin typeface="Arial"/>
              </a:rPr>
              <a:t>-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30640" y="365760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=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eriod To Do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Take water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28600" y="548640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in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410080"/>
            <a:ext cx="15238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comes out on this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1523880"/>
            <a:ext cx="243828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alination Plant in Tampa, F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robl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salination Pl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Water can be too salty for irrigating cr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Expensive to operate (costs a lot of 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Cannot provide enough fresh water for all the needs of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www.aquapura.com/images/Package_Plants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76920" y="2286000"/>
            <a:ext cx="35812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Pivot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 Desalination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 Drip Irr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Irrigation Hoses"/>
          <p:cNvPicPr/>
          <p:nvPr/>
        </p:nvPicPr>
        <p:blipFill>
          <a:blip r:embed="rId2"/>
          <a:stretch/>
        </p:blipFill>
        <p:spPr>
          <a:xfrm>
            <a:off x="380880" y="2057400"/>
            <a:ext cx="4724640" cy="4419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Drip Irrigation under olive tree"/>
          <p:cNvPicPr/>
          <p:nvPr/>
        </p:nvPicPr>
        <p:blipFill>
          <a:blip r:embed="rId3"/>
          <a:stretch/>
        </p:blipFill>
        <p:spPr>
          <a:xfrm>
            <a:off x="5334120" y="2057400"/>
            <a:ext cx="3504960" cy="4419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14000" y="6491160"/>
            <a:ext cx="48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marproperties.co.uk/irrigatio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s the use of small pipes to slowly drip water just above the grou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676520" y="4267080"/>
            <a:ext cx="761760" cy="685800"/>
          </a:xfrm>
          <a:prstGeom prst="line">
            <a:avLst/>
          </a:prstGeom>
          <a:ln w="50760">
            <a:solidFill>
              <a:srgbClr val="cc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971800"/>
            <a:ext cx="455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Keeps water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Evaporating in the arid 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Date Palms line our driveway"/>
          <p:cNvPicPr/>
          <p:nvPr/>
        </p:nvPicPr>
        <p:blipFill>
          <a:blip r:embed="rId2"/>
          <a:stretch/>
        </p:blipFill>
        <p:spPr>
          <a:xfrm>
            <a:off x="0" y="1981080"/>
            <a:ext cx="9144000" cy="490068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rip Irrig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llows for date palm trees to grow on a farm in the deserts of Southwest As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Keturah"/>
          <p:cNvPicPr/>
          <p:nvPr/>
        </p:nvPicPr>
        <p:blipFill>
          <a:blip r:embed="rId2"/>
          <a:stretch/>
        </p:blipFill>
        <p:spPr>
          <a:xfrm>
            <a:off x="0" y="2590920"/>
            <a:ext cx="9144000" cy="42336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14360" y="64911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ruf.rice.edu/~parish/geraldlink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Kibbutz in Israel is an agricultural community relying on irrigation to produce crops for the community and countr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87120" y="5638680"/>
            <a:ext cx="72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Notice the climate surrounding the irrigated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te your concept map. Add a picture for Drip Irrig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371600"/>
            <a:ext cx="1219320" cy="2362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te your concept ma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505320"/>
            <a:ext cx="2819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2590560" y="28191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236196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5720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4191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867280" y="281916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057400"/>
            <a:ext cx="2895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ada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4114800"/>
            <a:ext cx="21333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) D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iv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vi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for drink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oelectric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120" y="5562720"/>
            <a:ext cx="1143000" cy="990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>
            <a:off x="243792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5410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49528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5867280"/>
            <a:ext cx="129564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4280" y="5867280"/>
            <a:ext cx="12193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v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rig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29400" y="4572000"/>
            <a:ext cx="160020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l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t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2438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20" y="198108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adapted to the arid cl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iculture – Grow crops and raise animals that require less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ycle – Treat waste water for use in agri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 flipV="1">
            <a:off x="3429000" y="3733560"/>
            <a:ext cx="228600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Google Earth tour that locates examples of the ways people in SW Asia have modified the environment to provide wa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clude 5 cut-away bo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ibbut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alination Plants - 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 – This clip is about a small community in California that built a desalination plant to address it’s water problem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– How does a desalination plant work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t-away box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ach cut-away box must point to the location of a corresponding example.  You may have to search.  You this powerpoint or reputable online sources to locate examp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planation: Explain how each example provides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a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it on the wiki or in your student fol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aving on the wiki, I’d save it in your student folder 1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gle Earth Tou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sources for cut-away bo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rip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ivot Irr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amming 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Desalination Pl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Kibbutz -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net-travel.org/kibbutz/sites_list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we learn about Southwest Asia and how they use their water, students will complete a concept web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39625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590560" y="32763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5943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can we conclude from this m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44956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ew major fresh water sources, like the TIGRIS and EUPHRATES R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thwest Asia must find other ways to collect water for daily uses and surviv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map of modern Iraq"/>
          <p:cNvPicPr/>
          <p:nvPr/>
        </p:nvPicPr>
        <p:blipFill>
          <a:blip r:embed="rId2"/>
          <a:stretch/>
        </p:blipFill>
        <p:spPr>
          <a:xfrm>
            <a:off x="5029200" y="1143000"/>
            <a:ext cx="4114800" cy="5029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flipV="1">
            <a:off x="6172200" y="4419720"/>
            <a:ext cx="990720" cy="83808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7391520" y="3352680"/>
            <a:ext cx="1295280" cy="533520"/>
          </a:xfrm>
          <a:prstGeom prst="line">
            <a:avLst/>
          </a:prstGeom>
          <a:ln w="82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Dry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add to our concept map. Include both written and visual inform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733920"/>
            <a:ext cx="28195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 in Southwest 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2590560" y="304776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2286000"/>
            <a:ext cx="23623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ere a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of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4800600"/>
            <a:ext cx="289584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have people 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47920" y="26668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4800" y="2362320"/>
            <a:ext cx="129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r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-ar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3716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 major freshwat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514240" y="1752480"/>
            <a:ext cx="15228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have people in Southwest Asia modified the environment to provide valuable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51051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 Damming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2971800"/>
            <a:ext cx="26290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7467480" y="6019920"/>
            <a:ext cx="1467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 of Day</a:t>
            </a:r>
            <a:endParaRPr b="0" lang="en-US" sz="1800" spc="1" strike="noStrike">
              <a:ln w="0">
                <a:noFill/>
              </a:ln>
              <a:solidFill>
                <a:srgbClr val="3399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85800" y="2286000"/>
            <a:ext cx="7818480" cy="4343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114800" y="5943600"/>
            <a:ext cx="1114560" cy="1792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emren Dam on the Tigris River provides water for drinking, irrigation and hydroelectricit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3429000"/>
            <a:ext cx="1219320" cy="60948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277280" y="2935440"/>
            <a:ext cx="646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e arid climate and lack of veg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22:14:05Z</dcterms:created>
  <dc:creator>CFISD</dc:creator>
  <dc:description/>
  <dc:language>en-US</dc:language>
  <cp:lastModifiedBy>CFISD</cp:lastModifiedBy>
  <dcterms:modified xsi:type="dcterms:W3CDTF">2009-02-17T14:07:39Z</dcterms:modified>
  <cp:revision>32</cp:revision>
  <dc:subject/>
  <dc:title>Slide 1</dc:title>
</cp:coreProperties>
</file>