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7F1-E5B4-47F1-BA48-33A3EBBD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E2A-47AD-4DA6-BFDE-1F6C7D11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F20-91EB-48FA-BB1C-7242879A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923-F065-4D39-939C-ACC9D4F1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A68-C5D1-4653-9A50-515D981D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5A1-26E3-4E93-86B3-87B8C047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EF3-F14A-486B-8523-41AACADA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4D3-FC55-49BA-A6E3-B7DE59AE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874-C256-4E3A-AF05-4287DE9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8F1-B980-4250-BA24-4B7A4FAD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473-3818-439E-A331-1086A7FB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D65-EB95-48B7-9AFA-81A8A6DE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C65F-6FC7-43B3-8B8D-81423EF79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audi_arabia_irrigation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7/PivotIrrigationOnCotton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upload.wikimedia.org/wikipedia/commons/6/6e/Irrigation_in_the_Heart_of_the_Sahar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Center-pivot_irrigation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geu.DBE5pHk70AJ9ZXNyoA;_ylu=X3oDMTBscWN2ZnBjBHNlYwNzYwRjb2xvA2FjMgR2dGlkAw--/SIG=1fc1q8ug2/EXP=1201366337/**http%3A//images.search.yahoo.com/images/view%3Fback=http%253A%252F%252Fsearch.yahoo.com%252Fsearch%253Fei%253DUTF-8%2526p%253Dpictures%252Bof%252Bdesalinization%252Bplants%2526y%253DSearch%26w=268%26h=190%26imgurl=www.aquapura.com%252Fimages%252FPackage_Plants.jpg%26size=12.8%26name=Package_Plants.jpg%26rcurl=http%253A%252F%252Fwww.aquapura.com%252Fplants.htm%26rurl=http%253A%252F%252Fwww.aquapura.com%252Fplants.htm%26p=desalinization%2Bplants%26type=jpeg%26no=3%26tt=21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-travel.org/kibbutz/sites_list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905120"/>
            <a:ext cx="7924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is the water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Southwest As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2860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43792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106632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89640" y="20937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73560" y="1600200"/>
            <a:ext cx="3818160" cy="4038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is so valuable that countries will fight for its control and u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roversy over Turkey building a series of dams on the Euphrates Riv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 the controver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. 495.  Read the section titled “Dams and Irrigation System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REASON FOR THE CONTROVERSY to your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6800" y="594360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an Dam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phrates River 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197920" y="1143000"/>
            <a:ext cx="1890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89017E-006 C -0.09219 0.00162 -0.18455 0.00324 -0.2349 0.05503 C -0.28507 0.10682 -0.26198 0.27352 -0.30157 0.31075 C -0.34098 0.34798 -0.37431 0.22728 -0.47119 0.27907 C -0.56823 0.33087 -0.81372 0.56416 -0.8823 0.6215 E">
                                      <p:cBhvr>
                                        <p:cTn id="5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43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RIA and IRAQ think it will take away precious water supplies that THEY need for drinking, irrigation, and hydroelectric power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5186" t="16128" r="40527" b="50540"/>
          <a:stretch/>
        </p:blipFill>
        <p:spPr>
          <a:xfrm>
            <a:off x="3048120" y="1108080"/>
            <a:ext cx="54864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n above ground system of watering crops that forms circles of arable 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Circles of green irrigated vegetation in Saudi Arabia, April 19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981080"/>
            <a:ext cx="7734240" cy="436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4880" y="6460200"/>
            <a:ext cx="78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 of green irrigated vegetation in Saudi Arabia, April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5029200"/>
            <a:ext cx="68580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920" y="4800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le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14600" y="3200400"/>
            <a:ext cx="457200" cy="763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1240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rt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Image:PivotIrrigationOnCott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37160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ystems at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Image:Irrigation in the Heart of the Sahar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37160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 Irrigation Explanation/Sk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someone near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ivot Irr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n example of Pivot Irrigation on your concept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The hub of a center-pivot irrigation system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990720"/>
            <a:ext cx="3962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water treatment plants that remove salt from ocean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172200" y="3124080"/>
            <a:ext cx="2798640" cy="2590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8160" y="34290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30640" y="36576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 To D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ake wate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548640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in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541008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out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1523880"/>
            <a:ext cx="243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lination Plant in Tampa, 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ater can be too salty for irrigating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xpensive to operate (costs a lot of 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provide enough fresh water for all the needs of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www.aquapura.com/images/Package_Plant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86000"/>
            <a:ext cx="35812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Drip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Irrigation Hoses"/>
          <p:cNvPicPr/>
          <p:nvPr/>
        </p:nvPicPr>
        <p:blipFill>
          <a:blip r:embed="rId2"/>
          <a:stretch/>
        </p:blipFill>
        <p:spPr>
          <a:xfrm>
            <a:off x="380880" y="2057400"/>
            <a:ext cx="4724640" cy="4419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Drip Irrigation under olive tree"/>
          <p:cNvPicPr/>
          <p:nvPr/>
        </p:nvPicPr>
        <p:blipFill>
          <a:blip r:embed="rId3"/>
          <a:stretch/>
        </p:blipFill>
        <p:spPr>
          <a:xfrm>
            <a:off x="5334120" y="2057400"/>
            <a:ext cx="3504960" cy="4419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14000" y="64911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marproperties.co.uk/irrig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use of small pipes to slowly drip water just above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76520" y="4267080"/>
            <a:ext cx="761760" cy="6858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971800"/>
            <a:ext cx="455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eeps water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vaporating in the arid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Date Palms line our driveway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ows for date palm trees to grow on a farm in the deserts of Southwe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Keturah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233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14360" y="64911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f.rice.edu/~parish/geraldlink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bbutz in Israel is an agricultural community relying on irrigation to produce crops for the community and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87120" y="563868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ce the climate surrounding the irrigat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your concept map. Add a picture for Drip Irr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1371600"/>
            <a:ext cx="121932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your concept m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867280" y="281916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0574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ada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adapted to the arid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– Grow crops and raise animals that require less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 – Treat waste water for use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3429000" y="3733560"/>
            <a:ext cx="2286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that locates examples of the ways people in SW Asia have modified the environment to provid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de 5 cut-away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ibbu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-away bo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ch cut-away box must point to the location of a corresponding example.  You may have to search.  You this powerpoint or reputable online sources to locate exa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nation: Explain how each example provides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it on the wiki or in your studen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aving on the wiki, I’d save it in your student folder 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ources for cut-away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Kibbutz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t-travel.org/kibbutz/sites_lis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Southwest Asia and how they use their water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590560" y="32763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5146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conclude from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ew major fresh water sources, like the TIGRIS and EUPHRATES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west Asia must find other ways to collect water for daily uses and surv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ap of modern Iraq"/>
          <p:cNvPicPr/>
          <p:nvPr/>
        </p:nvPicPr>
        <p:blipFill>
          <a:blip r:embed="rId2"/>
          <a:stretch/>
        </p:blipFill>
        <p:spPr>
          <a:xfrm>
            <a:off x="5029200" y="11430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6172200" y="4419720"/>
            <a:ext cx="990720" cy="83808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391520" y="3352680"/>
            <a:ext cx="1295280" cy="53352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Dr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22860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447920" y="2666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800" y="236232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major freshwat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514240" y="175248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1848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114800" y="5943600"/>
            <a:ext cx="1114560" cy="179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emren Dam on the Tigris River provides water for drinking, irrigation and hydroelectri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429000"/>
            <a:ext cx="12193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7280" y="293544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arid climate and lack of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2:14:05Z</dcterms:created>
  <dc:creator>CFISD</dc:creator>
  <dc:description/>
  <dc:language>en-US</dc:language>
  <cp:lastModifiedBy>CFISD</cp:lastModifiedBy>
  <dcterms:modified xsi:type="dcterms:W3CDTF">2009-02-17T14:07:39Z</dcterms:modified>
  <cp:revision>32</cp:revision>
  <dc:subject/>
  <dc:title>Slide 1</dc:title>
</cp:coreProperties>
</file>