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1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347-4760-48BE-B9B5-DA06B31E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D47-9B5B-4A78-ADF2-2A4E9ED3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3FB-2ADE-4A89-A5C9-D7BAA986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023-B875-4EC7-B03B-08F450CB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962-E511-4D96-B102-B981B27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A31-BE9C-4C6E-8A12-704A851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5E6-C7D7-4397-8BF8-23AF77E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92D-D113-4159-8D64-20D6F23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750-B5B0-4BD9-A96E-881D1D97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E45-A61A-43FE-870D-957A7C55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628-4702-40E6-A19D-AF70E10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3E4-AD1B-4308-ADB8-E6190042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B40A-0A77-4C61-AE2D-7AD33A38D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 (look in Isr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 (look in Saudi Ara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 (type Ataturk Dam in the search window of Google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 (see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desalination2.jpg"/>
          <p:cNvPicPr/>
          <p:nvPr/>
        </p:nvPicPr>
        <p:blipFill>
          <a:blip r:embed="rId2"/>
          <a:stretch/>
        </p:blipFill>
        <p:spPr>
          <a:xfrm>
            <a:off x="0" y="347760"/>
            <a:ext cx="9144000" cy="65102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alination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160" y="762120"/>
            <a:ext cx="1447560" cy="32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24T20:49:15Z</dcterms:modified>
  <cp:revision>38</cp:revision>
  <dc:subject/>
  <dc:title>Slide 1</dc:title>
</cp:coreProperties>
</file>