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5.wmf" ContentType="image/x-wmf"/>
  <Override PartName="/ppt/media/image13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056F-1A25-47F0-80A3-D77E2A35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EB3E-F63B-4CE6-A486-85E0852C3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58F9-DB2E-4BAF-A7EA-B346A32C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9E3F-DAF0-47FD-927C-7FEAFFF2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CAB4-D15E-4DF3-A016-7695060C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E1D8-24B9-4EC7-955C-A59A3EF1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874C-AAF9-4C70-AA6F-5EB230BA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60B0-0070-477F-9529-95FDCCFD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A8DD-E7E0-4343-8966-DC4FEC46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38A6-9759-4002-98A3-13E1F79E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58C6-C36D-457B-B427-B9DBDE1C8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7499-0AE8-4283-887E-F73E6D67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457D-3B05-4555-ACC4-0ACB04450A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Saudi_arabia_irrigation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1/17/PivotIrrigationOnCotton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upload.wikimedia.org/wikipedia/commons/6/6e/Irrigation_in_the_Heart_of_the_Sahara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Center-pivot_irrigation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ds.yahoo.com/_ylt=A0geu.DBE5pHk70AJ9ZXNyoA;_ylu=X3oDMTBscWN2ZnBjBHNlYwNzYwRjb2xvA2FjMgR2dGlkAw--/SIG=1fc1q8ug2/EXP=1201366337/**http%3A//images.search.yahoo.com/images/view%3Fback=http%253A%252F%252Fsearch.yahoo.com%252Fsearch%253Fei%253DUTF-8%2526p%253Dpictures%252Bof%252Bdesalinization%252Bplants%2526y%253DSearch%26w=268%26h=190%26imgurl=www.aquapura.com%252Fimages%252FPackage_Plants.jpg%26size=12.8%26name=Package_Plants.jpg%26rcurl=http%253A%252F%252Fwww.aquapura.com%252Fplants.htm%26rurl=http%253A%252F%252Fwww.aquapura.com%252Fplants.htm%26p=desalinization%2Bplants%26type=jpeg%26no=3%26tt=21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t-travel.org/kibbutz/sites_list.ht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905120"/>
            <a:ext cx="792468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ere is the water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 Southwest Asia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m Controver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743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RIA and IRAQ think it will take away precious water supplies that THEY need for drinking, irrigation, and hydroelectric power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15186" t="16128" r="40527" b="50540"/>
          <a:stretch/>
        </p:blipFill>
        <p:spPr>
          <a:xfrm>
            <a:off x="3048120" y="1108080"/>
            <a:ext cx="548640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Pivot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vot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an above ground system of watering crops that forms circles of arable la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Circles of green irrigated vegetation in Saudi Arabia, April 199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981080"/>
            <a:ext cx="7734240" cy="4367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24880" y="6460200"/>
            <a:ext cx="787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rcles of green irrigated vegetation in Saudi Arabia, April 19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5029200"/>
            <a:ext cx="685800" cy="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920" y="4800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able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514600" y="3200400"/>
            <a:ext cx="457200" cy="7632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312408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ert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Image:PivotIrrigationOnCott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371600"/>
            <a:ext cx="4572000" cy="51814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vot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ystems at wor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Image:Irrigation in the Heart of the Sahar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371600"/>
            <a:ext cx="4495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vot Irri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vot Irrigation Explanation/Sk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someone near yo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Pivot Irrig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n example of Pivot Irrigation on your concept map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The hub of a center-pivot irrigation system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990720"/>
            <a:ext cx="3962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Pivot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Desalination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alination Pla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e water treatment plants that remove salt from ocean wa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3048120" cy="2743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809880" y="3505320"/>
            <a:ext cx="990720" cy="1447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172200" y="3124080"/>
            <a:ext cx="2798640" cy="2590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78160" y="342900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Arial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30640" y="36576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lination Plants -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 – This clip is about a small community in California that built a desalination plant to address it’s water probl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– How does a desalination plant wor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8600" y="5486400"/>
            <a:ext cx="1523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comes in on this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62920" y="5410080"/>
            <a:ext cx="1523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comes out on this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1523880"/>
            <a:ext cx="2438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lination Plant in Tampa, F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oble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alination Pl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ater can be too salty for irrigating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xpensive to operate (costs a lot of mon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nnot provide enough fresh water for all the needs of citiz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www.aquapura.com/images/Package_Plant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2286000"/>
            <a:ext cx="35812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we learn about Southwest Asia and how they use their water, students will complete a concept we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 flipV="1">
            <a:off x="2590560" y="32763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2514600"/>
            <a:ext cx="23623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Pivot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Desalination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Drip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Irrigation Hoses"/>
          <p:cNvPicPr/>
          <p:nvPr/>
        </p:nvPicPr>
        <p:blipFill>
          <a:blip r:embed="rId2"/>
          <a:stretch/>
        </p:blipFill>
        <p:spPr>
          <a:xfrm>
            <a:off x="380880" y="2057400"/>
            <a:ext cx="4724640" cy="4419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Drip Irrigation under olive tree"/>
          <p:cNvPicPr/>
          <p:nvPr/>
        </p:nvPicPr>
        <p:blipFill>
          <a:blip r:embed="rId3"/>
          <a:stretch/>
        </p:blipFill>
        <p:spPr>
          <a:xfrm>
            <a:off x="5334120" y="2057400"/>
            <a:ext cx="3504960" cy="44197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214000" y="6491160"/>
            <a:ext cx="48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omarproperties.co.uk/irrig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ip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the use of small pipes to slowly drip water just above the gr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676520" y="4267080"/>
            <a:ext cx="761760" cy="68580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971800"/>
            <a:ext cx="455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eeps water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vaporating in the arid 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Date Palms line our driveway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49006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ip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llows for date palm trees to grow on a farm in the deserts of Southwest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Keturah"/>
          <p:cNvPicPr/>
          <p:nvPr/>
        </p:nvPicPr>
        <p:blipFill>
          <a:blip r:embed="rId2"/>
          <a:stretch/>
        </p:blipFill>
        <p:spPr>
          <a:xfrm>
            <a:off x="0" y="2590920"/>
            <a:ext cx="9144000" cy="4233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14360" y="6491160"/>
            <a:ext cx="49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ruf.rice.edu/~parish/geraldlink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ibbutz in Israel is an agricultural community relying on irrigation to produce crops for the community and count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87120" y="5638680"/>
            <a:ext cx="72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otice the climate surrounding the irrigated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your concept map. Add a picture for Drip Irrig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350532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590560" y="28191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2057400"/>
            <a:ext cx="23619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45720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4191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4114800"/>
            <a:ext cx="21333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) D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for drink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electric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flipH="1">
            <a:off x="243792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8148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19920" y="4952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5867280"/>
            <a:ext cx="129564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lin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5867280"/>
            <a:ext cx="12193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v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4572000"/>
            <a:ext cx="1600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114264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20" y="198108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5880" y="1371600"/>
            <a:ext cx="1219320" cy="2362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your concept ma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8120" y="350532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2590560" y="28191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2057400"/>
            <a:ext cx="23619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45720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419720" y="4191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867280" y="2819160"/>
            <a:ext cx="5335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2057400"/>
            <a:ext cx="2895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ada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4114800"/>
            <a:ext cx="21333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) D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for drink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electric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>
            <a:off x="243792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4952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5867280"/>
            <a:ext cx="129564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5867280"/>
            <a:ext cx="12193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v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572000"/>
            <a:ext cx="1600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l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14264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20" y="198108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adapted to the arid clim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e – Grow crops and raise animals that require less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ycle – Treat waste water for use in agri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38480" cy="32004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 flipV="1">
            <a:off x="3429000" y="3733560"/>
            <a:ext cx="228600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T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Google Earth tour that locates examples of the ways people in SW Asia have modified the environment to provide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lude 5 cut-away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rip Irr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ivot Irr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Damming 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esalination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Kibbu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T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ut-away box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ach cut-away box must point to the location of a corresponding example.  You may have to search.  You this powerpoint or reputable online sources to locate examp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xplanation: Explain how each example provides wa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a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it on the wiki or in your student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aving on the wiki, I’d save it in your student folder 1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T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ources for cut-away 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rip Irrigation (look in Israe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ivot Irrigation (look in Saudi Arab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amming Rivers (type Ataturk Dam in the search window of Google Ear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esalination Plants (see next sli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Kibbutz -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et-travel.org/kibbutz/sites_list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10480" cy="5943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we conclude from this 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desalination2.jpg"/>
          <p:cNvPicPr/>
          <p:nvPr/>
        </p:nvPicPr>
        <p:blipFill>
          <a:blip r:embed="rId2"/>
          <a:stretch/>
        </p:blipFill>
        <p:spPr>
          <a:xfrm>
            <a:off x="0" y="347760"/>
            <a:ext cx="9144000" cy="65102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alination Pl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819160" y="762120"/>
            <a:ext cx="1447560" cy="32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4956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few major fresh water sources, like the TIGRIS and EUPHRATES Riv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west Asia must find other ways to collect water for daily uses and survi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map of modern Iraq"/>
          <p:cNvPicPr/>
          <p:nvPr/>
        </p:nvPicPr>
        <p:blipFill>
          <a:blip r:embed="rId2"/>
          <a:stretch/>
        </p:blipFill>
        <p:spPr>
          <a:xfrm>
            <a:off x="5029200" y="1143000"/>
            <a:ext cx="4114800" cy="5029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6172200" y="4419720"/>
            <a:ext cx="990720" cy="838080"/>
          </a:xfrm>
          <a:prstGeom prst="line">
            <a:avLst/>
          </a:prstGeom>
          <a:ln w="82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7391520" y="3352680"/>
            <a:ext cx="1295280" cy="533520"/>
          </a:xfrm>
          <a:prstGeom prst="line">
            <a:avLst/>
          </a:prstGeom>
          <a:ln w="82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Dry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add to our concept map. Include both written and visual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37339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2590560" y="30477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86000"/>
            <a:ext cx="23623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48006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9568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920" y="26668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800" y="236232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1371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major freshwat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514240" y="1752480"/>
            <a:ext cx="15228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818480" cy="4343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114800" y="5943600"/>
            <a:ext cx="1114560" cy="1792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emren Dam on the Tigris River provides water for drinking, irrigation and hydroelectrici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3429000"/>
            <a:ext cx="121932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77280" y="2935440"/>
            <a:ext cx="64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e arid climate and lack of veg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add to our concept map. Include both written and visual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37339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590560" y="30477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2286000"/>
            <a:ext cx="23619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48006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2437920" y="5181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4114800"/>
            <a:ext cx="21333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) D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for drink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electric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 flipH="1">
            <a:off x="1066320" y="26668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89640" y="209376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173560" y="1600200"/>
            <a:ext cx="3818160" cy="4038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 is so valuable that countries will fight for its control and us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5181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controversy over Turkey building a series of dams on the Euphrates Riv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lain the controver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p. 495.  Read the section titled “Dams and Irrigation System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REASON FOR THE CONTROVERSY to your cha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16800" y="5943600"/>
            <a:ext cx="301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ban Dam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phrates River in Tur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197920" y="1143000"/>
            <a:ext cx="18907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89017E-006 C -0.09219 0.00162 -0.18455 0.00324 -0.2349 0.05503 C -0.28507 0.10682 -0.26198 0.27352 -0.30157 0.31075 C -0.34098 0.34798 -0.37431 0.22728 -0.47119 0.27907 C -0.56823 0.33087 -0.81372 0.56416 -0.8823 0.6215 E">
                                      <p:cBhvr>
                                        <p:cTn id="55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22:14:05Z</dcterms:created>
  <dc:creator>CFISD</dc:creator>
  <dc:description/>
  <dc:language>en-US</dc:language>
  <cp:lastModifiedBy>CFISD</cp:lastModifiedBy>
  <dcterms:modified xsi:type="dcterms:W3CDTF">2009-02-24T20:49:15Z</dcterms:modified>
  <cp:revision>38</cp:revision>
  <dc:subject/>
  <dc:title>Slide 1</dc:title>
</cp:coreProperties>
</file>