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1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6CA-DE18-41F5-B3B7-05D9591C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96A-6288-4179-94A4-488C061F5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5794-1630-4A1B-BA79-42737E6F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8771-1450-4104-99B5-31E10BAB6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311-E04A-49D1-8CFE-7E3BCE0F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F0D-A992-4BEE-9F07-34836F2E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ACD7-267C-456E-B2C0-06784679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4AC-5CC9-454F-BB58-5A4FDF35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07D-546B-40CC-AB42-A990E9E6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9A0-8365-42D1-B5C4-76A6F71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4C49-21CA-4039-9AFD-1D706DCD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96B9-B917-4267-B393-FF1A25BB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2E6C-1ED0-49C1-8C35-C84017D70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 (look in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 (look in Saudi Ara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 (type Ataturk Dam in the search window of 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desalination2.jpg"/>
          <p:cNvPicPr/>
          <p:nvPr/>
        </p:nvPicPr>
        <p:blipFill>
          <a:blip r:embed="rId2"/>
          <a:stretch/>
        </p:blipFill>
        <p:spPr>
          <a:xfrm>
            <a:off x="0" y="34776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alination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762120"/>
            <a:ext cx="1447560" cy="32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24T20:49:15Z</dcterms:modified>
  <cp:revision>38</cp:revision>
  <dc:subject/>
  <dc:title>Slide 1</dc:title>
</cp:coreProperties>
</file>