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1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787-DD91-4A2C-88E9-F5654138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48D-5D7C-49B7-9555-F54A418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89E-BC8E-4D21-A02A-0E0B4DF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17E-3D1E-4FCB-99E0-4B5D0EA6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51C-AD81-49F4-B927-0262F6C6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C47-B50E-47C3-85BF-021EBF7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582-80A8-4790-B97B-4CBF8FAF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252-0E1D-4C60-966E-A37C57F9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DB67-9AF9-45B4-B161-56976217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DBB7-7890-4B8B-A34A-7778679F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FC8-592A-4A33-B09A-64D323E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C4A-D3F5-488A-8BD8-D0BA8AAC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27F0-1D85-44A1-B39B-DC183021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 (look in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 (look in Saudi Ara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 (type Ataturk Dam in the search window of 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desalination2.jpg"/>
          <p:cNvPicPr/>
          <p:nvPr/>
        </p:nvPicPr>
        <p:blipFill>
          <a:blip r:embed="rId2"/>
          <a:stretch/>
        </p:blipFill>
        <p:spPr>
          <a:xfrm>
            <a:off x="0" y="34776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alination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762120"/>
            <a:ext cx="1447560" cy="32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24T20:49:15Z</dcterms:modified>
  <cp:revision>38</cp:revision>
  <dc:subject/>
  <dc:title>Slide 1</dc:title>
</cp:coreProperties>
</file>