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1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119-59FE-4D26-AFF4-B9609490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46C-2CB3-43D2-B7AC-53E6FD10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ADC-5128-478F-A5D8-A7E4FBE6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C6F-5A79-4F98-BFB6-6624533B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CDB-F0E4-4254-A887-5E8AC2A3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240-C507-4BF1-82FC-088A9BA8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602-5335-4A7F-B41E-C700F01A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C58-60A0-43C9-B45F-DFB47844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A5E-A69B-4CD0-805D-CD0322B5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2B8-7BC1-4D90-A027-CF73CCD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FF1-13A0-4CCB-AEC5-83472BCD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1AC-CEC0-4349-AF32-3CFC713A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0447-274D-4640-AB2B-A22E79FB3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 (look in Isr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 (look in Saudi Ara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 (type Ataturk Dam in the search window of Google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 (see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desalination2.jpg"/>
          <p:cNvPicPr/>
          <p:nvPr/>
        </p:nvPicPr>
        <p:blipFill>
          <a:blip r:embed="rId2"/>
          <a:stretch/>
        </p:blipFill>
        <p:spPr>
          <a:xfrm>
            <a:off x="0" y="347760"/>
            <a:ext cx="9144000" cy="65102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alination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160" y="762120"/>
            <a:ext cx="1447560" cy="32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24T20:49:15Z</dcterms:modified>
  <cp:revision>38</cp:revision>
  <dc:subject/>
  <dc:title>Slide 1</dc:title>
</cp:coreProperties>
</file>