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86FDC-C06F-41E5-96CF-173ACD220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32C7A-2EF8-43F7-BE95-4BFE461DA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449B2-E7F5-43AE-9EFD-885F07FBB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2B31E-014B-4AEF-822A-CE4C6D26E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0597B-46D2-4D84-9C02-AE963721A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05499-299D-4EDA-A889-3FC878812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237D3-55B2-438D-856F-D64311872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2DB39-01C1-44E2-A68A-A28A47406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1B6F1-415A-4F0A-97F9-071101D98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D088C-264E-404A-A043-44159F765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5AB24-4A3A-4761-BFE3-6FC86940F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3FDC3-94EE-4247-B8A0-BB5BCB8DD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01BA7-31EA-449D-A2CA-A3A99E21A1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sunami Plans – Par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sunami Recovery Pla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rections: Create a recovery plan that describes your response to a tsunami in Japa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: You work for the International Red Cross.  You have been hired as a consultant for a mayor of a urban coastal area on the island of Hokkaido and a rural coastal area on the island of Hokkai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re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ssignment is divided into 3 se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section needs the following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swer to the analysis ques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utions/strategies as required on the analysis p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least 2 pic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 1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aster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 2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aster Relie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 3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Japan - Consul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3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quirements - Analys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6868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 Disaster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xplain what caused the tsunam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nation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xplain the devastation created by the tsunam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de at least 3 bullets or sentences describing the devas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de at least 2 pictures to support your Disaster Analy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 Disaster Reli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ow do tsunamis affect peopl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ution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ow would you address their nee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de at least 4 strategies or solutions to address the problems created by the tsunam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de at least 2 pictures to support your Disaster Relief Pro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1981080" y="2286000"/>
            <a:ext cx="4610160" cy="2533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DONE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228240" y="151920"/>
            <a:ext cx="8915400" cy="63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 3. Japan – Consul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Urban May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lude 3 strategies to address the threat of tsunam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strategy needs a pi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strategy needs an explanation of why it is necessary and how it wor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Rural May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lude two affordable strategy to address the threat of tsunam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strategy needs a pi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strategy needs an explanation of why it is necessary and how it wor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7T12:09:49Z</dcterms:created>
  <dc:creator>CFISD</dc:creator>
  <dc:description/>
  <dc:language>en-US</dc:language>
  <cp:lastModifiedBy>CFISD</cp:lastModifiedBy>
  <dcterms:modified xsi:type="dcterms:W3CDTF">2009-04-07T13:09:11Z</dcterms:modified>
  <cp:revision>3</cp:revision>
  <dc:subject/>
  <dc:title>Tsunami Plans – Part 3</dc:title>
</cp:coreProperties>
</file>