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C51-D815-447F-9330-27E3983E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6840-9818-46CE-8C34-BA1AB3C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17E-F46E-4D2F-BDAA-E0B2E85B9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4E31-C182-469F-9604-FFF371AE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8BD-6990-4269-AAF6-57A236F4A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9265-4CB1-4659-A98B-88C7A635E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7465-660B-43A8-8F5C-9B3EF5BA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3B02-1336-4F91-8739-56FED474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2373-2138-4105-9C5E-8329E3D5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0B9C-EDE5-4E20-B13E-C5AA8F55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4BDF-930C-4AB5-8035-F8556102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0DE-DED7-4BFB-A69C-7706483C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F5CC-C1B2-49B3-93DC-95175B5F6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Plans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Ja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have been hired as a consultant for a mayor of a urban coastal area on the island of Hokkaido and a rural coastal area on the island of Hokka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Japan -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981080" y="2286000"/>
            <a:ext cx="4610160" cy="253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NE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28240" y="151920"/>
            <a:ext cx="8915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3. Japan – Consul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Urban May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3 strategies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ural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two affordable strategy to address the threat of tsuna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 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trategy needs an explanation of why it is necessary and how it wo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12:09:49Z</dcterms:created>
  <dc:creator>CFISD</dc:creator>
  <dc:description/>
  <dc:language>en-US</dc:language>
  <cp:lastModifiedBy>CFISD</cp:lastModifiedBy>
  <dcterms:modified xsi:type="dcterms:W3CDTF">2009-04-07T13:09:11Z</dcterms:modified>
  <cp:revision>3</cp:revision>
  <dc:subject/>
  <dc:title>Tsunami Plans – Part 3</dc:title>
</cp:coreProperties>
</file>