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4B9E-5776-47F7-8CD1-C3FD4F39D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40EA-6858-42CA-B551-871DDA4B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2CDA-96CA-4043-8C3F-B97A1F8A3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3988-5F58-44AD-9859-1E539079F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1313-5375-43B3-91DB-D455C168E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C573-A2D4-4D7B-95C1-B99082B62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CF00-A362-46A6-91AA-A28BEEC59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E398-AED3-4FBD-9766-CFC65955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CB90-441C-4E91-8D22-40D9C8396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0263-6FBB-4D1A-A00F-616F3403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5186-C0D6-4ECD-8AD1-F1F40E69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E00B-FCF4-4D69-A97F-87541C85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5AAB-D0B6-4A46-936C-0567D9733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Plans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Recovery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: Create a recovery plan that describes your response to a tsunami in Jap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: You work for the International Red Cross.  You have been hired as a consultant for a mayor of a urban coastal area on the island of Hokkaido and a rural coastal area on the island of Hokka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ssignment is divided into 3 s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ction needs the follow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to the analysis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s/strategies as required on the analysis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2 pi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aste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2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aster Rel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3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apan - Consul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 -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Disast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lain what caused the tsun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na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lain the devastation created by the tsun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3 bullets or sentences describing the deva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2 pictures to support your Disaster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Disaster Rel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do tsunamis affect peop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would you address their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4 strategies or solutions to address the problems created by the tsuna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2 pictures to support your Disaster Relief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981080" y="2286000"/>
            <a:ext cx="4610160" cy="25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ON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240" y="151920"/>
            <a:ext cx="89154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3. Japan – Consul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rban May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3 strategies to address the threat of tsuna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trategy needs a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trategy needs an explanation of why it is necessary and how it 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ural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two affordable strategy to address the threat of tsuna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trategy needs a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trategy needs an explanation of why it is necessary and how it 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2:09:49Z</dcterms:created>
  <dc:creator>CFISD</dc:creator>
  <dc:description/>
  <dc:language>en-US</dc:language>
  <cp:lastModifiedBy>CFISD</cp:lastModifiedBy>
  <dcterms:modified xsi:type="dcterms:W3CDTF">2009-04-07T13:09:11Z</dcterms:modified>
  <cp:revision>3</cp:revision>
  <dc:subject/>
  <dc:title>Tsunami Plans – Part 3</dc:title>
</cp:coreProperties>
</file>