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70C-283C-47ED-B5E1-28EB350A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1BA-718C-4370-A294-83D2DEB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CB9-6133-4E85-AA1F-F17F902E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C5E-E92B-472D-A876-B7EA4D10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D96-E3CB-4AFF-B37F-AD63CFF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C37-ABE6-4606-9A56-A3EFCDAF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F0F-4AB8-4398-838D-AB3D4D6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3D2-8EC8-41BC-B708-4A662B6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7DA-7965-45FB-9CFB-03F59D1E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EBD-72C5-43C6-810C-70AF326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8EF-7EED-47BC-80DD-D9784E4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F59-0961-43AA-BD2D-3688BDF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B38-EF4E-44E4-A002-54B0E5A9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Plans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have been hired as a consultant for a mayor of a urban coastal area on the island of Hokkaido and a rural coastal area on the island of Hokka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-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2286000"/>
            <a:ext cx="46101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. Japan –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ban May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3 strategies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r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wo affordable strategy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09:49Z</dcterms:created>
  <dc:creator>CFISD</dc:creator>
  <dc:description/>
  <dc:language>en-US</dc:language>
  <cp:lastModifiedBy>CFISD</cp:lastModifiedBy>
  <dcterms:modified xsi:type="dcterms:W3CDTF">2009-04-07T13:09:11Z</dcterms:modified>
  <cp:revision>3</cp:revision>
  <dc:subject/>
  <dc:title>Tsunami Plans – Part 3</dc:title>
</cp:coreProperties>
</file>