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576-6E9F-4CC1-BA17-4AA31D92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085-91A1-441E-A0F6-EFB66A1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2F0-E892-4B15-9FE1-D9899C35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5B3-C38F-40A1-A8DB-42337DB5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A44-8394-4410-A4AF-CE433E72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6D7-6F69-4C52-A5E5-914558D9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69B-4BA4-4317-ACE7-B84B2EAA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36D-F055-4701-BEE7-565651D5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668-FEE1-419A-B45C-75820B65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493-88F1-4090-B28F-87C3395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B00-93F2-4980-9278-5992F550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6BA-2D49-400F-A4B3-8D24285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06E5-D1EE-4934-A2B7-7BC9A06CB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Plans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Ja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have been hired as a consultant for a mayor of a urban coastal area on the island of Hokkaido and a rural coastal area on the island of Hokka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apan -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81080" y="2286000"/>
            <a:ext cx="461016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. Japan –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ban May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3 strategies to address the threat of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n explanation of why it is necessary and how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ral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wo affordable strategy to address the threat of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n explanation of why it is necessary and how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2:09:49Z</dcterms:created>
  <dc:creator>CFISD</dc:creator>
  <dc:description/>
  <dc:language>en-US</dc:language>
  <cp:lastModifiedBy>CFISD</cp:lastModifiedBy>
  <dcterms:modified xsi:type="dcterms:W3CDTF">2009-04-07T13:09:11Z</dcterms:modified>
  <cp:revision>3</cp:revision>
  <dc:subject/>
  <dc:title>Tsunami Plans – Part 3</dc:title>
</cp:coreProperties>
</file>