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6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3463-20E0-4F2C-BA9C-AB9AC452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6C41-1C88-4788-ABA5-7F55EA7F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3C6B-5BAC-44AF-BE74-A131A0FB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0708-F4F0-489E-BE7F-EA9C4F20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D39E-E3EC-4E9E-AF2D-203D8DFF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233D-087E-40CC-AD68-C06549BF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A187-8F0F-42A3-A16A-BB06546D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E11C-5D45-4E94-AF9B-8871A791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ABED-6788-4131-83E5-207C7667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8C6-BA70-424A-874A-BC39855D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3B4B-5D56-48EE-A63C-A65334C0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8FF1-F7A8-4707-A512-E4B0ACCD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7B76-618B-4DD1-8A04-F2120E48F1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hyperlink" Target="http://en.wikipedia.org/wiki/Image:Dubai_night_skyline.jpg" TargetMode="External"/><Relationship Id="rId5" Type="http://schemas.openxmlformats.org/officeDocument/2006/relationships/image" Target="../media/image1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Dubai_night_skyline.jpg" TargetMode="Externa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"/>
              </a:rPr>
              <a:t>Modern vs. Traditional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1 – Traditional Life in Islamic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igious Law vs. Secular La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lamic Law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ular Law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01992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des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des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1295280"/>
            <a:ext cx="1752480" cy="1347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9880" y="3048120"/>
            <a:ext cx="1643040" cy="1752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38080" y="5410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reate a list explaining how a day at school be different living under Islamic religious law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raditional Southwest Asia – Econo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04920" y="1828800"/>
          <a:ext cx="403848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403848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d on primary activities like fishing and agricul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ock market, debt, and interest are seen as a form of gamb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648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tional market selling agricultural 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conomic Development or Traditional Valu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conomics is changing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uld culture change to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T’S TAKE A LOOK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THWEST ASI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2125440" cy="2186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315200" y="175248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  <a:ea typeface="Arial"/>
              </a:rPr>
              <a:t>↓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3000" y="4314960"/>
            <a:ext cx="25812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MODERN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73590" t="0" r="0" b="0"/>
          <a:stretch/>
        </p:blipFill>
        <p:spPr>
          <a:xfrm>
            <a:off x="5029200" y="4267080"/>
            <a:ext cx="1515960" cy="2362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707520" y="50292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  <a:ea typeface="Arial"/>
              </a:rPr>
              <a:t>↑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01000" y="2057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trus Far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7480" y="5562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opping M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dern Econo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0384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tiary Activ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 of banks, stock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pping m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men entering the workplace as teachers, doctors, lawyers,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410080" y="1066680"/>
            <a:ext cx="3065760" cy="358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638680" y="4800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bai Hotel, largest in the worl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19320" y="4267080"/>
          <a:ext cx="224136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267080"/>
                    <a:ext cx="22413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rn Econo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44956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ternary Activ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 of TV, media, and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lar (non-religious) universi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548640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bai’s Media City, home to news stations, online publishing, newspap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276360" cy="2143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1219320"/>
            <a:ext cx="4038480" cy="2971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 flipV="1">
            <a:off x="6476760" y="4495320"/>
            <a:ext cx="15228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886200" y="3885840"/>
            <a:ext cx="1295280" cy="1523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"/>
              </a:rPr>
              <a:t>Modernization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67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derniz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increased industrialization, increased urbanization, &amp; increased social 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ir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pping M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ine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ep W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1809720" cy="766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0" y="3124080"/>
            <a:ext cx="1652760" cy="2071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324480" y="2895480"/>
            <a:ext cx="1827360" cy="1366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Dubai's skyline at nigh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4673520"/>
            <a:ext cx="2666880" cy="1781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657600" y="5181480"/>
            <a:ext cx="18288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yer Model – Western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600200"/>
            <a:ext cx="7848360" cy="48006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1600200"/>
            <a:ext cx="0" cy="480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0384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17524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in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680" y="2209680"/>
            <a:ext cx="3276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sterniz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40528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41292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stern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ion – When a non-Western country adopts Western Ideas and traditions like culture, government, and econom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 – technology, diet, language, religion, entertainment, law, political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800280" cy="2186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rcRect l="0" t="10461" r="21735" b="0"/>
          <a:stretch/>
        </p:blipFill>
        <p:spPr>
          <a:xfrm>
            <a:off x="6705720" y="2133720"/>
            <a:ext cx="1981080" cy="1879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876920" y="4267080"/>
            <a:ext cx="12697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the West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Map of United States"/>
          <p:cNvPicPr/>
          <p:nvPr/>
        </p:nvPicPr>
        <p:blipFill>
          <a:blip r:embed="rId1"/>
          <a:stretch/>
        </p:blipFill>
        <p:spPr>
          <a:xfrm>
            <a:off x="457200" y="2438280"/>
            <a:ext cx="3352680" cy="2133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791320" y="2209680"/>
            <a:ext cx="2819160" cy="2519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809880" y="24382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289548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uthwest Asia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sk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Read p. 506-507 (starting at “Religious Duties Shape Lives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your notebook, list all the aspects of religious law that are still practiced today in Modern Isla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urn your page sideways &amp; create the chart below in your notebook for today’s no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5165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ic Society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ic Societ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ole of Wome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haracteristics of Religious Law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conom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Modern Econom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Tertiary Activ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Quaternary Activ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Modernizatio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definition) –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xamples of Moderniz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it Ticket - Para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a country like Saudi Arabia modernize without westernizing its socie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7848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conomic Development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r Traditional Valu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8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rn Islamic Nations in SW Asia have a major decision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Dubai's skyline at nigh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752480"/>
            <a:ext cx="2971800" cy="198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3048120" y="4648320"/>
          <a:ext cx="2895480" cy="20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648320"/>
                    <a:ext cx="289548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raditional Southwest A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igion of Islam regulates all aspects of socie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separation of religion from politics and economics (Religion is part of EVERYTH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vernment = a Theocracy based on the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0" y="5070600"/>
            <a:ext cx="1828800" cy="1406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752480" y="4800600"/>
            <a:ext cx="2971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'r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5410080"/>
            <a:ext cx="14475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raditional Role of Wome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st wear headscarf and be vei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fe devoted to husband and raising child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 rights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ouldn’t drive cars, work in a professional workplace, flirt/talk to men other than their husb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ran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you watch the first segment on Iran, complete the following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Create a list of elements of traditional culture in Iran that your observe during the cli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igious Law – 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ws based on the Qu’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igious guidelines for prayers, fasting, giving to the poor, and many other religious matt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guidelines for personal hygiene, diet, sexual conduct, and raising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nomic laws and procedures based on the Isl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ular La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cular La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- laws that have no religious connection or influ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792680" y="1600200"/>
            <a:ext cx="374976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04920" y="4952880"/>
            <a:ext cx="29048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US Constitu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352680" y="4191120"/>
            <a:ext cx="1219320" cy="838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rayer Model – Secular La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62120" y="1600200"/>
            <a:ext cx="7848360" cy="4800600"/>
            <a:chOff x="762120" y="1600200"/>
            <a:chExt cx="7848360" cy="4800600"/>
          </a:xfrm>
        </p:grpSpPr>
        <p:sp>
          <p:nvSpPr>
            <p:cNvPr id="70" name=""/>
            <p:cNvSpPr/>
            <p:nvPr/>
          </p:nvSpPr>
          <p:spPr>
            <a:xfrm>
              <a:off x="762120" y="1600200"/>
              <a:ext cx="7848360" cy="4800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48320" y="1600200"/>
              <a:ext cx="0" cy="480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2120" y="4038480"/>
              <a:ext cx="784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24280" y="175248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finition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1066680" y="2209680"/>
              <a:ext cx="327672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Secular Law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4052880"/>
              <a:ext cx="365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n-Example of a Countr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2120" y="412920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xample of a Countr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21:44:29Z</dcterms:created>
  <dc:creator>CFISD</dc:creator>
  <dc:description/>
  <dc:language>en-US</dc:language>
  <cp:lastModifiedBy>CFISD</cp:lastModifiedBy>
  <dcterms:modified xsi:type="dcterms:W3CDTF">2009-02-13T13:05:32Z</dcterms:modified>
  <cp:revision>42</cp:revision>
  <dc:subject/>
  <dc:title>Economic Development or Traditional Values?</dc:title>
</cp:coreProperties>
</file>