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4CA-6419-4D13-BF7C-98CF03E3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FD13-8C5D-4057-A601-66DDBF2E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2BF-77EC-465F-9B4A-F77113F4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685-B156-432A-9BC9-D5C0DE738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53F8-29F1-41AD-8827-296BACA9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7D4-BC88-45A3-B167-BCBB3273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EC6D-5246-40A1-B219-F107337D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832E-CAB2-4BC1-AC0A-5DF614DC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264-B6E0-41A6-B60E-FD921C42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D73-8D00-417F-81C4-25B7C5A0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C775-6304-46DE-9916-99F78254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36B6-5D57-4DF1-8974-7ED53364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0805-9D88-4B44-9CBA-C52E0F8084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hyperlink" Target="http://en.wikipedia.org/wiki/Image:Dubai_night_skyline.jpg" TargetMode="External"/><Relationship Id="rId5" Type="http://schemas.openxmlformats.org/officeDocument/2006/relationships/image" Target="../media/image1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Dubai_night_skyline.jpg" TargetMode="Externa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 vs. Traditional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y 1 – Traditional Life in Islamic 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vs. Secular Law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slamic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ular Law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019920" y="1600200"/>
            <a:ext cx="312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ides the la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1295280"/>
            <a:ext cx="1752480" cy="1347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9880" y="3048120"/>
            <a:ext cx="1643040" cy="1752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38080" y="5410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reate a list explaining how a day at school be different living under Islamic religious law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 –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04920" y="1828800"/>
          <a:ext cx="403848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403848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sed on primary activities like fishing and agricultu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ock market, debt, and interest are seen as a form of gam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46483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tional market selling agricultural 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conomics is changing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uld culture change to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’S TAKE A LOOK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UTHWEST ASI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2125440" cy="21862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7315200" y="175248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↓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43000" y="4314960"/>
            <a:ext cx="258120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MODERN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73590" t="0" r="0" b="0"/>
          <a:stretch/>
        </p:blipFill>
        <p:spPr>
          <a:xfrm>
            <a:off x="5029200" y="4267080"/>
            <a:ext cx="1515960" cy="23623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07520" y="5029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  <a:ea typeface="Arial"/>
              </a:rPr>
              <a:t>↑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01000" y="2057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 Far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4674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40384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rti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banks, stock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men entering the workplace as teachers, doctors, lawyers,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065760" cy="3581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638680" y="4800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 Hotel, largest in the worl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219320" y="4267080"/>
          <a:ext cx="2241360" cy="22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4267080"/>
                    <a:ext cx="224136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odern 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3581280"/>
            <a:ext cx="44956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ternary Activit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 of TV, media, and 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lar (non-religious) universit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548640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bai’s Media City, home to news stations, online publishing, newspap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3276360" cy="2143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572000" y="1219320"/>
            <a:ext cx="4038480" cy="29718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6476760" y="4495320"/>
            <a:ext cx="15228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886200" y="3885840"/>
            <a:ext cx="1295280" cy="1523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ffff"/>
                </a:solidFill>
                <a:latin typeface="Arial"/>
              </a:rPr>
              <a:t>Modernization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067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oderniz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– increased industrialization, increased urbanization, &amp; increased social chang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ir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pping Ma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line busi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ep We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809720" cy="766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572000" y="3124080"/>
            <a:ext cx="1652760" cy="207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1827360" cy="136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Dubai's skyline at night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172200" y="4673520"/>
            <a:ext cx="2666880" cy="17812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657600" y="5181480"/>
            <a:ext cx="182880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yer Model – Westerniz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1600200"/>
            <a:ext cx="7848360" cy="4800600"/>
          </a:xfrm>
          <a:prstGeom prst="rect">
            <a:avLst/>
          </a:prstGeom>
          <a:solidFill>
            <a:srgbClr val="60597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1600200"/>
            <a:ext cx="0" cy="480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40384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17524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2209680"/>
            <a:ext cx="32767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esternization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40528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41292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esterniz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 – When a non-Western country adopts Western Ideas and traditions like culture, government, and econom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 – technology, diet, language, religion, entertainment, law, political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800280" cy="2186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rcRect l="0" t="10461" r="21735" b="0"/>
          <a:stretch/>
        </p:blipFill>
        <p:spPr>
          <a:xfrm>
            <a:off x="6705720" y="2133720"/>
            <a:ext cx="1981080" cy="1879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876920" y="4267080"/>
            <a:ext cx="12697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What is the West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Map of United States"/>
          <p:cNvPicPr/>
          <p:nvPr/>
        </p:nvPicPr>
        <p:blipFill>
          <a:blip r:embed="rId1"/>
          <a:stretch/>
        </p:blipFill>
        <p:spPr>
          <a:xfrm>
            <a:off x="457200" y="2438280"/>
            <a:ext cx="3352680" cy="2133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791320" y="2209680"/>
            <a:ext cx="2819160" cy="2519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9880" y="24382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2895480"/>
            <a:ext cx="106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uthwest Asia Toda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k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Read p. 506-507 (starting at “Religious Duties Shape Lives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your notebook, list all the aspects of religious law that are still practiced today in Modern Isla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urn your page sideways &amp; create the chart below in your notebook for today’s not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1600200"/>
          <a:ext cx="8229600" cy="5165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ditional Islamic Society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rn Islamic Society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Role of Wome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haracteristics of Religious Law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conom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dern Economy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Tertiary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 Quaternary Activiti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Modernization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(definition) –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Examples of Moderniz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it Ticket - Paragrap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an a country like Saudi Arabia modernize without westernizing its societ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78483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conomic Development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r Traditional Val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rn Islamic Nations in SW Asia have a major decision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Dubai's skyline at nigh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1752480"/>
            <a:ext cx="2971800" cy="198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3048120" y="4648320"/>
          <a:ext cx="2895480" cy="20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4648320"/>
                    <a:ext cx="289548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raditional Southwest As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gion of Islam regulates all aspects of socie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 separation of religion from politics and economics (Religion is part of EVERYTH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vernment = a Theocracy based on th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0" y="5070600"/>
            <a:ext cx="1828800" cy="1406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752480" y="4800600"/>
            <a:ext cx="29718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Qu'ra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5410080"/>
            <a:ext cx="14475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raditional Role of Wome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st wear headscarf and be veil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fe devoted to husband and raising child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 rights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ouldn’t drive cars, work in a professional workplace, flirt/talk to men other than their husban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ran Analy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 you watch the first segment on Iran, complete the following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Create a list of elements of traditional culture in Iran that your observe during the cl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igious Law – Characterist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ws based on the Qu’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igious guidelines for prayers, fasting, giving to the poor, and many other religious mat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ial guidelines for personal hygiene, diet, sexual conduct, and raising childr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laws and procedures based on the Isla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ular 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ecular La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- laws that have no religious connection or influ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792680" y="1600200"/>
            <a:ext cx="3749760" cy="4525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304920" y="4952880"/>
            <a:ext cx="29048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US Constitu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352680" y="4191120"/>
            <a:ext cx="1219320" cy="838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rayer Model – Secular L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62120" y="1600200"/>
            <a:ext cx="7848360" cy="4800600"/>
            <a:chOff x="762120" y="1600200"/>
            <a:chExt cx="7848360" cy="4800600"/>
          </a:xfrm>
        </p:grpSpPr>
        <p:sp>
          <p:nvSpPr>
            <p:cNvPr id="70" name=""/>
            <p:cNvSpPr/>
            <p:nvPr/>
          </p:nvSpPr>
          <p:spPr>
            <a:xfrm>
              <a:off x="762120" y="1600200"/>
              <a:ext cx="7848360" cy="4800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48320" y="1600200"/>
              <a:ext cx="0" cy="4800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4038480"/>
              <a:ext cx="7848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24280" y="175248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finition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066680" y="2209680"/>
              <a:ext cx="327672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Secular Law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24280" y="4052880"/>
              <a:ext cx="365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on-Example of a Countr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4129200"/>
              <a:ext cx="289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xample of a Country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21:44:29Z</dcterms:created>
  <dc:creator>CFISD</dc:creator>
  <dc:description/>
  <dc:language>en-US</dc:language>
  <cp:lastModifiedBy>CFISD</cp:lastModifiedBy>
  <dcterms:modified xsi:type="dcterms:W3CDTF">2009-02-13T13:05:32Z</dcterms:modified>
  <cp:revision>42</cp:revision>
  <dc:subject/>
  <dc:title>Economic Development or Traditional Values?</dc:title>
</cp:coreProperties>
</file>